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DB0-9882-47C5-AF84-98E72D2D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B6D-D928-4CDB-8BD7-786ECA28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0E1-8A50-47D5-B548-6609144F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6B3-E896-43E0-8E8A-34F340FC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6C6B-9668-4A1A-BC4C-5969E5C6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DE39-E3F3-4FDC-9610-E70B3746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6F5C-F38B-4262-8D78-5C058203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81E9-2320-4B11-BE99-C40829B3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C333-E38D-46E3-B214-90BD0B4C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28C8-7B1F-4265-A015-D451DF2D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3E85-56BD-44B9-831C-DB58084E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7C1-7C08-44BC-8A1D-CB9123D5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EA2E-41F5-4E67-B9D9-95288D1B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2D70-A9FD-46D3-BB59-F07245A6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4B9C-D962-47E9-90C8-FBACBD27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31F2-B7FD-458C-840E-057137AE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B3A5-8950-4D7A-8C5B-B953E817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CDD9-A93A-4E69-9F1A-35840422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2FB7-0905-46B1-B08E-1765A452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A1D3-D829-44C1-9CF4-CC6521AD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3E15-4D0B-4ABA-AE85-F3060050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5171-D806-43E8-81E6-E869203D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BEC-0202-4CBD-8F38-2DDDA16C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90395-2C3B-487C-8273-54754EDC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8125C-2B21-479B-9145-2A9BD8AB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9C87-A16A-4010-B608-E70630AE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05962-1A42-4B69-B9CB-9C2854C9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FC2B-1FCE-42F1-994B-7E08A741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1DB4-555D-4C2A-981E-682A001B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1CF2-21EC-41E0-AF8D-D1E25D4A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03529-96A1-4EBE-B4DD-416DECF5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C902-8FCB-464D-A03A-14780307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E0208-CB43-4C1C-BD0D-850B6224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8DE-DAAF-471F-AAE3-155ACF05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06F37-675F-49A4-A9B6-F30DA68D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6AAEA-5195-4486-960A-F41B0F62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4AFC9-C14F-427A-9CF5-63740D08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0362C-C4BE-4BF6-833D-2D5783C6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67C16-B85B-43AD-A4F9-CF842549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B8819-0B3A-4FD3-AD73-B6014C7C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C68C-6698-4B4F-8EE1-20FE1F0D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C3D5C-4ED8-4DA5-95A8-2AC261F3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1A8F5-B3F0-4B06-A413-88B3A83E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C2319-B730-4179-8FB1-60C216A0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037-0294-4D4D-9B74-6A7D508C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4ACFC-E370-4F84-B946-61EAF99B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B2220-3AFF-433C-8A18-873BDFC6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1B154-93FD-4282-9BB3-4C91951E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DC80F-B7BC-4317-9BB6-46D17EC6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A5C6E-3CE0-45D0-8F49-70A29DFB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95D9B-B4B0-4BB2-B2E9-16D3DF98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B5027-6CD0-41CE-BBA3-5B49038B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C4464-3DEC-4DA4-8B82-542443A6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2BBDC-6D89-4211-8906-FF315439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F26A7-809A-441E-9AF9-158BEE1C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AB3-7B0A-42EC-A56D-B2FD82F9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2EBE-7D83-4BDF-A76C-4D79ABC2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DD09F-F733-4C2C-86F8-7116F920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0082F-743A-4F7A-AF04-3EA7AAA8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4384D-FEC8-481D-A381-0B81B49C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832B-359D-4AA5-8673-1F49751E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67DC5-6750-4238-95DE-D73193E0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98EE4-4CD6-4B61-AC32-27A88E56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D30DD-A7D5-4B42-811F-D70C9087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95FB7-EE28-4C46-8122-0D38ED03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1688F-A63C-4E4F-B26C-3F36E1BA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945-C4A2-4FD2-AE51-B97B7F63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C13EF-F4EB-4DC3-8FFD-6DDBA5D5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3E8A8-895B-47AA-A8D5-2032F9B7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7D383-EEAD-474E-8105-C633D2E3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867B0-4596-4B0D-A700-C53F32F3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E42F2-7C69-4FF9-AF90-6CF118BB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FB99B-60E6-484C-9F28-CA68C6B5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49EFC-56B4-4DF0-86B4-882C78EE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2DF3E-7013-4234-BCB2-4B300F79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E0A48-C720-4218-8B40-858C7668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A3C23-514F-43B8-BFEE-7F22EEA7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5E0-08C1-4ACB-BBFA-7105B788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0A22D-EDD0-4C45-83BE-3CA5C1DF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C3BD0-DBCF-4A42-81D7-F2FA320D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E63B4-AC81-4C88-B15F-23202039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70AED-E000-439D-8513-C30415AB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80A71-2061-49D7-8134-336D16A6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DB5-DBF0-47D8-B697-37FE843D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D3EF-899A-45AF-954B-6EF0BAD62314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9A47-10B0-4CF0-94B7-C5C27D69709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7667-757D-4ACF-A4E3-3D6C428C7026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7EB5-BDD8-4431-A366-F23556F1EF6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1C31-8581-40AD-A617-BCBD3AEB6242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B642-051C-4D78-95C8-C5586EC1950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1CF2-F455-4653-A1CE-79FB20A7DB44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591D-BA1E-4A03-856F-CEA82A0F6F7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F7FA-B553-4805-92FB-328427BAA154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0627-E5A5-4EE3-976B-90AA0B79710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3E3C-8C7C-4A8A-AE9F-2F5EE29C7AFD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2EE3-4F99-4191-9F0D-C163230CC54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95FB-5A97-438F-A43E-647460A36D48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5F24-F2C7-45DE-A2C5-0985E8DDB70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52;&#1054;&#1044;&#1045;&#1051;&#1068;.docx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162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1600"/>
            </a:b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пыт развития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рриториальной службы примирения в Угличском муниципальном районе Ярославской област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809880" y="426672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ронина Татьяна Михайловна</a:t>
            </a: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, директор ГУ ЯО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агрова Наталия Владимировна</a:t>
            </a: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, заместитель директора ГУ ЯО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981080" y="228600"/>
            <a:ext cx="61722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557A-3B03-40DD-B0C0-52F4DAEFAB5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У ЯО «Угличский детский дом»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18960" y="21337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: Воронина Татьяна Михайловн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: Багрова Наталия Владимировн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, факс: 8(48532)2-02-3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om-ugl.edu.yar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5544-1C14-4C64-9F6A-946250FF68C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4920" y="1294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истории: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015 год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828440"/>
            <a:ext cx="7499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 ЯО «Угличский детский дом» – региональная инновационная площадка проект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служб медиации в образовательных организациях Ярославской области»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департамента образования Ярославской области № 217/01-03 от 12.03.2015г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67ED-3F3C-4EE3-A1C6-96CDBFC69C1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рриториальная служба примирения Угличского МР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23880" y="2514600"/>
            <a:ext cx="718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ициирование создания и содействие в деятельности Служб примирения в Угличском муниципальном районе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2438280" y="228600"/>
            <a:ext cx="54864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F3F7-F814-4B89-87CF-40FCF7387C9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дель Территориальной службы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Содержимое 5" descr=""/>
          <p:cNvPicPr/>
          <p:nvPr/>
        </p:nvPicPr>
        <p:blipFill>
          <a:blip r:embed="rId1"/>
          <a:srcRect l="37663" t="43815" r="36530" b="22674"/>
          <a:stretch/>
        </p:blipFill>
        <p:spPr>
          <a:xfrm>
            <a:off x="2743200" y="2590920"/>
            <a:ext cx="4876920" cy="28954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6"/>
          <p:cNvSpPr/>
          <p:nvPr/>
        </p:nvSpPr>
        <p:spPr>
          <a:xfrm>
            <a:off x="2743200" y="2590920"/>
            <a:ext cx="4876920" cy="2895480"/>
          </a:xfrm>
          <a:prstGeom prst="rect">
            <a:avLst/>
          </a:prstGeom>
          <a:noFill/>
          <a:ln w="2844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Стрелка вправо 7"/>
          <p:cNvSpPr/>
          <p:nvPr/>
        </p:nvSpPr>
        <p:spPr>
          <a:xfrm>
            <a:off x="7010280" y="6095880"/>
            <a:ext cx="1828800" cy="533520"/>
          </a:xfrm>
          <a:prstGeom prst="rightArrow">
            <a:avLst>
              <a:gd name="adj1" fmla="val 50000"/>
              <a:gd name="adj2" fmla="val 49989"/>
            </a:avLst>
          </a:prstGeom>
          <a:noFill/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Модел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Номер слайда 8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1369-012D-4773-8EAF-D1769776D18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ханизм реализации модели Территориальной службы примирения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66320" y="2361960"/>
            <a:ext cx="786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ьная группа при ТКДНиЗП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становительная работа со случаями, информация о которых поступает в комиссию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тнерстве с представителями субъектов профилактики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урегулировании конфликтов в образовательных учреждениях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146B-E694-4D70-95CB-CBE8F215A68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45920" y="1371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лужба примирения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У ЯО «Угличский детский дом»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371600" y="3200040"/>
            <a:ext cx="7562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гулирование конфликтных ситуаций, возникающих между субъектами воспитательного процесса в Угличском детском дом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6D4B-8375-4AFE-9D7A-82FFED350DC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лужбы примирения в ОО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23520" y="1828440"/>
            <a:ext cx="7410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регулирование конфликтных ситуаций, возникающих в образовательных отношениях учреждений Угличского муниципального района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деятельности Служб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восстановительных программ;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о школьным сообществом;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оддерживающей среды для участников службы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0448-BA45-419C-A4C7-F64D963003C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лонтерские группы медиаторов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295280" y="2514600"/>
            <a:ext cx="7639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регулирование конфликтных ситуаций между субъектами образовательных и воспитательных отношений на территории Угличского муниципального рай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волонтерских групп входят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ы ГОУ СПО ЯО Угличского индустриально-педагогического колледж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из числа заинтересованной общественност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FF16-558D-4090-8032-3751C9F98DE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тоги деятельности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рриториальной службы примирения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143000" y="2370240"/>
          <a:ext cx="7772400" cy="44877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уктурное подразделение Служ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cc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cca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ая группа при ТКДНиЗ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восстановительных программ, примирение сторон во всех случа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а примирения ГУ ЯО «Угличский детский д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восстановительные программы, примирение сторон во всех случа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ая служ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организационных совещан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обучающих семинар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пыта развития Территориальной службы примирения на разных уровня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информации на сайте учр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4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2647-C3BC-44BB-83A7-6301BCEC4EB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1T11:29:28Z</dcterms:created>
  <dc:creator>User</dc:creator>
  <dc:description/>
  <dc:language>en-US</dc:language>
  <cp:lastModifiedBy>Ольга Владимировна Чиркун</cp:lastModifiedBy>
  <dcterms:modified xsi:type="dcterms:W3CDTF">2016-11-09T10:26:26Z</dcterms:modified>
  <cp:revision>93</cp:revision>
  <dc:subject/>
  <dc:title>Опыт развития  Территориальной службы примирения в Угличском муниципальном районе Ярославской области</dc:title>
</cp:coreProperties>
</file>