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98D5-88EA-434E-8B28-04D9ECD6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FD49-E455-467E-B536-B4AE3DEF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0AD2-8699-494B-8E4B-F454A977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D432-7E59-4303-9D21-98E998E1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69F9-627C-4D4D-90C2-747B41E2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3DD4-4B00-44F5-94A6-7A84F78B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86B4-CC48-4DDF-A6FF-7A00D3F2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9571-E040-4C65-85EC-9011EA5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4543-10C8-4255-8993-0A555B13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ED8C-6035-48BD-821B-AE568FE4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BE35-4531-4B5F-948B-4020D71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D35E-B048-4195-BC8B-2344287E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7DEA-7F25-4066-9BC5-CDA64BB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A3AD-AE5A-4B93-BA12-94990FF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292D-7D72-42CC-A5EB-6EA6BDDC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1CEF-6437-4785-A684-EB660094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8880-D149-4EA2-AAA0-5C7E8102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1CD9-CED4-4BE4-96F6-19B3802B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21C4-6041-403F-B0E5-2B7BC4D2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1847-8ACB-489C-ACD6-44B91256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C95A-DBCE-4645-85CA-951C900E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B6FB-D007-402F-8B1D-8A4AF00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D1DD-8210-4657-B2C4-43C3C55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21EF-2D8B-4BB3-B9D4-5683A390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3968-A346-49E0-9044-6DB12645F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331D-7975-465E-9550-11989B80B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2900"/>
                </a:solidFill>
                <a:latin typeface="Arial"/>
              </a:rPr>
              <a:t>Воспитание семейных ц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20.01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зарова Инна Григорьевна, заведующий кафедрой общей педагогики и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6" descr="http://cs620728.vk.me/v620728597/2694/UkFEvQNSolc.jpg"/>
          <p:cNvPicPr/>
          <p:nvPr/>
        </p:nvPicPr>
        <p:blipFill>
          <a:blip r:embed="rId1"/>
          <a:stretch/>
        </p:blipFill>
        <p:spPr>
          <a:xfrm>
            <a:off x="2843280" y="333360"/>
            <a:ext cx="3047760" cy="20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чи курсов для родит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а и потребности, повышение мотивации учиться роди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ие развитию ключевых компетенций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аганда обобщенно-позитивных образов семьи, отца, матери, родного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ие развитию навыков родительского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чувства Родины через изучение истории своего рода, родного края, сво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801800" y="1197000"/>
          <a:ext cx="5540400" cy="5675400"/>
        </p:xfrm>
        <a:graphic>
          <a:graphicData uri="http://schemas.openxmlformats.org/drawingml/2006/table">
            <a:tbl>
              <a:tblPr/>
              <a:tblGrid>
                <a:gridCol w="5540400"/>
              </a:tblGrid>
              <a:tr h="6001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й псих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го укла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го пра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2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го воспит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семьи, история ро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54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здорового образа жизни и содержательного досуг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формы взаимодействия  семьи и образовательной организ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ейный бюдж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Успехов! Приглашаем к сотрудничеств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2"/>
          <a:stretch/>
        </p:blipFill>
        <p:spPr>
          <a:xfrm>
            <a:off x="468360" y="1481040"/>
            <a:ext cx="8207280" cy="46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нализ социальной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5d4e"/>
                </a:solidFill>
                <a:latin typeface="Arial"/>
              </a:rPr>
              <a:t>Изменился вектор семейных ценн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чезло почитание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ение к истории своего рода и сво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ошел разрыв связи между поко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ья, её уклад и традиции,  для большинства молодых людей перестали быть ц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телей сформировалась потребительская позиция по отношению к государству, а по отношению к своему ребенку – безответ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ФГОС и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общественный дого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ое закрепление роли родителей в жизни 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и принятие локальных актов ОО, обеспечивающих государственно – общественный характер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в совместную творческую деятельность, направленную на создание нравственного уклада школь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родителей в решении задач, поставленных Стандар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менение родительской ро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ици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ш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ы собственным де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торы деятельност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ц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торы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торы социальных прак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чи О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ое закрепление роли родителей(договор, соглашение, локальные а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 сопровождение и просвещение(форум на сайте О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социального заказа родителей к содержанию и реализации части, формируемой участниками ОП(анкетирование, диагностика, опрос, переговорная площадка, фокус-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влечение родителей(законных представителей) в процессе реализации образовательного процесса в 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Учить быть родите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количества раз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ультурного уровня взрослого и детского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словий для самостоятельного решения семьей своих социальных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государственно-обществен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ая оценка качества образователь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вернуть» родителей лицом к  ОО, совместно искать решения возникающи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едпосылки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5d4e"/>
                </a:solidFill>
                <a:latin typeface="Arial"/>
              </a:rPr>
              <a:t>Педагогическое просвещение родителей позвол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отно выстроить детско-родительски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адить психологический климат в родительском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уться к таким традиционным семейным ценностям, как любовь, верность, забота, честь, достоинство, ответственность, почитание старших, знание и уважение своей  родосл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условия для саморазвития и совершенствования в выполнении главнейшей социальной функции – функции семьянина и р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Формирование позитивной родительской поз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одительская пози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отношений родителя к себе, к своему ребенку, к семье, к своему роду,  к своей малой и большой Родине, к учителю, к образовательной организации, к образованию в ц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урсы для родителей ориентируют 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41300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позитивных детско-родитель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 споров и конфликтных ситуаций в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у семейного неблагополучия и социального сиро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правовой культуры в области семей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 повышение экономической грамотности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тветственной и позитивной родительской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аганду семейных традиций и ценностей российско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9:01:42Z</dcterms:created>
  <dc:creator>Hope</dc:creator>
  <dc:description/>
  <dc:language>en-US</dc:language>
  <cp:lastModifiedBy>Инна Назарова</cp:lastModifiedBy>
  <dcterms:modified xsi:type="dcterms:W3CDTF">2016-01-19T18:40:05Z</dcterms:modified>
  <cp:revision>93</cp:revision>
  <dc:subject/>
  <dc:title>   Управление образования Администрации РМР   МОУ Центр психолого-медико-социального сопровождения детей</dc:title>
</cp:coreProperties>
</file>