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407-2F8F-4D3D-9087-146CAC94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044-5CDB-421D-80A1-BAE75B48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3AA-D146-4AC4-ADD8-A7D0081D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6E3-EE3B-4C40-8500-7BDBC788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CFF-4114-4767-A6B0-32F53AC8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4C2-4995-42AC-808F-1F9243BC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FD5E-9F5C-4B5F-8F18-5DD44A67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FD3-BB32-4EA6-B309-7B9CB07E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B06-A29D-4DA2-BFF5-6EBCF1C9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272-36C8-486F-BE1A-53A73648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CC3-7585-4F5F-87CF-0E214FBC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08C-09A2-4509-83AB-CA186DD8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B99B-1FB9-485B-83B7-44D43E41A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М.В. Ломоносов – великий учёный и челове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84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чальная шко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X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ДАЧИ НА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метны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здают словесный портрет М.В. Ломоносова как человека и учё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зывают этапы жизни М.В. Ломоно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зывают открытия, сделанные учёным в разных областях н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етапредметны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ходят необходимую информацию в различных информационных источника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контролируют собственные действия в соответствии с алгоритмом построения текс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ценивают себя и своих одноклассников по заданным критерия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ысказывают собственные суждения и обосновывают 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работают в группе, выполняя порученную роль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ичностны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-наличие потребности к саморазвитию  на примере жизни великого учёного М.В. Ломоно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тельн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навыка составления словесного портрета посредством поиска информации в различных источ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285920" y="1428840"/>
            <a:ext cx="614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авная идея реализации содерж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чем основан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ана на интересе детей, вызванном просмотром филь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со-бытий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Составляем словесный портрет  М.В. Ломонос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8000" y="836640"/>
          <a:ext cx="8856720" cy="7670880"/>
        </p:xfrm>
        <a:graphic>
          <a:graphicData uri="http://schemas.openxmlformats.org/drawingml/2006/table">
            <a:tbl>
              <a:tblPr/>
              <a:tblGrid>
                <a:gridCol w="1727280"/>
                <a:gridCol w="5113080"/>
                <a:gridCol w="2016360"/>
              </a:tblGrid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организации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идак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 фрагмента документального фильма о М.В. Ломонос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о герое  филь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кументальный фильм «М.В. Ломоносов. Путь в наук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ормирование образа желаемого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новка уточняющего вопроса «Как можно представить полученные знания, что может быть продуктом нашей деятельности в конце урока?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суждение в полилоге  образа желаемого результ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о том, где могут пригодиться полученные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туативная  бесе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вместное  составление плана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полнение дейст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 в группах с разными источниками информации. Составляют рассказ по предложенному пла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ебник, энциклопедии, научно-познавательная 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нализ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ооценка и взаимооценка выполненной работы группы по совместно выработанным критерия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со-бытийност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8568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 методы организации учебной деятельности соответствуют требованиям деятельностного подх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методы соответствуют  со-бытийному подход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грамотность проекта со-бытия: проект разработан в соответствии с основными этапами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 проекта со-бытия: при реализации  со-бытия был создан продукт совместной деятельности «Словесный портрет М.В. Ломонос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выводы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а чётко организована деятельность   детей по созданию совместного продукт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щиеся сумели сформулировать цель собственной  деятельности, наметили пути её достижени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мели распределить роли при работе в группах, оценить результаты  деятельности  группы и презентовать полученный продук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нее проработан оказался этап планирования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6:26:22Z</dcterms:created>
  <dc:creator>Ольга Вячеславовна Тихомирова</dc:creator>
  <dc:description/>
  <dc:language>en-US</dc:language>
  <cp:lastModifiedBy>Windows User</cp:lastModifiedBy>
  <dcterms:modified xsi:type="dcterms:W3CDTF">2016-03-28T17:01:38Z</dcterms:modified>
  <cp:revision>26</cp:revision>
  <dc:subject/>
  <dc:title>«Играем сказку»</dc:title>
</cp:coreProperties>
</file>