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83C-AE85-4FA9-B2A1-CE40357B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AA7-1F8F-4E57-A119-DED38E34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08D-DFF9-46AA-84D0-AB1FAD1A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C73-B9FC-46A9-B38C-1F35151F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DDA-73D2-45DE-B550-67AEAB3B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43C-7F40-4A02-ABF1-34C23820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EB0-CE43-4F5A-B730-C975B7FD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F2B-1791-4D6E-B490-FEBAFF2B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FBA-18D5-40D9-9921-08A1FDD4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15B-185F-4475-823C-BCD68BD5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759-D592-45D1-ACCE-50CE407F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68C-C101-4C1A-A0E6-96D712C8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50A8-1DAD-45E5-BD5C-53EF1AEF5D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3;&#1080;&#1095;&#1085;&#1086;&#1089;&#1090;&#1085;&#1099;&#1077;%20&#1088;&#1077;&#1079;&#1091;&#1083;&#1100;&#1090;&#1072;&#1090;&#1099;.doc" TargetMode="External"/><Relationship Id="rId2" Type="http://schemas.openxmlformats.org/officeDocument/2006/relationships/hyperlink" Target="file:///&#1084;&#1077;&#1090;&#1072;&#1087;&#1088;&#1077;&#1076;&#1084;&#1077;&#1090;&#1085;&#1099;&#1077;%20&#1088;&#1077;&#1079;&#1091;&#1083;&#1100;&#1090;&#1072;&#1090;&#1099;.doc" TargetMode="External"/><Relationship Id="rId3" Type="http://schemas.openxmlformats.org/officeDocument/2006/relationships/hyperlink" Target="file:///&#1087;&#1088;&#1077;&#1076;&#1084;&#1077;&#1090;&#1085;&#1099;&#1077;%20&#1088;&#1077;&#1079;&#1091;&#1083;&#1100;&#1090;&#1072;&#1090;&#1099;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ставление рабочих материалов по итогам КПК детей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риалы подготовили: Аксенова Дарья Валерьевна, заместитель директора по ВР, педагог — психолог, МОУ Лучинская СШ ЯМ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ухалова Людмила Владимировна, учитель русского языка и литературы, МОУ Лучинская СШ ЯМ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ылова Светлана Юрьев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итель начальных классов, МОУ Большесельская СО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нько Марина Александровна, учитель  началь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ов, заместитель директора по УВР, средняя школа № 44 г. Ярослав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6048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765000"/>
          <a:ext cx="8424720" cy="5646960"/>
        </p:xfrm>
        <a:graphic>
          <a:graphicData uri="http://schemas.openxmlformats.org/drawingml/2006/table">
            <a:tbl>
              <a:tblPr/>
              <a:tblGrid>
                <a:gridCol w="1368360"/>
                <a:gridCol w="3240000"/>
                <a:gridCol w="3816360"/>
              </a:tblGrid>
              <a:tr h="64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и приемы для  детей с нор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и приемы для  детей с З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мотр видеофиль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Зачем нужно знать ПД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щение к личному опыт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 желаемого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Как мы можем помочь малышам научиться переходить проезжую часть». Согласование образца, выбор наглядного материала для составления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Как мы можем помочь малышам научиться переходить проезжую часть». Показ конкретного образца, выдача наглядного материала для изготовления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личного опыта, создание ситуации успеха через принятие необходимости создания памятки для дошкольник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личного опыта, создание ситуации успеха через оказание учителем помощи  в  создании памятки для дошкольни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яющий вопрос учителя, приводящий к четкой совместной формулировке. Фиксация це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ация цели ребенком с помощью прикрепления карточ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ение совместного плана, фиксац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ация ребенком плана на доске с помощью прикрепления карточ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 группах по выбору дорожных знаков, необходимых для пешеходов. Фронтальная работа с моделью светофора. Оформление и представление памят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 конкретной группе с выданным материалом (знаками). Участие в оформлении и представлении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беседе повторяем цель и определяем степень достигнутости. Подчеркивание личного вклада каждого в образование. Самоанали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черкивание личной значимости ребенка на конкретном уроке. Самооценка по критериям, данным учител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403280" y="249228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Желаем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полагаемые результаты обучения детей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84360" y="2133720"/>
            <a:ext cx="5688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Личнос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Мета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матическое планирование рабочей программы по предмету (окружающий мир, начальная школа 21 века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557360"/>
          <a:ext cx="8280360" cy="510228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  <a:gridCol w="1656000"/>
                <a:gridCol w="1655640"/>
              </a:tblGrid>
              <a:tr h="422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(час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обучения в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на обучение со специ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. Этот удивительный ми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- школь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с дефектологом или логопе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при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2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, тьютор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люд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, тью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а страна – Россия. Родной кра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, психолог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е здоровь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, психоло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и други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 поурочного  план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573120"/>
          <a:ext cx="8435880" cy="6026040"/>
        </p:xfrm>
        <a:graphic>
          <a:graphicData uri="http://schemas.openxmlformats.org/drawingml/2006/table">
            <a:tbl>
              <a:tblPr/>
              <a:tblGrid>
                <a:gridCol w="1687680"/>
                <a:gridCol w="1685880"/>
                <a:gridCol w="1687320"/>
                <a:gridCol w="1687680"/>
                <a:gridCol w="1687320"/>
              </a:tblGrid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тельны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уемые методы и при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зывает времена года, осенние месяц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пределяет последовательность времен года, различает 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нает правила поведения в ученическом коллектив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меет представление об учебном сообщ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ставляет коллаж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ланирует учебную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ый творческий проект – коллаж «Золотая осен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 привлечением личного опыта «Как мы можем украсить школу к осеннему бал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ик, дневник наблюдений, журналы, книги, стихи об ос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549360"/>
          <a:ext cx="8229600" cy="597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7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ла поведения на доро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равильно переходит проезжую час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ет значение сигналов светофо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ыполняет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ет одно из правил безопасной жиз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меет представление о личной ответственности за свои поступ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оставляет памят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меет представление о знаково–символических средствах представлениях информации (дорожные зна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мятка в картинках по ПДД для воспитанников детского са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седа «Зачем нужно соблюдать правила поведения на дороге», «Кто может не знать правил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глядный материал (картинки для памят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нстрация видеофраг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хождение интерактивного те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ики, ИКТ, индивидуальный раздаточный материал (светофор, знаки, зебра и т.д.), учебный фильм, игра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404640"/>
          <a:ext cx="8229600" cy="5688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68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и люд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ют названия профессий работников школ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различают особенности деятельности людей разных професс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онимают важность каждого человека в общ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оставляет схем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равнивает и обобщает  знания о професс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хема «Люди каких профессий работают в школ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курсия по шко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нстрация видеофраг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лечение жизненного опы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ческая иг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КТ, «скелет» схемы, наглядность (картин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инклюзивного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611280" y="1700280"/>
            <a:ext cx="7705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а урока из рабочей програм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поведения на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МК: Начальная школа 21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-ый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полагаемые результ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557360"/>
          <a:ext cx="8353440" cy="492264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77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 с нормой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44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ос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 правило безопасной жизни – дорожные знаки, необходимые для безопасного пребывания на улице. Имеет представление об ответственном поведении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нает среди предложенных дорожные знаки, необходимые для безопасного пребывания на улице. Имеет представление об ответственном поведении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предме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яет памятку. Имеет представление о знаково – символических средствах представления информации – знает дорожные знаки, регулирующие поведение пешеходов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азывает помощь в составлении памятки (выстригает, раскрашивает, приклеивает). Знакомится со знаково – символическими средствами представления информации –дорожными зна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 дорожные знаки, необходимые для безопасного пребывания на улице, переходит проезжую часть в соответствии с правилам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воение правил поведения пешехода на дороге посредством создания памятки – рисунка «Правила поведения на дорог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7:23:05Z</dcterms:created>
  <dc:creator>student</dc:creator>
  <dc:description/>
  <dc:language>en-US</dc:language>
  <cp:lastModifiedBy>О.Г. Воронина</cp:lastModifiedBy>
  <dcterms:modified xsi:type="dcterms:W3CDTF">2016-04-25T10:09:23Z</dcterms:modified>
  <cp:revision>12</cp:revision>
  <dc:subject/>
  <dc:title>Представление рабочих материалов по итогам КПК детей с ОВЗ</dc:title>
</cp:coreProperties>
</file>