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4E50-0178-4C96-B50F-CAC241B15E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BD10-96ED-43F2-818B-660F187EEC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B4BF-949B-4208-9F3D-D91A1689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B18-34F7-4180-A4DF-FA5BB98A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2C6-F7B0-40E6-88B5-59A9B7A7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7C6-5F5A-469A-8B18-F745EE73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3A5-5B25-424F-88ED-F2A13DC2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479-A79F-495E-9994-0B82B50D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643-2CC8-4514-9BFD-6A904771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65AF-7734-4077-A724-A7C65F20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97A-3445-4B48-843C-F8B144FD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85DD-4412-42CD-9465-322081BD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D304-59F6-46D2-901B-29D89430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853-8974-4C7B-8F4D-696D0DB5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F434-185C-43A3-AA5E-9231166912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рганизация самостоятельной работы студен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Докладчик: методист ЯРТК Балабанова И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роцесс организации самостоятельной работы студентов включает в себя следующие этапы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пределение целей, составление программы, подготовка методического обеспечения, оборудования)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еализация программы, использование приемов поиска информации, усвоения, переработки, применения, передачи знаний, фиксирование результатов, самоорганизация процесса работы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ценка значимости и анализ результатов, их систематизация, оценка эффективности программы самостоятельной работы и приемов работы, выводы о направлениях оптимизации труда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иды заданий для внеаудиторной самостоятельной работы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овладения знан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закрепления и систематизации знани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формирования умени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трелка вниз 3"/>
          <p:cNvSpPr/>
          <p:nvPr/>
        </p:nvSpPr>
        <p:spPr>
          <a:xfrm rot="5103000">
            <a:off x="7740000" y="4939920"/>
            <a:ext cx="576360" cy="531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нформационный ресур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овые положения об учреждениях СПО и НП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ндарты по профессиям  и специальност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омендации по формированию учебного плана и разработке рабочих программ учебных дисциплин и моду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утренние локальные ак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овые программы учебных дисциплин и профессиональных моду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бучение коллект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инструктивно-методических совещ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ение коллекти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видуальные консультации педаг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я мероприятий по обмену опы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рамма учебной дисципл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лендарно-тематический 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Реализация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методических пособ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комендации по курсовому проектирова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комендации по написанию рефера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комендации по организации проект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учебных пособ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чие тетра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ты заданий для внеаудиторной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дактические материа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дактические материа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тетрадь  по товароведению непродовольственных това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тетрадь по учету и отчет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тетрадь  по технологии розничной торгов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ические пособия по организации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ормативная б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128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ТВЕРЖДЕН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становлением Правительств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4360" y="1341360"/>
          <a:ext cx="7777080" cy="4680000"/>
        </p:xfrm>
        <a:graphic>
          <a:graphicData uri="http://schemas.openxmlformats.org/drawingml/2006/table">
            <a:tbl>
              <a:tblPr/>
              <a:tblGrid>
                <a:gridCol w="3889080"/>
                <a:gridCol w="3888000"/>
              </a:tblGrid>
              <a:tr h="1825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авительство Российской Фед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тановлени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от 18 июля 2008 г. N 543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АВИТЕЛЬСТВО РОССИЙСКОЙ ФЕДЕРА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ТАНОВЛ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4 июля 2008 г. N 52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5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ОВОЕ ПОЛОЖЕНИЕ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 образовательном учреждении среднего профессионального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разования (среднем специальном учебном заведен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ОВОГО ПОЛОЖ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 ОБРАЗОВАТЕЛЬНОМ УЧРЕЖДЕНИИ НАЧАЛЬН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836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ыдержки из положения</a:t>
            </a:r>
            <a:br>
              <a:rPr sz="4400"/>
            </a:b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(образовательная деятельность образовательных учреждений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1397160"/>
          <a:ext cx="8424720" cy="512604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С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Н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5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е специальное учебное заведение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жегодно обновляет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е программы (в части состава дисциплин (модулей), установленных средним специальным учебным заведением в учебном плане, и (или) содержания рабочих программ учебных дисциплин (модулей), программ учебной и производственной практики, а также методических материалов, обеспечивающих реализацию соответствующих образовательных технологий)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 учетом развития науки, техники, культуры, экономики, технологий и социальной сф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е программы начального профессионального образования включают в себя учебный план, рабочие программы учебных курсов, предметов, дисциплин (модулей), программы учебной практики (производственного обучения) и производственной практики, календарный учебный график и другие методические материалы, которые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жегодно обновляютс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разовательным учреждением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 учетом развития науки, техники, культуры, экономики, технологий и социальной сфер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ыдержки из полож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1052640"/>
          <a:ext cx="8712000" cy="5673600"/>
        </p:xfrm>
        <a:graphic>
          <a:graphicData uri="http://schemas.openxmlformats.org/drawingml/2006/table">
            <a:tbl>
              <a:tblPr/>
              <a:tblGrid>
                <a:gridCol w="4356000"/>
                <a:gridCol w="435600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С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Н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0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аксимальный объем учебной нагрузк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тудента составляет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4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адемических часа в неделю, включая все виды аудиторной и внеаудиторной учебной нагруз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В средних специальных учебных заведениях устанавливаются основные виды учебных занятий, такие, как урок, лекция, семинар, практическое занятие, лабораторное занятие, контрольная работа, консультация,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амостоятельная работ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учебная и производственная практики, выполнение курсовой работы (курсовое проектирование)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едельная нагрузка студентов обязательными учебными занятиям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дагогического работника с обучающимися не должна превышать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6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адемических ча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 В образовательном учреждении устанавливаются такие виды учебных занятий, как урок, практическое занятие, лабораторное занятие, контрольная работа, консультация,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амостоятельная работ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учебная практика (производственное обучение) и производственная практика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 также могут проводиться другие виды учебных заняти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м учебно-производственной нагрузки не должен превышать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6 академических часов в неделю и 6 академических часов в ден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ЕКОМЕНДАЦИ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   ПО ПЛАНИРОВАНИЮ И ОРГАНИЗАЦИИ САМОСТОЯТЕЛЬНОЙ РАБОТЫ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      СТУДЕНТОВ ОБРАЗОВАТЕЛЬНЫХ УЧРЕЖДЕНИЙ СРЕДНЕГО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ПРОФЕССИОНАЛЬНОГО ОБРАЗОВАНИЯ В УСЛОВИЯХ ДЕЙСТВ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С СП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ложение к письму Минобразования России  от 29 декабря 2000 года                                                   N 16-52-138ин/16-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Локальные акты регламентирующие вопросы организации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ение об организации самостоятельной работы студентов коллед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ение о календарно-тематическом планирова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трелка вправо 3"/>
          <p:cNvSpPr/>
          <p:nvPr/>
        </p:nvSpPr>
        <p:spPr>
          <a:xfrm>
            <a:off x="7164360" y="5732640"/>
            <a:ext cx="720720" cy="28872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Самостоятельная  работа  студентов проводится с целью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2679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и  и закрепления полученных теоретических знаний и практических умений студен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бления и расширения теоретических зн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  умений   использовать   нормативную,   правовую, справочную документацию и специальную литератур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познавательных способностей  и  активности  студентов: творческой    инициативы,    самостоятельности,    ответственности   и организован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  самостоятельности   мышления,   способностей   к саморазвитию, самосовершенствованию и самореализ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исследовательских ум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иды самостоятельной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ор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ая работа по дисциплине  выполняется на  учебных занятиях под непосредственным руководством преподавателя и по его зада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аудитор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амостоятельная  работа выполняется студентом по заданию преподавателя, но без его непосредственного учас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Методика организации самостоятельной работы студентов завис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структуры, характера и особенностей изучаемой дисциплин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ма часов на ее изучени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а заданий для самостоятельной работы студентов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видуальных качеств студ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8:52:11Z</dcterms:created>
  <dc:creator>User</dc:creator>
  <dc:description/>
  <dc:language>en-US</dc:language>
  <cp:lastModifiedBy>User</cp:lastModifiedBy>
  <cp:lastPrinted>2011-10-13T09:58:21Z</cp:lastPrinted>
  <dcterms:modified xsi:type="dcterms:W3CDTF">2011-12-01T09:57:59Z</dcterms:modified>
  <cp:revision>26</cp:revision>
  <dc:subject/>
  <dc:title>Презентация PowerPoint</dc:title>
</cp:coreProperties>
</file>