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EA2-7B7A-480F-A3BB-DB8CC55E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D6F-3019-493D-BEB1-A7B00FB9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28C-7868-48E8-948B-7D6D00D3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9D4-91BE-4CA5-99AC-62E94A83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4F0-28AE-4595-BDCA-5B1C7A2B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97F-50B4-43E6-9CBF-C50773BF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751-22B9-4853-A363-52251DD1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D36-BF10-4DBE-89D6-96025EA1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A76-0971-401B-BB79-16ACE8A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AFB-5F91-45A8-83E7-3D5F1F09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B46-F51C-4CD4-9F74-8E5FB55B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CFC-EB88-42C7-A45B-12CF3932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A4BF-AF81-4747-8247-C34B58842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1;&#1059;&#1055;%20&#1085;&#1072;&#1095;%20&#1082;&#1083;&#1072;&#1089;&#1089;&#1099;%2021.01.xls" TargetMode="External"/><Relationship Id="rId2" Type="http://schemas.openxmlformats.org/officeDocument/2006/relationships/hyperlink" Target="file:///&#1059;&#1044;%20&#1055;&#1088;&#1072;&#1074;&#1086;&#1074;&#1086;&#1077;%20&#1086;&#1073;&#1077;&#1089;&#1087;&#1077;&#1095;&#1077;&#1085;&#1080;&#1077;%2003.05.11.doc" TargetMode="External"/><Relationship Id="rId3" Type="http://schemas.openxmlformats.org/officeDocument/2006/relationships/hyperlink" Target="file:///&#1055;&#1052;%20&#1052;&#1054;%20&#1053;&#1050;%2013.04.11.doc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8;&#1088;&#1091;&#1076;&#1086;&#1105;&#1084;&#1082;&#1086;&#1089;&#1090;&#1100;%20&#1057;&#1056;&#1057;.doc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6;&#1077;&#1082;&#1086;&#1084;&#1077;&#1085;&#1076;&#1072;&#1094;&#1080;&#1080;%20&#1087;&#1086;%20&#1057;&#1056;&#1057;.doc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rcoll@mail.ru" TargetMode="External"/><Relationship Id="rId2" Type="http://schemas.openxmlformats.org/officeDocument/2006/relationships/hyperlink" Target="mailto:rcoll@mail.ru" TargetMode="External"/><Relationship Id="rId3" Type="http://schemas.openxmlformats.org/officeDocument/2006/relationships/hyperlink" Target="mailto:rcoll@mail.ru" TargetMode="External"/><Relationship Id="rId4" Type="http://schemas.openxmlformats.org/officeDocument/2006/relationships/hyperlink" Target="mailto:rcoll@mail.ru" TargetMode="External"/><Relationship Id="rId5" Type="http://schemas.openxmlformats.org/officeDocument/2006/relationships/hyperlink" Target="mailto:rcoll@mail.ru" TargetMode="External"/><Relationship Id="rId6" Type="http://schemas.openxmlformats.org/officeDocument/2006/relationships/hyperlink" Target="http://www.gou_rpk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6;&#1072;&#1079;&#1076;&#1077;&#1083;%207%20&#1060;&#1043;&#1054;&#1057;.doc" TargetMode="External"/><Relationship Id="rId2" Type="http://schemas.openxmlformats.org/officeDocument/2006/relationships/hyperlink" Target="file:///&#1056;&#1077;&#1082;&#1086;&#1084;&#1077;&#1085;&#1076;&#1072;&#1094;&#1080;&#1080;%20&#1087;&#1086;%20&#1057;&#1056;.doc" TargetMode="External"/><Relationship Id="rId3" Type="http://schemas.openxmlformats.org/officeDocument/2006/relationships/hyperlink" Target="file:///&#1056;&#1077;&#1082;&#1086;&#1084;&#1077;&#1085;&#1076;&#1072;&#1094;&#1080;&#1080;%20&#1087;&#1086;%20&#1057;&#1056;.doc" TargetMode="External"/><Relationship Id="rId4" Type="http://schemas.openxmlformats.org/officeDocument/2006/relationships/hyperlink" Target="file:///&#1056;&#1077;&#1082;&#1086;&#1084;&#1077;&#1085;&#1076;&#1072;&#1094;&#1080;&#1080;%20&#1087;&#1086;%20&#1057;&#1056;.doc" TargetMode="External"/><Relationship Id="rId5" Type="http://schemas.openxmlformats.org/officeDocument/2006/relationships/hyperlink" Target="file:///&#1041;&#1088;&#1086;&#1096;&#1102;&#1088;&#1072;%20&#1086;%20&#1057;&#1056;&#1057;.doc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 обучающихся в условиях введения ФГОС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ославл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7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азисный учебный пл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чий учебный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бочая программа по 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абочая программа по П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уководство С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 Подготовительны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1. Отбор целей самостоятельной работ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2. Отбор содержани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3.  Отбор  форм, типов и видов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. Комплексное методическое обеспечение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Основно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. Мотиваци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. Руководство выполнением 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3. Заключительны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1. Организация контрол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2. Рефлексия руководства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ледует учитыва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424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жность изучаемого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м изучаемой дисцип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 обучения и получаемую специальность, профе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мые педагогом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ическое обеспечение учебной дисцип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информационно-коммуникационных средств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енность состава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студентов и уровень их самосто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63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блема перегрузк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 студентки 5 курса….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25 декабря 2009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ть конспект занятия по 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долг подождет, она хорошо ко мне относи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зачету по …….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(мало оценок – 4, а могла бы и на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работать конспект лекции по…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«пронесло» и не спроси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семинару по…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(может освободят от экзамена – 5 УР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одготовить сообщение по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сказала, что не успела распечатать, перенесли на следующую неде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олучить зачет по ВКР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чень рада, что в колледже не встретились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ы внеаудиторной С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6756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ПиН определяет время, ежедневно выделяемое на выполнение домашнего задания по всем предметам, вместе взят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класс – не превышает 1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класс – 1,5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4 класс – 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6 класс – 2,5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8 класс – 3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-11 класс – 4 ч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чет СР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50560" y="765000"/>
            <a:ext cx="8675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объема внеаудиторной СРС на заседании 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инструктажа используется время, отведенное на изучение УД и МД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проводить консультации из общего объема времени, отведенного на консультации (100 часов в год на учебную групп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ь  результатов может проходить на учебных занятиях и (или) в форме предъявления изделия или продукта творческ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 на внеаудиторную СРС, формы и методы контроля прописываются в К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Учет СР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 на внеаудиторную СРС записываются в классном журнале, в графе: «Домашняя рабо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 контроля отражается в содержании учебного занятия (справа) и фиксируется колонкой отметок (зачетов) на левой стор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ультации записываются в журнале консульт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си в классном журнале и КТП должны совпа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то такое самостоятельная работа (СР)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В каких нормативных и методических документах она пропис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им образом она может быть организов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 вести учет самостоятельной работы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0560" y="3860280"/>
            <a:ext cx="8675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Г.Копотю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ректор ГОАУ СП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инского педколлед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coll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il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gou_rp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то такое самостоятельная работа (СР)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В каких нормативных и методических документах она пропис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им образом она может быть организов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 вести учет самостоятельной работы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д учебной деятельности учащихся как на уроке, так и во вне урочное время (Т.А.Иль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 обучения, при котором учащиеся под руководством учителя и  по его заданию самостоятельно решают поставленную задачу (Л.В.Жар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а самостоятельной деятельности, которая всегда строго ограничена временными рамками и является обязательной для каждого ученика (Н.Ю.Лейк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о вовлечения учащихся в самостоятельную познавательную деятельность (П.И.Пидкасист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м для всех подходов является то, что самостоятельная работа является орудием педагогического руководства и управления самостоятельной познавательной деятельностью обучающегося в процессе обучения. Результаты СР в том числе и домашней используются в учебном проце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ы и  тип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количеству обучаю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месту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спроизводящая (копирующи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конструктивная (репродуктивны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вристическая (частично-поискова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ая (самостоятельны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по дидактическим целям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овладения знания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закрепления и систематизации зн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формирования ум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проверки сформированности знаний и ум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по дидактическим целя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владения знаниями (самостоятельное изучение отдельных тем курса, чтение текста, конспектирование текста и т.п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закрепления и систематизации знаний (работа с конспектом лекции, учебником, работа с опорными сигналами, составление таблиц, подготовка сообщен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формирования умений (решение задач и упражнений, упражнение на тренажёре, подготовка к деловым игра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роверки сформированности знаний и умений (подготовка к контрольной работе, опросу, зачету, семинар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исьмо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нобразования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России от 29.12.2000 № 16-52-138 ин/16-13 «О рекомендациях по планированию и организации СР студентов (СРС)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Рекомендации по руководству СРС педагогического колледжа (20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7:49:57Z</dcterms:created>
  <dc:creator>Kopotuk</dc:creator>
  <dc:description/>
  <dc:language>en-US</dc:language>
  <cp:lastModifiedBy>Kopotuk</cp:lastModifiedBy>
  <dcterms:modified xsi:type="dcterms:W3CDTF">2002-01-20T11:04:22Z</dcterms:modified>
  <cp:revision>8</cp:revision>
  <dc:subject/>
  <dc:title>Организация самостоятельной работы обучающихся в условиях введения ФГОС   Ярославль 2011</dc:title>
</cp:coreProperties>
</file>