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E40-675E-4B6B-BA7E-E63918C3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0B7-29A9-47F0-A43F-24D00F72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085-ED2E-4C01-B8F6-08B4FE23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98B-76E5-4150-88D7-20003811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21AA-86FB-4D97-90D6-11AF3D9D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23BF-531D-4696-9513-A6331CB0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BCD3-BF42-4338-9C4D-CDCA2EFB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5B5A-8CF0-4050-B216-84E2241B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6DC1-654A-4A02-BFEA-00CEF5DB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6B99-8C04-4F7D-8C35-9D78CD37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82D7-99D4-4B0F-8C6F-22CA4352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985-0A80-4602-820B-86D4FBF7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8964-910E-49A9-BFA5-92B6E06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E85C-A6DC-417C-A4C6-5DA1603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7B48-ED98-4ED6-9CED-4F3FBC34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C6CE-41BD-4753-B28B-3C2C6179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6284-4144-421D-A1AA-B69B4842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44C-8566-4739-B881-91A5EC8E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7C6-EB22-4580-9513-43415939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E15-0D33-454A-ACAE-F769B1A0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F07-A0D0-4835-8590-932CF6C4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284-9620-402A-A04E-80205A43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4DE-ABA0-4AF0-8A71-27B7179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2F1-669C-4B15-BA39-81247A3D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066-5267-459D-B58D-C97128197F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8C16-9CAC-4EC9-9A2E-64D302EEAB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Scan1.PDF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&#1055;&#1086;&#1103;&#1089;&#1085;&#1080;&#1090;&#1077;&#1083;&#1100;&#1085;&#1072;&#1103;%20&#1079;&#1072;&#1087;&#1080;&#1089;&#1082;&#1072;%20&#1082;%20&#1054;&#1055;&#1054;&#1055;.doc" TargetMode="External"/><Relationship Id="rId5" Type="http://schemas.openxmlformats.org/officeDocument/2006/relationships/image" Target="../media/image4.png"/><Relationship Id="rId6" Type="http://schemas.openxmlformats.org/officeDocument/2006/relationships/hyperlink" Target="file:///&#1056;&#1059;&#1055;%20&#1052;&#1040;&#1057;&#1058;&#1045;&#1056;%20&#1062;&#1048;%2020.05.2011.xls" TargetMode="External"/><Relationship Id="rId7" Type="http://schemas.openxmlformats.org/officeDocument/2006/relationships/image" Target="../media/image4.png"/><Relationship Id="rId8" Type="http://schemas.openxmlformats.org/officeDocument/2006/relationships/hyperlink" Target="file:///&#1056;&#1077;&#1082;&#1086;&#1084;&#1077;&#1085;&#1076;&#1072;&#1094;&#1080;&#1080;-&#1052;&#1054;&#1053;-2007.doc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&#1053;&#1086;&#1074;&#1099;&#1077;%20&#1088;&#1077;&#1082;&#1086;&#1084;&#1077;&#1085;&#1076;&#1072;&#1094;&#1080;&#1080;%20&#1060;&#1048;&#1056;&#1054;%20&#1087;&#1086;%20&#1054;&#1044;.doc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&#1056;&#1072;&#1089;&#1095;&#1077;&#1090;%20&#1095;&#1072;&#1089;&#1086;&#1074;.xls" TargetMode="External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hyperlink" Target="file:///&#1041;&#1102;&#1076;&#1078;&#1077;&#1090;%20&#1074;&#1088;&#1077;&#1084;&#1077;&#1085;&#1080;.doc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055;&#1077;&#1088;&#1077;&#1095;&#1077;&#1085;&#1100;%20&#1082;&#1072;&#1073;&#1080;&#1085;&#1077;&#1090;&#1086;&#1074;.doc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8;&#1086;&#1075;&#1088;&#1072;&#1084;&#1084;&#1072;%20%20&#1054;&#1089;&#1085;&#1086;&#1074;&#1099;%20&#1080;&#1085;&#1092;&#1086;&#1088;&#1084;&#1072;&#1094;&#1080;&#1086;&#1085;&#1085;&#1099;&#1093;%20&#1090;&#1077;&#1093;&#1085;&#1086;&#1083;&#1086;&#1075;&#1080;&#1081;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&#1055;&#1086;&#1091;&#1088;&#1086;&#1095;&#1085;&#1086;&#1077;%20&#1087;&#1083;&#1072;&#1085;&#1080;&#1088;&#1086;&#1074;&#1072;&#1085;&#1080;&#1077;%20&#1087;&#1086;%20&#1054;&#1048;&#1058;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55;&#1088;&#1086;&#1075;&#1088;&#1072;&#1084;&#1084;&#1072;%20&#1055;&#1052;1%20&#1042;&#1074;&#1086;&#1076;%20&#1080;%20&#1086;&#1073;&#1088;&#1072;&#1073;&#1086;&#1090;&#1082;&#1072;%20&#1062;&#1048;.doc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тодическое обеспечение ОПОП в соответствии с требованиями ФГОС НП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848360" cy="16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С.Новиков - заместитель директора по УП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У НПО ЯО ПЛ №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Ярослав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ОП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Титульный лист ОП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Пояснительная записка к ОП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Учебный 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(рекомендации МОН от 29.05.2007г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(рекомендации ФИРО№ 1 от 03 февраля 2011 г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2"/>
              </a:rPr>
              <a:t>(профили НП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учебного проц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5"/>
              </a:rPr>
              <a:t>Сводные данные по бюджету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7"/>
              </a:rPr>
              <a:t>Перечень кабинетов, мастерских и пр.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ОП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Программы учебных дисциплин (ОД, ОП, ФК, БЖ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(в том числе поурочное 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Программы профессиональных моду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 том числе поурочное 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дура и содержание И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ическое сопровождение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 по ОД и О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 по моду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работа обучаю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ормативно-правовое и учебно-методическое обеспечение образовательного процесса в условиях введения нового ФГОС НПО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8:56:14Z</dcterms:created>
  <dc:creator>Admin</dc:creator>
  <dc:description/>
  <dc:language>en-US</dc:language>
  <cp:lastModifiedBy>Admin</cp:lastModifiedBy>
  <dcterms:modified xsi:type="dcterms:W3CDTF">2011-11-30T12:15:24Z</dcterms:modified>
  <cp:revision>9</cp:revision>
  <dc:subject/>
  <dc:title>Учебно-методическое обеспечение ОПОП в соответствии с требованиями ФГОС НПО</dc:title>
</cp:coreProperties>
</file>