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E753-C83E-43C6-B3FF-DDE1612B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6D53-5E99-4924-8B3A-5FEAA88A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D220-1AC3-4DA5-9FE8-F97513E1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7D55-F1C8-4142-9A47-EE394ED0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AC3C-9DEE-4C23-8DAC-EA60A2CD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DC81-01ED-44B1-9EE8-1CFE9968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AD8D-EB63-431E-9F9C-4A362555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95E0-3FF1-4246-97CE-264075D8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EBEA-175F-459E-A5D7-6EF37814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3E9C-4D84-4987-898D-A1C6FA32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0660-FF9C-49E5-96AC-C17D13AD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34C-75E4-447A-B98B-005AD3DA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7E97-1B46-4B14-8BF2-143A6D69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799D-494A-4C02-AE1A-A52A18D8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F2FF-31AC-41BD-BBBC-FEB99FF8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9814-6300-4BF7-899B-4E332DC0F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B851-B372-4B8B-AB78-46E17CBD4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1B4BA-8EBF-4AE1-89EA-BFA71BA3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C9B54-99FF-4808-BC16-5A8EA000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2F772-9573-4E6B-ACBC-06B5C95C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11668-A520-4C49-8B8B-21406BD6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A586B-B7F5-4F1E-B407-E53781E5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DBEC-0A7D-4770-9BAE-B0B48AD8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AE035-D740-4E6F-BC58-93BBA580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798C2-E522-468F-BFAD-1E5F7406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F4D34-18A6-4B30-8B50-016B9E13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056AA-8CDA-4AF9-B332-740B8B50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711B7-286A-4971-9FE6-C3208603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920F4-9AEF-438B-BB37-8FDDE556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A130D-B1AF-44E8-BD4D-819FC090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FB20A-0071-40FF-9748-E3713931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F8E97-A157-4AE0-A3B8-11BC56A8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A4951-A944-450F-8D6D-6542F684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BA29-107C-43F3-B163-B2142329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7E50E-6B7F-42EA-89AE-9E552EB2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C8CA9-15A4-48E2-A832-1FD0C720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D7287-5398-4376-9346-073288D0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836CB-EA6C-46AB-B7BB-5D833B4C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B5F27-2C78-4925-A594-B1332594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41AE3-92F0-47CB-841C-AE00129F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4A8DC-406E-43A4-B0D3-3B1EDA67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91ED6-E971-4414-BAFD-D5100CFC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78882-B229-4FD4-945A-82462102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6574-AE7E-4ED2-AB71-2DA1820B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71E6-DB33-4180-B2FE-55D060AB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C0BF-78E7-45C3-8E89-AD820381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BF51-220F-4058-BACB-BC6D9431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0434-901E-430D-A4D0-91699B93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7AE3-2D60-46AE-AE1E-B6C8D1B74E8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F838-87A3-4C40-975A-AD923AAEEA9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FC0E-BBC5-468A-9FE9-1F06C29B4EC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364B-2423-4E5F-A319-C3D7D5A2099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87;&#1088;&#1086;&#1075;&#1088;&#1072;&#1084;&#1084;&#1084;&#1072;%20&#1087;&#1086;%20&#1087;&#1088;&#1072;&#1082;&#1090;&#1080;&#1082;&#1077;%20&#1055;&#1053;&#1050;%20&#1087;&#1086;%20&#1060;&#1043;&#1054;&#1057;.doc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5" descr=""/>
          <p:cNvPicPr/>
          <p:nvPr/>
        </p:nvPicPr>
        <p:blipFill>
          <a:blip r:embed="rId2"/>
          <a:stretch/>
        </p:blipFill>
        <p:spPr>
          <a:xfrm>
            <a:off x="378000" y="1859040"/>
            <a:ext cx="8461080" cy="4217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85480" y="5428800"/>
            <a:ext cx="8643960" cy="1428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Власова Светлана Александровна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заведующая профессиональной практикой студентов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500040" y="92880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У СПО ЯО Ростовский педагогический коллед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Документы, регламентирующие порядок организации и проведения практик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он РФ «Об образовании»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ГОС СПО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чие учебные планы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ожение об учебной и производственной практике студентов (курсантов), осваивающих ОПОП СПО, утвержденное приказом Минобрнауки от 26 ноября 2009г. №673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комендации по профессиональной практике студентов по специальностям СПО (Минобразование России, 03.03.2003 г.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Виды профессиональной практик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28760" y="2142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учебная практика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роизводственная практика (практика по профилю специальности и преддипломная практика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114264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Методологические подходы 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к организации профессиональной практики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3286080"/>
            <a:ext cx="8229600" cy="30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ятельностный подход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истемный подход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ультурологический подход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петентностный подхо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Принципы организации профессиональной практик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28760" y="2071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следователь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емственность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инамичность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лифункциональ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ерспектив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нтегратив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вобода выбора и ответственность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заимосвязь теоретического обучения и практи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трудничество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блемность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Структура рабочей программы практик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ПАСПОРТ РАБОЧЕЙ ПРОГРАММЫ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ЕЗУЛЬТАТЫ ПРОХОЖДЕНИЯ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СТРУКТУРА И ПРИМЕРНОЕ СОДЕРЖАНИЕ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УСЛОВИЯ РЕАЛИЗАЦИИ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КОНТРОЛЬ И ОЦЕНКА РЕЗУЛЬТАТОВ ОСВОЕНИЯ ПРАКТИК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1" i="1" lang="en-US" sz="3000" spc="-1" strike="noStrike">
                <a:solidFill>
                  <a:srgbClr val="04617b"/>
                </a:solidFill>
                <a:latin typeface="Calibri"/>
              </a:rPr>
              <a:t>КОНТРОЛЬ И ОЦЕНКА РЕЗУЛЬТАТОВ ОСВОЕНИЯ</a:t>
            </a:r>
            <a:br>
              <a:rPr sz="3000"/>
            </a:br>
            <a:r>
              <a:rPr b="1" i="1" lang="en-US" sz="3000" spc="-1" strike="noStrike">
                <a:solidFill>
                  <a:srgbClr val="04617b"/>
                </a:solidFill>
                <a:latin typeface="Calibri"/>
              </a:rPr>
              <a:t> ПРОФЕССИОНАЛЬНОЙ ДЕЯТЕЛЬНОСТИ 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42920" y="1714680"/>
          <a:ext cx="8786880" cy="4876560"/>
        </p:xfrm>
        <a:graphic>
          <a:graphicData uri="http://schemas.openxmlformats.org/drawingml/2006/table">
            <a:tbl>
              <a:tblPr/>
              <a:tblGrid>
                <a:gridCol w="612720"/>
                <a:gridCol w="2070000"/>
                <a:gridCol w="2616480"/>
                <a:gridCol w="34876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Код П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Наименование результата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ПК и показатели сформирован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Формы и методы контроля и оце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ПК 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Определять цели и задачи, планировать у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.Информационны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 умение 1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2. Проектировочны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 умение 1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проверка конспектов уроков на педагогической практик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защита, подобранных форм и методов обучения младших школь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ПК 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Проводить у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Организаторски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 умение 1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2. Коммуникатив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 умение 1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 наблюдение и анализ проведения уроков в ходе педагогической прак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.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.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..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.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ПК 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Анализировать у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1. Анализ и самоанализ деятельност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умение 1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умение 2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- экспертная оценка представленного анализ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Подсистемы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профессиональной практики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28760" y="2285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организация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методическое обеспечение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материально-техническое обеспечение практики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базы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отчетная документация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контроль работы субъектов и объектов практик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человеческий фактор профессиональной практи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Базовый набор контрольно-измерительных параметр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28760" y="2928960"/>
          <a:ext cx="8229600" cy="3044880"/>
        </p:xfrm>
        <a:graphic>
          <a:graphicData uri="http://schemas.openxmlformats.org/drawingml/2006/table">
            <a:tbl>
              <a:tblPr/>
              <a:tblGrid>
                <a:gridCol w="542880"/>
                <a:gridCol w="6072120"/>
                <a:gridCol w="161460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№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5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Контролируемые элемент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Оценка эксперт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381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ендарно-тематический план практик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ческие рекомендации по проведению профессиональной практик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758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чень индивидуальных заданий на практику и т.п...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214" name="Rectangle 1"/>
          <p:cNvSpPr/>
          <p:nvPr/>
        </p:nvSpPr>
        <p:spPr>
          <a:xfrm>
            <a:off x="428760" y="186084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ое обеспечение практик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 № _______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 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07:18:29Z</dcterms:created>
  <dc:creator>1</dc:creator>
  <dc:description/>
  <dc:language>en-US</dc:language>
  <cp:lastModifiedBy>ASUS</cp:lastModifiedBy>
  <dcterms:modified xsi:type="dcterms:W3CDTF">2011-12-01T10:20:20Z</dcterms:modified>
  <cp:revision>49</cp:revision>
  <dc:subject/>
  <dc:title>СОВЕРШЕНСТВОВАНИЕ КАЧЕСТВА ПОДГОТОВКИ СПЕЦИАЛИСТОВ  В ПРОЦЕССЕ ОРГАНИЗАЦИИ ПРОФЕССИОНАЛЬНОЙ ПРАКТИКИ</dc:title>
</cp:coreProperties>
</file>