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455-60B0-4724-B8B1-1D377D1C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983-4DC2-473D-9633-FE40A0B6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760-D2BC-47A6-A8BF-0BAFFA8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3DE-E16F-47E5-AE4F-B5D8A9F3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2BB-0C4C-4828-8C78-4A44EB1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1E4B-8F25-4EB9-9533-14980A0A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08B8-4CAF-4024-B906-DF8C4552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0F67-EE9E-47BA-B85D-EAC8F866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49A7-EF18-4F6D-A274-9063C19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0ED0-3033-45B1-B02D-0A0D8D9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F064-9193-4063-9EF9-4C3F3AF2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EC0-A7DC-450C-A894-9AECF0D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5D63-1978-4BF4-9401-ED5D91F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D5CF-25A1-4EE7-88E6-02000AC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143D-4A54-451A-A75A-196AF68E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FE9D-FD86-4AB6-9E21-94DCDF15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E905-084D-4DE5-982A-872704A4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424-3F97-48AF-AB4E-BF206A1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03E-279E-4F08-8140-1D02206B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318-7B3E-4E24-9627-E4092DB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6D7-9F0A-4223-BF28-87B44503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EB9-3219-4BD4-8C7E-0C8D3C2A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A9E-79F9-466C-B45A-BAF43FC3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7D1-F4C9-423B-B68F-374FDC8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69F2-53A3-4230-8158-4FD85376145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4393-F81C-49CF-A176-957E1D8B4FE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ЕДАГОГИЧЕСКИЙ ИНСТРУМЕНТАРИЙ </a:t>
            </a:r>
            <a:br>
              <a:rPr sz="3000"/>
            </a:b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ФОРМИРОВАНИЯ И ДИАГНОСТИКИ ОБЩИХ КОМПЕТЕНЦИЙ: опыт и перспективы работы лицея 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30481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уева Марина Леоно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меститель директора 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ОУ НПО ЯО ПЛ №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к.п.н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48320" y="563868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 ГОУ НПО ЯО профессиональный лицей № 7 20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0B8C54-77C8-448A-AB62-911C53D1237D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066680" y="251460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40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агностирование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нгова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4191120" y="3429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0 –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 – скорее нет, чем д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 – не знаю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 – скорее да, чем нет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 – 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C98ECF-AF97-48D6-B934-97113B995840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914400" y="22096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процеду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варительный инструктаж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зависимость экспер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ограниченности по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сперты при повторной диагностике те ж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одичность – не чаще 1 раза в год, период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77D0C6-44D5-4FB0-BF5B-070AE964D4FC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5"/>
          <p:cNvSpPr/>
          <p:nvPr/>
        </p:nvSpPr>
        <p:spPr>
          <a:xfrm>
            <a:off x="914400" y="2438280"/>
            <a:ext cx="72388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нализ собранных данных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дные таблиц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тистический критерий однород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ный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EB0194-DBAB-491E-B518-C521E1F60D13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838080" y="1665360"/>
          <a:ext cx="7077240" cy="51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65360"/>
                    <a:ext cx="70772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ческая карта учащего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4343400"/>
            <a:ext cx="7619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у положено соотнесение типа педагогического процесса и образовательного результата (В.В.Юди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228600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ровни компетентности по В.В.Юдин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ормаль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ормальное применение известных способов действий: методик, технологий, способов, алгоритмов (иногда по прямому на них указанию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осознанные выбор и  применение  способов действ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ворческа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сознанные выбор, применение и адаптация способов действий в нестандартных ситуац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бъект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йствия основанные на возможности само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2590920"/>
            <a:ext cx="7620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тализация ОК ФГОС НПО по уровн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гнитивном и поведенческом аспект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ценностно-смысловом, мотивационном и эмоционально-волевом аспектах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леживание эффективности педагогической системы О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нение статистических критериев для сравнения входных, промежуточных и итоговых результатов в формировании 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Педагогические средства (педагогический инструментарий) 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совокупность компонентов, позволяющих управлять педагогическим процессом, воздействовать на образовательный результа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ы: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хнолог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методика, содержание дисциплины, методы, приемы обучения, формы организации познавательной деятельности, средства обучения (в узком смысле), задача, упражнение, пример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76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Основание для выбора инструментария: направленность на активную субъектную деятельность учащихся, комплекс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ехнолог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ного обучения Е.Л.Мельник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РКМЧ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ектн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рной работы и работы в малых группа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ова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льная технология В.В.Гузе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При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боты с понятиями, таблицами, задачам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ципы выбора и использования педагогических средст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омпетентностной направл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систем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реализации педагогического инструмента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инцип вариативности и сопряж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69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аблица эффективности выбранных педагогических сред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нструирование комплекса педагогических средств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й технологией в основ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 последовательным и одновременным использованием нескольки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аимодействие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ИЧЕСКИЕ СРЕДСТВА ФОРМИРОВАНИЯ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зм реализации комплекса педагогических средств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Дополнительный курс «Учись учиться» в 1 семестре в рамках выбранны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Проведение внеаудиторных мероприятий в рамка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Системная реализация технологий в рамках ОД, СД, ПМ, внеаудиторной рабо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КА 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мках ПМ, ЭК, Г(И)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ОД, СД, внеаудиторных мероприят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904987-42DC-4D4F-9F12-FB4C027B4F03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066680" y="243828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т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кспертной 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Цел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оценка надпрофессиональных компетенц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деятельность учащих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кспер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мастера и преподаватели группы (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агностический инструментарий оценки Н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</cp:lastModifiedBy>
  <dcterms:modified xsi:type="dcterms:W3CDTF">2011-11-30T18:34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