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F666-21F8-4449-9453-18166E060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9D7C-92AC-4069-B1C8-19178A14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1D95-9F0C-4326-8484-12C69CFF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6F88-2302-407A-A2BB-F13898929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5AC7-BA48-4386-85EA-6F36A16A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1F13-9144-48F7-958D-4851C43A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9368-0991-44FD-B1AF-E8DEBF08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451E-C35A-4536-97F3-EBA7C960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A48C-3C04-4540-853C-9DBD0CE3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78A9-993B-4E96-8450-4B7E9A99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90C9-C034-4D82-8011-A851F7C4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87E2-8E7B-4E58-9570-9B78E55F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41C5-C5BB-4943-8874-FD5B4BD29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55;&#1086;&#1083;&#1086;&#1078;&#1077;&#1085;&#1080;&#1077;%20&#1086;%20&#1090;&#1074;&#1086;&#1088;&#1095;&#1077;&#1089;&#1082;&#1086;&#1081;%20&#1075;&#1088;&#1091;&#1087;&#1087;&#1077;-&#1086;&#1088;&#1080;&#1075;&#1080;&#1085;&#1072;&#1083;.doc" TargetMode="Externa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 реализации муниципального проекта «Внедрение ИКТ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учебный процесс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46483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ута С.А., заведующая районным методическим кабинетом Управления образования Любимского М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.08.201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457200"/>
            <a:ext cx="838224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304920"/>
            <a:ext cx="2971800" cy="5410080"/>
          </a:xfrm>
          <a:prstGeom prst="downArrow">
            <a:avLst>
              <a:gd name="adj1" fmla="val 50000"/>
              <a:gd name="adj2" fmla="val 455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62520" y="533520"/>
            <a:ext cx="1600200" cy="60948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из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533520"/>
            <a:ext cx="1600200" cy="53316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1371600"/>
            <a:ext cx="2209680" cy="99072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уппа педаг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челов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в рамках М.О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2971800"/>
            <a:ext cx="1371600" cy="60948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72200" y="1371600"/>
            <a:ext cx="2057400" cy="114300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уппа педаг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челов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в рамках М.О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2743200"/>
            <a:ext cx="1828800" cy="99072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Гидросфе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-9 кл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2680" y="457200"/>
            <a:ext cx="25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Выбор предм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3400" y="1523880"/>
            <a:ext cx="30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Формирование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4648320"/>
            <a:ext cx="6324480" cy="160020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униципальный банк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3760" y="2895480"/>
            <a:ext cx="27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Выбор темы/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5200" y="464832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4572000"/>
            <a:ext cx="5334120" cy="1066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диное  учебно-тематическое план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технологические карты уро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60958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ематический пл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80880" y="1371600"/>
          <a:ext cx="8382240" cy="2208240"/>
        </p:xfrm>
        <a:graphic>
          <a:graphicData uri="http://schemas.openxmlformats.org/drawingml/2006/table">
            <a:tbl>
              <a:tblPr/>
              <a:tblGrid>
                <a:gridCol w="1067040"/>
                <a:gridCol w="990360"/>
                <a:gridCol w="1828800"/>
                <a:gridCol w="1752840"/>
                <a:gridCol w="1523880"/>
                <a:gridCol w="1219320"/>
              </a:tblGrid>
              <a:tr h="16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№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к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льтиме-дийные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К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нет-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урс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-льное храни-лище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-риал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685440" y="3809880"/>
            <a:ext cx="23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зика 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37520" y="487692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еография «Гидросфе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05920" y="56386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66d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одель расчета эффектив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(научность, наглядность, доступность 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500" spc="-1" strike="noStrike">
                <a:solidFill>
                  <a:srgbClr val="cc0000"/>
                </a:solidFill>
                <a:latin typeface="Arial"/>
              </a:rPr>
              <a:t>Результа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c0000"/>
                </a:solidFill>
                <a:latin typeface="Arial"/>
              </a:rPr>
              <a:t>____________________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500" spc="-1" strike="noStrike">
                <a:solidFill>
                  <a:srgbClr val="cc0000"/>
                </a:solidFill>
                <a:latin typeface="Arial"/>
              </a:rPr>
              <a:t>затрат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(временные, физические, материальные, …)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(планы уроков, дидактический материал и т.п.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 реализации муниципального проекта «Внедрение ИКТ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учебный процесс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09120" y="46483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ута С.А., заведующая районным методическим кабинетом Управления образования Любимского М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.08.201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руктура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219320"/>
            <a:ext cx="1828800" cy="83808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2819520"/>
            <a:ext cx="1828800" cy="99036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еб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4648320"/>
            <a:ext cx="1828800" cy="91440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ред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2057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38098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04920" y="304920"/>
          <a:ext cx="8534160" cy="6275160"/>
        </p:xfrm>
        <a:graphic>
          <a:graphicData uri="http://schemas.openxmlformats.org/drawingml/2006/table">
            <a:tbl>
              <a:tblPr/>
              <a:tblGrid>
                <a:gridCol w="3200400"/>
                <a:gridCol w="1828800"/>
                <a:gridCol w="2181240"/>
                <a:gridCol w="1323720"/>
              </a:tblGrid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дро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о-техн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о-метод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-цио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</a:tr>
              <a:tr h="560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юторо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дагогов – 1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indent="324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 ИСО (36 че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indent="324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учение для будущего    (67 чел)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indent="324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тнерство в образовании (10 че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indent="324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«Современные 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образо-вательные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 технолог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indent="32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indent="32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Постоянно действующие семин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Использование И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Муниципальный проект по СОТ (9 шко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 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Ц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 комп.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проектора, принтер-сканер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ноутбук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кол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ключение к Интерн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личение кол-ва компьютеров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по проекту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овременные образовательные технолог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нет, коллекция цифровых образовательных ресурсов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 меро-при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1676520" y="38862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вышение квалифик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995400" y="1771560"/>
          <a:ext cx="7307280" cy="43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1771560"/>
                    <a:ext cx="730728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8305920" y="56386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66d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80880" y="457200"/>
          <a:ext cx="8382240" cy="55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57200"/>
                    <a:ext cx="838224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3"/>
          <a:srcRect l="46875" t="63543" r="25003" b="29168"/>
          <a:stretch/>
        </p:blipFill>
        <p:spPr>
          <a:xfrm>
            <a:off x="3505320" y="1676520"/>
            <a:ext cx="2743200" cy="399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153280" y="54864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d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838080"/>
            <a:ext cx="8305920" cy="495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2860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80040" y="1177920"/>
            <a:ext cx="8082720" cy="5055480"/>
            <a:chOff x="680040" y="1177920"/>
            <a:chExt cx="8082720" cy="5055480"/>
          </a:xfrm>
        </p:grpSpPr>
        <p:sp>
          <p:nvSpPr>
            <p:cNvPr id="64" name=""/>
            <p:cNvSpPr/>
            <p:nvPr/>
          </p:nvSpPr>
          <p:spPr>
            <a:xfrm>
              <a:off x="3674160" y="2675520"/>
              <a:ext cx="2294640" cy="56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оектное обуч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в т.ч. на основе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tel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77760" y="2301480"/>
              <a:ext cx="1098000" cy="28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еба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67640" y="2675520"/>
              <a:ext cx="159588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КЧМ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0040" y="2769480"/>
              <a:ext cx="159588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азновозрастное обуч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77680" y="4172760"/>
              <a:ext cx="2294640" cy="560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едаревская О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02520" y="4964400"/>
              <a:ext cx="2294280" cy="561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улаковская О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01080" y="5671080"/>
              <a:ext cx="2293200" cy="5623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Чёрновская О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69080" y="4641840"/>
              <a:ext cx="2294280" cy="560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Филипповская О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170320" y="3518280"/>
              <a:ext cx="2294280" cy="561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юбимская О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68480" y="1458720"/>
              <a:ext cx="2294280" cy="561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Закобякинская С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73680" y="1365480"/>
              <a:ext cx="2294280" cy="560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Ермаковская С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78440" y="1177920"/>
              <a:ext cx="2294640" cy="56124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юбимска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77680" y="3423960"/>
              <a:ext cx="2294640" cy="5630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армановская  О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971240" y="1926720"/>
              <a:ext cx="720" cy="748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74920" y="1645920"/>
              <a:ext cx="897480" cy="1029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75760" y="1739520"/>
              <a:ext cx="897120" cy="936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76440" y="1739520"/>
              <a:ext cx="720" cy="5641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76920" y="1739520"/>
              <a:ext cx="1080" cy="5641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1378080" y="1645920"/>
              <a:ext cx="399240" cy="11232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076840" y="3237480"/>
              <a:ext cx="189720" cy="237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78880" y="3237480"/>
              <a:ext cx="498960" cy="105084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79360" y="3237480"/>
              <a:ext cx="698400" cy="18925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80200" y="3237480"/>
              <a:ext cx="942840" cy="26521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3763080" y="3237480"/>
              <a:ext cx="110160" cy="280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3896640" y="3237480"/>
              <a:ext cx="375840" cy="1050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3929040" y="3237480"/>
              <a:ext cx="642600" cy="1872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5569560" y="1977840"/>
              <a:ext cx="1488960" cy="697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5469120" y="3237120"/>
              <a:ext cx="399240" cy="280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7066800" y="3143520"/>
              <a:ext cx="399240" cy="468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65120" y="3143520"/>
              <a:ext cx="720" cy="1529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72080" y="3237480"/>
              <a:ext cx="1196640" cy="1684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65120" y="2019960"/>
              <a:ext cx="0" cy="655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3996360" y="3237480"/>
              <a:ext cx="675000" cy="263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73920" y="1645920"/>
              <a:ext cx="3592440" cy="10292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хема реализации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4240" y="5638680"/>
            <a:ext cx="214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4680" y="5791320"/>
            <a:ext cx="36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- - банк методических разрабо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d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79600" y="716040"/>
            <a:ext cx="423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9080" y="1771200"/>
            <a:ext cx="753768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Реализовано 15 проектов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Издана брошюра с опытом работы Бармановской школ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Разработаны учебно-тематические планы и конспекты урок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Выпуск диска «Образование в Любимском районе: опыт и перспективы развития»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№ 53 от 11.08.2008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55232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тратегическая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ышение эффектив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пользования ИКТ в учебном проце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3809880"/>
            <a:ext cx="8915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Конкретная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ормирование информационно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разовательных ресурсов для учител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еографии и физ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ан работы на 2008, 2009 г.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80880" y="1143000"/>
          <a:ext cx="8305920" cy="4876920"/>
        </p:xfrm>
        <a:graphic>
          <a:graphicData uri="http://schemas.openxmlformats.org/drawingml/2006/table">
            <a:tbl>
              <a:tblPr/>
              <a:tblGrid>
                <a:gridCol w="3505320"/>
                <a:gridCol w="480060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оприят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жидаемые результат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 творческих групп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Положение</a:t>
                      </a:r>
                      <a:r>
                        <a:rPr b="0" lang="en-US" sz="2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о творческой групп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рческие групп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седание рабочей группы, консультация научных руководителе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Учебно-тематический пла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ческая карта урока:</a:t>
                      </a:r>
                      <a:r>
                        <a:rPr b="0" lang="en-US" sz="2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физика, географ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Модель расчета эффективност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инары-практикумы </a:t>
                      </a:r>
                      <a:br>
                        <a:rPr sz="2100"/>
                      </a:b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о предметам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еофрагменты уроков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ческие рекомендаци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кет документов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йонный и областной конкурс учебных проектов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ые проекты (муниципальный банк данных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мута С.А.</cp:lastModifiedBy>
  <dcterms:modified xsi:type="dcterms:W3CDTF">2010-08-23T05:55:12Z</dcterms:modified>
  <cp:revision>1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