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D5A-0606-4FBC-998D-0CA7A594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DB8-D46C-4D52-960E-4D90E2E0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A7A-3FCD-4BD7-B5E6-88D9545B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0B2-0C28-48E6-AD2D-906569B1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9DAD-02A0-4C93-9FAB-173E9193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2217-CEF0-4B4F-B08F-B7389CC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BD11-4F85-4D5F-8079-C0EFC903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F79F-C16B-42F9-8C19-70F70806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2E9F-96EA-4FC4-8700-268FBA91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B1F6-54BF-4FE0-9CA3-785CD158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BE2B-94AC-485A-9FDA-593465B4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2B8-952D-4A5C-93D1-C569819D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454F-8A75-4E47-8A8B-863773BB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E3D7-1589-4E86-B33E-CBE43B1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504B-6BA8-4153-95A5-4DB60B1C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1540-B549-44D7-8D1D-F8759F30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7B20-B711-4CB7-B257-5C65F465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FDF-42D0-40BD-9473-335864CB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509-0EA2-4294-B042-D6BCCBFE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B3F-0202-49A3-8310-D76896F3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11C-B795-4BEF-BCF0-254FFB88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444-44E8-4C4F-ADF9-209F60B6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438-5087-48B4-B0BA-02426BB9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7AE-BC55-4AF1-8F8D-8858C724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8771-B555-4632-B16B-D3604BFEC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7FA5-2E1E-476F-BAD0-68F32DFC4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0280"/>
            <a:ext cx="914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2592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Мастерская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по повести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Н.С. Лескова </a:t>
            </a:r>
            <a:br>
              <a:rPr sz="4200"/>
            </a:b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«Леди Макбет Мценского уезда»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ahoma"/>
              </a:rPr>
              <a:t>Драма любви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помните предпосланный повести эпигра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чём, по-вашему, его смыс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ца нет жертвам, и они не впро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м больше их, тем более трев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.Шекспир «Макб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1229-88b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Воспоминание Н.С. Лесков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е становилось временами  невыносимо жутко, волос поднимался дыбом, я застывал при малейшем шорохе, который производил сам движением ноги или поворотом шеи. Это были тяжёлые минуты, которых мне не забыть никогда. С тех пор избегаю описания таких ужа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авните поведение Катерины Львовны и Серге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Зиновия Измайлова (главы 7- 8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мальчика Феди Лямина (главы 9-11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допросах (глава 12 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каторге (главы 13-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9734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4435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5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чему повесть заканчивается ещё одним преступлением Катерины Измайлово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Задание 6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общего и чем отличаются Катерина Измайлов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 Катерина Кабанов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Художник русской душ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был спасателем – всегда рядом с Достоевским и Толстым, чуть, правда, в стороне (то как бы отставая от них, то забегая вперёд), неоценённый и непризнанный до конца дней, поскольку на тяжкой дороге любви мешал ему  собственный темперамент: во всём «аффектация и пересол», торопливость и горячность самовыражения, во всём и всему – противоборство. На небосводе же русской литературы одинокая звезда его, наверное, ближе всего сошлась к звезде А.Н.Остров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Басм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Творческая судьба повест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32 г. – композитор Д.Шостакович создал на материале повести оперу «Катерина Измай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1 г. – польский режиссёр А.Вайда снял фильм «Сибирская леди Макб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6 г. – режиссёр М.Шапиро снял фильм-оперу с Г.Вишневской в главной парт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79 г. – постановка А.Гончарова в Московском театре им. Вл. Маяковского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89 г. – режиссёр Р.Балаян создал фильм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94 г. – режиссёр В.Тодоровский снял фильм «Подмосковные вечера», в котором история страсти Катерины Измайловой была перенесена в наше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52480"/>
                <a:tab algn="l" pos="952560"/>
                <a:tab algn="l" pos="1136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исьменно ответить на один из вопрос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276720"/>
            <a:ext cx="7238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Преступница или жер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ерина Измай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Можно ли оправдать     преступление, совершён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-за любв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cc"/>
                </a:solidFill>
                <a:latin typeface="Tahoma"/>
              </a:rPr>
              <a:t>Хроника жизни Н.С. Лескова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952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Родился 4 февраля 1831 г. в с.Горохове, Орловской губернии. Отец был заседателем Орловской уголовной палаты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 1847-1849 гг. служил в Орловской палате уголовного суд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 1849 по 1856 г. занимал различные должности в Киевской казённой палате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57 г. – поступление на службу в хозяйственно-коммерческую компанию. «Изъездил всю Россию в самых разнообразных направлениях», «собрал «большое обилие впечатлений и запас бытовых сведений»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61 г. – переезд в Петербург. Публикация первых рассказов, в основе которых лежат реальные события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95 г. – кончин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leskov_1" descr=""/>
          <p:cNvPicPr/>
          <p:nvPr/>
        </p:nvPicPr>
        <p:blipFill>
          <a:blip r:embed="rId2"/>
          <a:stretch/>
        </p:blipFill>
        <p:spPr>
          <a:xfrm>
            <a:off x="203040" y="2057400"/>
            <a:ext cx="3530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История создания повести </a:t>
            </a:r>
            <a:br>
              <a:rPr sz="3600"/>
            </a:b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«Леди Макбет Мценского уезда»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95680" y="13712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а в 1864 г. в Киеве в начале творческого пути Н.С.Лескова. Впервые напечатана в 1865 году в журнале «Эпоха», издаваемом братьями Ф. и М. Достоевскими, под названием «Леди Макбет нашего уезда». Имеет подзаголовок – «очерк». Писатель всегда настаивал на особом значении для его творчества факта, реального происшествия, от которого могло бы оттолкнуться воображение: «Я всегда люблю основывать дело на живом событии, а не на вымысл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Чуть жизни ты подашь пример кровав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Она тебе такой же даст у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Ты в кубок яду льёшь, а справедлив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односит этот яд к твоим губ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У. Шекспир «Макбе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Цели и задачи Мастерской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ть русскую драму, созревшую на почве косного, неподвижного б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ть крестный путь лесковской герои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сложность, неоднозначность народной души, непостижимость поведения простого человека с точки зрения разу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внить судьбы Катерины Кабановой и Катерины Измайлов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ься в том, что за любым преступлением неизбежно следует наказ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1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 чем ассоциируется у вас жизнь Катерины Львов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купеческом «тереме»? (глава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_15-ledi_makb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2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зарождается любов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изображено автором захватившее героиню чувство? (глава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08-03-12T09:10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