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656-3D69-416F-AD1E-E4D8D2E1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340-1D93-459E-8681-3C684CA0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C87-5915-4F77-8835-DD00AF78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E4D-F3FC-49AF-B43B-5FE0C010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B4BD-C602-4AEE-B44B-5CB25E34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084-C43F-453D-8FAB-81DACCBC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0485-7B49-43D3-9DB9-AA9C3A3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448E-2E54-46BE-9BE4-7D8F4F13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C95B-A9C1-49A5-922A-DC64B329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E919-76F7-45D6-95AE-FA35C99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AD6-D047-49EC-BE1D-1C2EF8B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0A6-1802-4BD6-8EBD-0A119968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0EF8-9D48-44DE-BBBA-29D334BF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0FE4-4D4A-412E-8B9A-4C9599E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C11E-4376-450E-A5ED-285E54A1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ED3E-150A-44EC-9A0E-FB0CA012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6939-11D7-4864-85AC-CC3EDF9F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13D-6740-4EDB-9702-0F2B489D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68D-D401-4A45-BBC9-E150D4AC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48A-47DA-44F3-BA54-F6BD123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CC0-819F-455F-929A-2E93AA68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579-6CF3-47EE-A0BD-4D88FAE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A6F-5298-41BA-9064-5B9D7ED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DA7-D7D9-46B6-A124-2754599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0E5E-B912-4870-9428-522044EC57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534-4269-44FD-AB52-500A5600A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дагогическая технология «Школа социализаци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«Афишировани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вешивание произведений работ учащихся (текстов, рисунков, схем, проектов) в классе и ознакомление с ними. Представление результатов работы групп. Постановка вопросов друг другу по поводу выполненных задани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«Разры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осознание участников Мастерской неполноты или несоответствия своего прежнего знания новому. Фиксация внимания участников на возникших познавательных противоречиях. Организация работы учащихся в группах с источниками информации, позволяющими разрешить возникшие противо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«Рефлексия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ициация и активизация рефлексии учащихся по поводу индивидуальной и совмест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 по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Ерёмина Т.Я. Мастерские по литературе. 10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Ерёмина Т.Я. Мастерские по литературе. 11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разрушительный процесс, который происходит в душе главной героини по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понятия : «лейтмотив», «натуральная школа», «контра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наружить ряд сюжетных параллелей в драме А.Н.Островского «Гроза» и в повести Н.С.Лескова «Леди Макбет Мценского уезда» и на основе их сравнить характеры двух героин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ратить внимание на своеобразие развязки сю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казать актуальность п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формировать готовность к социальному взаимо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звивать устную речь, творчески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чить представлять и цивилизованно отстаивать свою точку зрения и мнение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пособствовать умению анализировать нестандартные ситуации и соотносить их с устремлениям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метить актуальность повести (отказ от новорождённого младенца; превращение свободы, не знающей нравственных ограничений, в свою противополож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крыть нравственную непросветвлённость чувства Катерины Измайловой, толкающего её на страшные преступ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по повести Н.С.Лескова «Леди Макбет Мценского уез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ишневская И. Великое инакомыслие. // Комсомольская правда. - 16 февраля 199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Лебедев Ю.В.Николай Семёнович Лесков // Литература в школе. – 2000. -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ярова И.В. В поисках идеала (Творчество Н.С.Лескова). Л.,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амбрина Н.С.Лесков. «Леди Макбет Мценского уезда».10 класс. // Литература в школе. – 2008. - №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Чередникова М.П. Открытие Лескова // Литература в школе.  1991. – №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ория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мастерская» появилось в отечественной педагогике в начале 90-х годов 20 в. как термин французской группы «Новое образование». У истоков этой системы обучения стояли знаменитые психологи  Поль Ланжеван, Анри Валлон, Жан Пиаж. Слово это обозначает новый тип занятия, основанный на гуманистической филосо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 технологию называют не «французскими», а  «петербургскими педагогическими мастерск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ределение и цели Мастерско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кая - педагогическая технология, которая по своей специфике основывается на тех целях, использует те средства образования и воспитания, которые стратегией модернизации образования отмечаются как важней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: ученик должен действовать автономно и рефлексивно; использовать различные средства интерактивно; входить в социально-гетерогенные группы и функционировать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евая ориентация заключается в том, чтобы предоставить обучающимся средства, позволяющие им личностно саморазвиваться, осознавать самих себя и свое место в мире, понимать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ипы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стро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 само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обенност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текстом на мастерских позволяет школьный анализ произведения представить как лично и общественно (для группы или класса) значим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терская включает в себя ряд заданий для учащихся, которые способствуют определенному движению в предметном плане. Внутри каждого задания школьники свободны в выборе способов выполнения. Позиция учителя состоит в консультировании учащихся, помощи им в организации учебной работы и осмыслении осваиваемых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«Индукция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эмоционального настроя, включение чувств ученика, создание личного отношения к предмету обсужде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«Самоконструкция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ндивидуальное создание гипотезы, решения, текста, рисунка,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0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«Социоконстру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учащихся в групп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«Социализ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ъявление созданного продукта всем участникам, соединение индивидуаль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27:42Z</dcterms:created>
  <dc:creator>777</dc:creator>
  <dc:description/>
  <dc:language>en-US</dc:language>
  <cp:lastModifiedBy>777</cp:lastModifiedBy>
  <dcterms:modified xsi:type="dcterms:W3CDTF">2010-08-24T05:18:38Z</dcterms:modified>
  <cp:revision>11</cp:revision>
  <dc:subject/>
  <dc:title>Технология «Школа социализации»</dc:title>
</cp:coreProperties>
</file>