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5138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F52D-4AC4-4609-8B5B-D0B24BA4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FDB-D309-47E0-8BD2-937A305F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C6B7-0580-43EB-A1A0-62A2E61C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5255-0D6D-4FCC-86E1-F3B10CF6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AEAB-F68E-4889-8517-D3F3CD23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9698-6C5C-42BD-9337-DAA1ED2F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2C6F-31B9-4282-9F5B-252533E1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F471-0DDE-4165-BC25-455E243C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5524-EAAC-4616-9B4C-7DAD05E2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F34E-75A7-45D7-AC70-A4C6ADE5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8A2B-8BED-4861-962D-532C8D6B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DA28-7DA4-41E1-A9F8-3D20B08A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57CD-C714-483A-A540-04C4ABC3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000C-71EA-4C2E-B50B-FE9AADC1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1AB0-963E-4E78-98BB-9BCFEE46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2AB9-336C-4926-8E3E-E1F7ACE3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BCCE-FE7F-4916-A0E6-AD73C2C7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6436-2845-4CE2-B704-0D06C62B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939-C896-4CCA-B8EA-0743A27D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74C5-2063-43CA-B759-CC1568F2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5A0-A300-4D1E-B20D-C233F68B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210-6155-40BF-A3BF-E1232539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412-E818-4B6B-B77E-936BE629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33BF-D906-4383-8973-5419F217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2160-3164-43F4-B6A8-93EBF90DEEA3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99" name="Group 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100" name="Group 4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101" name="Line 5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6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7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8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Line 9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10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11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12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Group 13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110" name="Group 14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111" name="Line 15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Line 16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Line 17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Line 18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Line 19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Line 20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Line 21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Line 22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Group 23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120" name="Line 24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Line 25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Line 26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Line 27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Line 28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Line 29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30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Line 31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Group 32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129" name="Line 33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Line 34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Line 35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36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Line 37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8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Line 39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Line 40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41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138" name="Line 42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Line 43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44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Line 45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Line 46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Line 47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Line 48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Line 49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Group 5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147" name="Group 51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148" name="Line 52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Line 53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Line 54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Line 55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Line 56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Line 57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Line 58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Line 59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Group 60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157" name="Line 61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Line 62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Line 63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Line 64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Line 65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Line 66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Line 67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Line 68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Group 69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166" name="Line 70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Line 71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Line 72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Line 73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Line 74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Line 75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76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Line 77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Group 78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175" name="Line 79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Line 80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Line 81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Line 82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Line 83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Line 84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Line 85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Line 86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Group 87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184" name="Group 88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185" name="Line 89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Line 90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Line 91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Line 92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Line 93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Line 94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Line 95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Line 96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97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194" name="Line 98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Line 99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00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101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Line 102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Line 103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Line 104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Line 105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Group 106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203" name="Line 107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Line 108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Line 109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Line 110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Line 111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Line 112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Line 113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Line 114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Group 115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212" name="Line 116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Line 117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118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119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Line 120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Line 121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122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123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Group 124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221" name="Group 125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222" name="Line 126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Line 127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Line 128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Line 129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Line 130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Line 131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Line 132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Line 133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Group 134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231" name="Line 135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Line 136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137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Line 138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Line 139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Line 140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Line 141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Line 142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Group 143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240" name="Line 144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Line 145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146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Line 147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Line 148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Line 149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Line 150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Line 151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Group 152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249" name="Line 153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Line 154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Line 155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Line 156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Line 157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Line 158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Line 159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Line 160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Group 161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258" name="Group 162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259" name="Line 163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Line 164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Line 165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Line 166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Line 167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Line 168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Line 169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Line 170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171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268" name="Line 172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Line 173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Line 174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Line 175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Line 176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Line 177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Line 178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Line 179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180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277" name="Line 181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Line 182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Line 183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Line 184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Line 185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Line 186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Line 187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188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189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286" name="Line 190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Line 191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Line 192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Line 193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Line 194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Line 195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Line 196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Line 197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198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295" name="Line 199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200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01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02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03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204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205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06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207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08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209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Group 210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307" name="Rectangle 211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Rectangle 212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Rectangle 213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214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Rectangle 215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216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313" name="Group 217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314" name="Rectangle 218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219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220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317" name="Rectangle 221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222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Group 223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320" name="Rectangle 224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Rectangle 225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226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323" name="Rectangle 227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Rectangle 228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229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326" name="Rectangle 230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Rectangle 231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232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329" name="Rectangle 233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Rectangle 234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235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332" name="Rectangle 236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Rectangle 237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238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335" name="Rectangle 239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240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37" name="Picture 246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3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13F7-2BEE-4D1B-B3A7-D6054ADCB910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55;&#1086;&#1083;&#1086;&#1078;&#1077;&#1085;&#1080;&#1077;%20&#1086;%20&#1084;&#1077;&#1090;&#1086;&#1076;&#1080;&#1095;&#1077;&#1089;&#1082;&#1086;&#1084;%20&#1072;&#1091;&#1076;&#1080;&#1090;&#1077;.doc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55;&#1086;&#1103;&#1089;&#1085;&#1077;&#1085;&#1080;&#1077;_&#1082;_&#1072;&#1091;&#1076;&#1080;&#1090;&#1091;_&#1087;&#1086;_&#1080;&#1085;&#1092;&#1086;&#1088;&#1084;&#1072;&#1090;&#1080;&#1079;&#1072;&#1094;&#1080;&#1080;.doc" TargetMode="External"/><Relationship Id="rId3" Type="http://schemas.openxmlformats.org/officeDocument/2006/relationships/image" Target="../media/image1.png"/><Relationship Id="rId4" Type="http://schemas.openxmlformats.org/officeDocument/2006/relationships/hyperlink" Target="file:///&#1047;&#1072;&#1103;&#1074;&#1082;&#1072;%20&#1085;&#1072;%20&#1087;&#1088;&#1086;&#1074;&#1077;&#1076;&#1077;&#1085;&#1080;&#1077;%20&#1084;&#1077;&#1090;&#1086;&#1076;&#1080;&#1095;&#1077;&#1089;&#1082;&#1086;&#1075;&#1086;%20&#1072;&#1091;&#1076;&#1080;&#1090;&#1072;.doc" TargetMode="External"/><Relationship Id="rId5" Type="http://schemas.openxmlformats.org/officeDocument/2006/relationships/image" Target="../media/image1.png"/><Relationship Id="rId6" Type="http://schemas.openxmlformats.org/officeDocument/2006/relationships/hyperlink" Target="file:///&#1074;&#1086;&#1087;&#1088;&#1086;&#1089;&#1099;_&#1076;&#1083;&#1103;_&#1054;&#1059;.doc" TargetMode="External"/><Relationship Id="rId7" Type="http://schemas.openxmlformats.org/officeDocument/2006/relationships/hyperlink" Target="file:///&#1074;&#1086;&#1087;&#1088;&#1086;&#1089;&#1099;_&#1076;&#1083;&#1103;_&#1054;&#1059;.doc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&#1048;&#1085;&#1092;&#1086;&#1088;&#1084;&#1072;&#1094;&#1080;&#1086;&#1085;&#1085;&#1072;&#1103;%20&#1082;&#1072;&#1088;&#1090;&#1072;%20&#1087;&#1086;%20&#1080;&#1085;&#1092;&#1086;&#1088;&#1084;&#1072;&#1090;&#1080;&#1079;&#1072;&#1094;&#1080;&#1080;%20&#1086;&#1073;&#1088;&#1072;&#1079;&#1086;&#1074;&#1072;&#1090;&#1077;&#1083;&#1100;&#1085;&#1086;&#1075;&#1086;%20&#1091;&#1095;&#1088;&#1077;&#1078;&#1076;&#1077;&#1085;&#1080;&#1103;.docx" TargetMode="External"/><Relationship Id="rId10" Type="http://schemas.openxmlformats.org/officeDocument/2006/relationships/image" Target="../media/image1.png"/><Relationship Id="rId11" Type="http://schemas.openxmlformats.org/officeDocument/2006/relationships/hyperlink" Target="file:///&#1072;&#1085;&#1082;&#1077;&#1090;&#1072;_&#1076;&#1083;&#1103;_&#1096;&#1082;&#1086;&#1083;&#1100;&#1085;&#1080;&#1082;&#1086;&#1074;_2010.doc" TargetMode="External"/><Relationship Id="rId12" Type="http://schemas.openxmlformats.org/officeDocument/2006/relationships/image" Target="../media/image1.png"/><Relationship Id="rId13" Type="http://schemas.openxmlformats.org/officeDocument/2006/relationships/hyperlink" Target="file:///&#1072;&#1085;&#1082;&#1077;&#1090;&#1072;_&#1048;&#1050;&#1058;_2010.doc" TargetMode="External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1AF5-F977-4F09-8C11-AC2D65A8A404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1760" y="297180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Методический аудит как способ поддержки педагогов в освоении новых образовательных технологий</a:t>
            </a:r>
            <a:br>
              <a:rPr sz="3000"/>
            </a:b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82" name="Picture 3" descr="emblem"/>
          <p:cNvPicPr/>
          <p:nvPr/>
        </p:nvPicPr>
        <p:blipFill>
          <a:blip r:embed="rId1"/>
          <a:stretch/>
        </p:blipFill>
        <p:spPr>
          <a:xfrm>
            <a:off x="685800" y="762120"/>
            <a:ext cx="2438280" cy="198108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4000680" y="5357880"/>
            <a:ext cx="48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©</a:t>
            </a: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Шувалова Светлана Олеговн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4" name="TextBox 5"/>
          <p:cNvSpPr/>
          <p:nvPr/>
        </p:nvSpPr>
        <p:spPr>
          <a:xfrm>
            <a:off x="3286080" y="928800"/>
            <a:ext cx="521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Муниципальное образовательное учреждение дополнительного профессионального образования (повышения квалификации) специалистов «Информационно-образовательный Центр»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66E2-C841-4F95-B7EF-12F2AF754CE9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142920" y="642960"/>
            <a:ext cx="85075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Методический аудит как услуга (2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457200" y="1600200"/>
            <a:ext cx="86868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Создание условий для оказания услуги (разработка методических рекомендаций, экспертных листов, подготовка информационного письма и т.п.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еханизм продвижения услуги (выбор темы в соответствии с ранее осуществлённым методическим обеспечением нововведением, мотивация на освоение новых практик и т.п.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17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7E61-392D-4A0A-B82A-B80C45E803F0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285840" y="571680"/>
            <a:ext cx="84358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Методический аудит как услуга (3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Реклама услуги (предварительное ИМС, приглашение к расширению круга субъектов аудита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Реализация услуги (конкретная практика методических аудитов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ониторинг процесса обслуживания (качество исполнения услуги, удовлетворённость, выполнение программы аудита и т.п.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Принципы взаимодействия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Целенаправлен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бъектив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Доброволь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Доверитель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Конфиденциаль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гностичность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AFD9-F0F7-42B6-9B0B-9AD1F147C26C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Условия успешности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Формирование инициативной позиции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ткрытость  (готовность к критике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Высокий уровень профессионализма аудитор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7333-B321-428F-9F5B-61EC75CC9268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62B1-5D50-4FF1-BBAC-1B2E1CE644F6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4" name="Заголовок 1"/>
          <p:cNvSpPr/>
          <p:nvPr/>
        </p:nvSpPr>
        <p:spPr>
          <a:xfrm>
            <a:off x="428760" y="571680"/>
            <a:ext cx="82296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Организация методического аудит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5" name="Содержимое 2"/>
          <p:cNvSpPr/>
          <p:nvPr/>
        </p:nvSpPr>
        <p:spPr>
          <a:xfrm>
            <a:off x="457200" y="1285920"/>
            <a:ext cx="822960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Положение о методическом аудите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Заявка (заказ-заявка, заказ-план) на методический аудит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етодические рекомендации по проведению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Экспертный лист аудит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нформационное письмо о проведен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тоговая справк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«Последействие»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D306-022B-4625-BC0D-24E0DDCA50FE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Форма заявки на проведение методического аудит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357120" y="1500120"/>
            <a:ext cx="8425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Заказчик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Исполнитель (служба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Тема аудит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Предмет аудит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Программа аудита (</a:t>
            </a:r>
            <a:r>
              <a:rPr b="0" i="1" lang="ru-RU" sz="2400" spc="-1" strike="noStrike">
                <a:solidFill>
                  <a:srgbClr val="404176"/>
                </a:solidFill>
                <a:latin typeface="Arial"/>
              </a:rPr>
              <a:t>в том числе возможно указать  критерии оценки качества её исполнения</a:t>
            </a: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Форма взаимодействия, лица для контактов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Обеспечение доступа к материалам и процессам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Требования к итоговому результату (продукту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Необходимый набор качеств эксперта-аудитор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Предпочтительный список экспертов-аудиторов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Форма взаимной ответственност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Желаемый срок проведения аудит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29E5-B456-4824-A231-9264AA88E065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0" name="Заголовок 1"/>
          <p:cNvSpPr/>
          <p:nvPr/>
        </p:nvSpPr>
        <p:spPr>
          <a:xfrm>
            <a:off x="142920" y="357120"/>
            <a:ext cx="8786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Пример. Методический аудит теме «Освоение и внедрение в практику работы информационно-коммуникационных технологий»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1" name="Содержимое 2"/>
          <p:cNvSpPr/>
          <p:nvPr/>
        </p:nvSpPr>
        <p:spPr>
          <a:xfrm>
            <a:off x="428760" y="1714680"/>
            <a:ext cx="8472240" cy="37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Информационное письмо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4"/>
              </a:rPr>
              <a:t>Заявк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6"/>
              </a:rPr>
              <a:t>Экспертный </a:t>
            </a: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7"/>
              </a:rPr>
              <a:t>лист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9"/>
              </a:rPr>
              <a:t>Информационная карта по информатизации образовательного учреждения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11"/>
              </a:rPr>
              <a:t>Вопросы для школьников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13"/>
              </a:rPr>
              <a:t>Анкета для педагог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«Последействие»: справка по итогам аудита, информационно-методическое совещание, конкретная методическая помощь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89A3-29E6-4199-B36B-616702EAD66E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42876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Применение  итогов методического аудит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Диагностика запросов на методические услуг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Определение тематики семинаров (выявленный опыт, выявленные дефицит)  в будущем плане работы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Выявление уровня освоения и применения знаний и умений по итогам методического обслуживания;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Определение тем наиболее востребованных консультаций по выявленным проблемам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Разработка образовательных программ для педагогов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Создание методических продуктов (рекомендаций, инструкций, методических пособий и т.п.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1424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Требования к профессиональной компетенции современного  учителя</a:t>
            </a:r>
            <a:br>
              <a:rPr sz="2400"/>
            </a:br>
            <a:r>
              <a:rPr b="0" lang="ru-RU" sz="4400" spc="-1" strike="noStrike">
                <a:solidFill>
                  <a:srgbClr val="006666"/>
                </a:solidFill>
                <a:latin typeface="Arial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404176"/>
                </a:solidFill>
                <a:latin typeface="Arial"/>
                <a:ea typeface="Times New Roman"/>
              </a:rPr>
              <a:t>(Из стандарта высшего</a:t>
            </a:r>
            <a:br>
              <a:rPr sz="1800"/>
            </a:br>
            <a:r>
              <a:rPr b="0" lang="ru-RU" sz="1800" spc="-1" strike="noStrike">
                <a:solidFill>
                  <a:srgbClr val="404176"/>
                </a:solidFill>
                <a:latin typeface="Arial"/>
                <a:ea typeface="Times New Roman"/>
              </a:rPr>
              <a:t>                                                 педагогического образования)</a:t>
            </a:r>
            <a:br>
              <a:rPr sz="2400"/>
            </a:b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5800" y="2714760"/>
            <a:ext cx="7772400" cy="33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Arial"/>
              </a:rPr>
              <a:t>специалист должен обладать системой фундаментальных знаний    о проектировании образовательных систем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Arial"/>
              </a:rPr>
              <a:t>владеть технологией конструирования учебного процесс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5891-EB53-4B46-A3A1-63E7491DABC2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Формы дополнительного образования педагогов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Традиционные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Лекци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актикум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Семинар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Консультаци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ткрытые урок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Групповая дискусси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астер-класс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другие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Инновационные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етодический аудит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сследовательское интервью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митационные игр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Номер слайда 6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CB8A-5ECC-48A6-A3B9-D16917EF9D95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78C7-39AF-402E-9A10-040004D77906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428760" y="78588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Педагогический аудит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428760" y="182232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404176"/>
                </a:solidFill>
                <a:latin typeface="Arial"/>
              </a:rPr>
              <a:t>форма экспертирования, которая является процессом исследования деятельности образовательного учреждения научно-общественным сообществом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383ad"/>
                </a:solidFill>
                <a:latin typeface="Arial"/>
              </a:rPr>
              <a:t>Термин «педагогический аудит»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383ad"/>
                </a:solidFill>
                <a:latin typeface="Arial"/>
              </a:rPr>
              <a:t>ввел профессор  М. Богуславский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Методический аудит </a:t>
            </a:r>
            <a:r>
              <a:rPr b="0" lang="ru-RU" sz="2800" spc="-1" strike="noStrike">
                <a:solidFill>
                  <a:srgbClr val="404176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 разновидность педагогического аудита, как особая форма экспертизы, являющаяся исследованием проблем методической деятельности образовательного учреждения и осуществляемая совместно с представителями образовательного учреждения</a:t>
            </a:r>
            <a:br>
              <a:rPr sz="2800"/>
            </a:b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8" name="Номер слайда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01DB-8BB1-4F96-A0E8-71DEE6BC82B3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Характеристики методического аудита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цесс исследования методической составляющей в деятельности педагогов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Совместная рефлексия образовательных событий на основе заказ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Вынесение оценочных суждений и прогноза изменений практик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казание методического сервиса по совершенствованию профессиональной квалификации педагог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0FA5-2572-439F-BBFB-F03BCC0F745B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Функции методического аудита 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Экспертно-аналитическа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нформационная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бучающая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Консультирующа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ектировочная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гностическая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Корректирующая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Развивающа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43FA-7F53-4D31-AEE3-BB47CA12EF51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B754-80A8-48C6-9485-51EF6AC7157B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406" name="Group 2"/>
          <p:cNvGrpSpPr/>
          <p:nvPr/>
        </p:nvGrpSpPr>
        <p:grpSpPr>
          <a:xfrm>
            <a:off x="713880" y="571680"/>
            <a:ext cx="8001360" cy="6000120"/>
            <a:chOff x="713880" y="571680"/>
            <a:chExt cx="8001360" cy="6000120"/>
          </a:xfrm>
        </p:grpSpPr>
        <p:sp>
          <p:nvSpPr>
            <p:cNvPr id="407" name="Rectangle 3"/>
            <p:cNvSpPr/>
            <p:nvPr/>
          </p:nvSpPr>
          <p:spPr>
            <a:xfrm>
              <a:off x="2409480" y="571680"/>
              <a:ext cx="4221000" cy="63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6600"/>
                  </a:solidFill>
                  <a:latin typeface="Times New Roman"/>
                </a:rPr>
                <a:t>Методический аудит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8" name="Rectangle 4"/>
            <p:cNvSpPr/>
            <p:nvPr/>
          </p:nvSpPr>
          <p:spPr>
            <a:xfrm>
              <a:off x="852480" y="1707480"/>
              <a:ext cx="333000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6600"/>
                  </a:solidFill>
                  <a:latin typeface="Times New Roman"/>
                </a:rPr>
                <a:t>Внутренний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9" name="Rectangle 5"/>
            <p:cNvSpPr/>
            <p:nvPr/>
          </p:nvSpPr>
          <p:spPr>
            <a:xfrm>
              <a:off x="4848840" y="1707480"/>
              <a:ext cx="386640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6600"/>
                  </a:solidFill>
                  <a:latin typeface="Times New Roman"/>
                </a:rPr>
                <a:t>Внешний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0" name="Rectangle 6"/>
            <p:cNvSpPr/>
            <p:nvPr/>
          </p:nvSpPr>
          <p:spPr>
            <a:xfrm>
              <a:off x="1779120" y="2665440"/>
              <a:ext cx="2403360" cy="63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- администратор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1" name="Rectangle 7"/>
            <p:cNvSpPr/>
            <p:nvPr/>
          </p:nvSpPr>
          <p:spPr>
            <a:xfrm>
              <a:off x="1779120" y="3610080"/>
              <a:ext cx="240336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- педагог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2" name="Rectangle 8"/>
            <p:cNvSpPr/>
            <p:nvPr/>
          </p:nvSpPr>
          <p:spPr>
            <a:xfrm>
              <a:off x="6311520" y="2665440"/>
              <a:ext cx="2403360" cy="63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- администратор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3" name="Rectangle 9"/>
            <p:cNvSpPr/>
            <p:nvPr/>
          </p:nvSpPr>
          <p:spPr>
            <a:xfrm>
              <a:off x="6311520" y="3673800"/>
              <a:ext cx="240336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- педагог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4" name="Rectangle 10"/>
            <p:cNvSpPr/>
            <p:nvPr/>
          </p:nvSpPr>
          <p:spPr>
            <a:xfrm>
              <a:off x="6286320" y="4857480"/>
              <a:ext cx="2403360" cy="638280"/>
            </a:xfrm>
            <a:prstGeom prst="rect">
              <a:avLst/>
            </a:prstGeom>
            <a:solidFill>
              <a:srgbClr val="c5c5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– методист ММС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5" name="Rectangle 11"/>
            <p:cNvSpPr/>
            <p:nvPr/>
          </p:nvSpPr>
          <p:spPr>
            <a:xfrm>
              <a:off x="6311520" y="5933520"/>
              <a:ext cx="240336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– автор технологии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cxnSp>
          <p:nvCxnSpPr>
            <p:cNvPr id="416" name="AutoShape 12"/>
            <p:cNvCxnSpPr/>
            <p:nvPr/>
          </p:nvCxnSpPr>
          <p:spPr>
            <a:xfrm flipH="1">
              <a:off x="2668680" y="1209240"/>
              <a:ext cx="1514160" cy="498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7" name="AutoShape 13"/>
            <p:cNvCxnSpPr/>
            <p:nvPr/>
          </p:nvCxnSpPr>
          <p:spPr>
            <a:xfrm>
              <a:off x="4632480" y="1209240"/>
              <a:ext cx="1280880" cy="498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8" name="AutoShape 14"/>
            <p:cNvCxnSpPr/>
            <p:nvPr/>
          </p:nvCxnSpPr>
          <p:spPr>
            <a:xfrm flipH="1">
              <a:off x="713880" y="2077560"/>
              <a:ext cx="13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9" name="AutoShape 15"/>
            <p:cNvCxnSpPr/>
            <p:nvPr/>
          </p:nvCxnSpPr>
          <p:spPr>
            <a:xfrm>
              <a:off x="713880" y="2077560"/>
              <a:ext cx="1080" cy="187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0" name="AutoShape 16"/>
            <p:cNvCxnSpPr/>
            <p:nvPr/>
          </p:nvCxnSpPr>
          <p:spPr>
            <a:xfrm>
              <a:off x="714240" y="2958480"/>
              <a:ext cx="1065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1" name="AutoShape 17"/>
            <p:cNvCxnSpPr/>
            <p:nvPr/>
          </p:nvCxnSpPr>
          <p:spPr>
            <a:xfrm>
              <a:off x="714240" y="3954240"/>
              <a:ext cx="1065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2" name="AutoShape 18"/>
            <p:cNvCxnSpPr/>
            <p:nvPr/>
          </p:nvCxnSpPr>
          <p:spPr>
            <a:xfrm>
              <a:off x="4727880" y="1988640"/>
              <a:ext cx="121680" cy="1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3" name="AutoShape 19"/>
            <p:cNvCxnSpPr/>
            <p:nvPr/>
          </p:nvCxnSpPr>
          <p:spPr>
            <a:xfrm>
              <a:off x="4727520" y="2001600"/>
              <a:ext cx="52200" cy="420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4" name="AutoShape 20"/>
            <p:cNvCxnSpPr/>
            <p:nvPr/>
          </p:nvCxnSpPr>
          <p:spPr>
            <a:xfrm>
              <a:off x="4779360" y="2958480"/>
              <a:ext cx="1532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5" name="AutoShape 21"/>
            <p:cNvCxnSpPr/>
            <p:nvPr/>
          </p:nvCxnSpPr>
          <p:spPr>
            <a:xfrm>
              <a:off x="4727520" y="3954240"/>
              <a:ext cx="1584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6" name="AutoShape 22"/>
            <p:cNvCxnSpPr/>
            <p:nvPr/>
          </p:nvCxnSpPr>
          <p:spPr>
            <a:xfrm>
              <a:off x="4779360" y="5116320"/>
              <a:ext cx="1532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7" name="AutoShape 23"/>
            <p:cNvCxnSpPr/>
            <p:nvPr/>
          </p:nvCxnSpPr>
          <p:spPr>
            <a:xfrm>
              <a:off x="4779360" y="6201720"/>
              <a:ext cx="1532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BFA3-5CEA-44C5-9EC9-B7DB46D7A54A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285840" y="428760"/>
            <a:ext cx="843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Методический аудит как услуга (1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гноз перечня востребованных тем методического аудита (инициатива специалиста МОУ ДПО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зучение запроса (реестр предложений, заказ-заявка от ОУ, заказ-план от департамента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Формирование концепции услуги (глоссарий, описание процедуры, локальный акт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17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08:57:43Z</dcterms:created>
  <dc:creator>admin</dc:creator>
  <dc:description/>
  <dc:language>en-US</dc:language>
  <cp:lastModifiedBy>Пользователь</cp:lastModifiedBy>
  <dcterms:modified xsi:type="dcterms:W3CDTF">2010-08-25T05:52:18Z</dcterms:modified>
  <cp:revision>242</cp:revision>
  <dc:subject/>
  <dc:title>Слайд 1</dc:title>
</cp:coreProperties>
</file>