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0CF-D915-494C-8586-3973B456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EBC-2082-46FF-ACB3-7A423D1C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3B91-8353-4908-BE2F-6D5D965F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0AA-FDF5-428E-A1FF-D76CC029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E08D-53E2-4CF5-85AA-C2DF34CC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1C6F-4984-478D-B3A5-EB1BF465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45C3-8452-4FF0-8F38-32345E1D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BE91-5CC4-4295-A697-78E71441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BDE8-BC57-4E2B-B9D9-055002B9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78E4-FCD6-4331-B797-43EFD1EA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9B40-984F-4FB6-8609-6FA45DEF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1F5-FA36-49E7-AF28-FC29E9BE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A9ED-1E0E-4637-84FE-7AAEF0ED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295E-7FED-4995-8A51-7EE1688E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F756-0192-4F65-BBF3-58783504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EAD9-6AA7-418E-8329-E0C50642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D693-260A-4318-AC32-E7584B1F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FFC20-4EAB-4D31-9D22-34A438F5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AB3C0-8418-46D6-8499-F44CFE97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772AB-ED7A-4C80-BD2E-0CFFBFE1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19CF5-FE4C-4D7E-A7C2-81D6E3E3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D471-3F7E-4A72-BC20-35C25D2E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94CB-2E4B-4EB2-B60E-7953B8D1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1A92F-C09D-4A94-8825-8FA44CB5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1F549-D446-47FB-94D7-11A80CE7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1382A-465D-49C2-81AA-DE6F2505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F823F-8FAC-4D12-A0A6-E19F12D4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3378C-3B50-4F6E-84E5-F7931E54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F9C4E-7727-4278-BFFF-1641C171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29A2D-A5C3-4E38-8845-45D266FC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00A1E-4FBB-48F5-A9A6-B5712FCE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79238-480A-4159-A98B-D696B3A7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0D433-11BB-4B22-852D-6DB9677E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234-BAD7-48DF-96AA-09C1D834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F6905-87BD-4E8E-B872-AE241CE0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B6F32-C7D3-417E-B985-F8ED7AF0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70AD7-4615-4090-B791-3D030FFE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FA7D6-2693-4416-B384-0ABF90EF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641BF-31D6-44C1-894A-16A5ABFF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EDDC5-88D8-4B03-9390-A3387DA2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76CBC-6D1C-45BA-864C-2E360FD7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BFF0E-E237-4E5C-AD47-DE695EB1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9D101-0750-4C85-8F2B-7D6678CE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E24A1-2080-42E7-BF3D-C0949F8C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8A6-0BCF-4274-BF72-0CFA1BA4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3497F-63D2-4EFB-A0FB-C5FEBE87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5DC31-A203-4ED6-9E28-D7E6723C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32B26-8E12-4915-AF05-9011E087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0DE89-4191-4228-82F5-790C743A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CB570-724D-4389-9FDB-3ACD98C1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7FBC3-C674-47A4-9B45-A482EA03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51C31-0383-4E2B-9FB4-1FDD59AF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D69E5-2BB1-490E-8E69-890F49EC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C7099-1CC9-4ECE-A0F4-C62BD15C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97B29-7869-4D63-BA7A-265A0078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B45-3F7D-4614-8B67-BF9B7411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DB882-5CF1-4A22-AAFC-F36B3399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ABA3A-ABAB-48C5-9ABF-942E44F1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C39CD-AA53-44EA-AAAC-95EE9949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45226-1E86-4BE3-949A-ACCB601B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AD2CB-F93D-4FCD-BC49-C72AC9DF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FC8F7-F2A3-4B71-9FA6-7D33C558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CF7BD-6107-4618-A171-A1242977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7B1D5-1F04-4DFA-9C21-C02D6D54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54876-1F22-4891-9C7F-78798104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94273-485D-4822-B0C1-07C61D8A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88E-76E2-465A-81E6-CBFEC78D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DD8ED-9600-4301-A787-8BA4B5A8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51772-9BF3-4D09-9F6E-2ED2F8FB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69FDF-B15B-46A0-9B9D-CAD2A93C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61FB-2DC1-4843-8D9D-EDC36A5B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C19-3B11-4BC5-B2A5-86DDCEEB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2B90-E969-4E07-BC27-3DDEB5D2D2E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8D69-4A45-4458-AF3B-2ACF99397AB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B384-CBF0-46DD-98A1-C71EAF157FA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EF9F-E7FB-4903-82CB-B88C54612A1A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5675-AB55-468B-B812-9D91A9C66BF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7298280" y="6353640"/>
            <a:ext cx="1347480" cy="323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50AC-FBF6-4805-9D27-19F910CF10E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1096920"/>
            <a:ext cx="8364600" cy="1432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ПОДГОТОВКА ДОУ К УЧАСТИЮ В КОНКУРСЕ НА «ЛУЧШЕЕ ОУ» 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94920" y="5157360"/>
            <a:ext cx="7543800" cy="10796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  <a:ea typeface="Tunga"/>
              </a:rPr>
              <a:t>17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unga"/>
              </a:rPr>
              <a:t>.09.2012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unga"/>
              </a:rPr>
              <a:t>КУПРИЯНОВА Г.В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4" descr="C:\Program Files\Common Files\Microsoft Shared\Clipart\cagcat50\BD06663_.WMF"/>
          <p:cNvPicPr/>
          <p:nvPr/>
        </p:nvPicPr>
        <p:blipFill>
          <a:blip r:embed="rId1"/>
          <a:stretch/>
        </p:blipFill>
        <p:spPr>
          <a:xfrm>
            <a:off x="6400800" y="3124080"/>
            <a:ext cx="19288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ИНСТРУМЕНТЫ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Самооценка</a:t>
            </a: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Swot-analiz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Анализ документов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Анализ результатов и достижений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Анализ сильных и слабых сторон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Методы изучения общественного мнения, удовлетворенности участников образовательного процесса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……</a:t>
            </a: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5" name="Picture 4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13372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6"/>
          <p:cNvSpPr/>
          <p:nvPr/>
        </p:nvSpPr>
        <p:spPr>
          <a:xfrm>
            <a:off x="5940360" y="240048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32" h="21600">
                <a:moveTo>
                  <a:pt x="28960" y="3794"/>
                </a:moveTo>
                <a:lnTo>
                  <a:pt x="42973" y="10800"/>
                </a:lnTo>
                <a:lnTo>
                  <a:pt x="28960" y="1780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8229600" y="335268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3794"/>
                </a:moveTo>
                <a:lnTo>
                  <a:pt x="35773" y="10800"/>
                </a:lnTo>
                <a:lnTo>
                  <a:pt x="21760" y="1780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9"/>
          <p:cNvSpPr/>
          <p:nvPr/>
        </p:nvSpPr>
        <p:spPr>
          <a:xfrm>
            <a:off x="7772400" y="38862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68120"/>
            <a:ext cx="8435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ЦЕЛЬ ПРОВЕДЕНИЯ САМООЦЕНКИ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230120" y="1700280"/>
            <a:ext cx="779292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Получить представление о результатах и процессах в образовательном учреждении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Определить точки приложения усилий коллектива (меры по улучшению ситуации)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САМООЦЕНКА В ДО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Адаптированная школьная модель самооценки 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Самооценка по Европейской модели качества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(лидерство, персонал, политика и стратегия, партнерство и ресурсы, процессы, результаты, результаты потребителей,  результаты общества и результаты  основной деятельности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амооценка на основе анализа сильных и слабых сторон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Упрощенная методика самооценки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ШКОЛЬНАЯ МОДЕЛЬ САМООЦЕНК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11 вопросов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Внутри каждого вопроса – 4 части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Оценка в баллах от 1 до 4 (система показателей)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Почему Вы так считаете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Что наиболее улучшилось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Что необходимо улучшать и какие действия для этого надо предпринять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AutoShape 4"/>
          <p:cNvSpPr/>
          <p:nvPr/>
        </p:nvSpPr>
        <p:spPr>
          <a:xfrm>
            <a:off x="7380360" y="22050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СНОВНЫЕ ТРЕБОВАН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30120" y="1052280"/>
            <a:ext cx="77929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9696"/>
                </a:solidFill>
                <a:latin typeface="Franklin Gothic Book"/>
              </a:rPr>
              <a:t>Выводы необходимо доказательно обоснова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9696"/>
                </a:solidFill>
                <a:latin typeface="Franklin Gothic Book"/>
              </a:rPr>
              <a:t>Фокус описания и оценивания – как это влияет на результаты учеников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раткость (объем 10 стр.; не включать очевидно доступные данные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Шкала самооценки от 1 (очень мало) до 4 (превосходно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Franklin Gothic Medium"/>
              </a:rPr>
              <a:t>СПРАВКА-ИНФОРМАЦ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09120" y="981000"/>
            <a:ext cx="80773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азвание ОУ, адрес и особенности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Миссия, цели, приоритеты и механизмы их реализации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Характеристика образовательной среды ОУ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Менеджмент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рофессионализм педколлектива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Взаимодействие ОУ с соцпартнерами, родителями, органами власти, СМИ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езультаты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онкурентные преимущества (2-3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ногонациональный состав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ложный социальный контекст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Традиции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Характеристика контингента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Характеристика состава семей, окружения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Фотоматериалы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тчет по самооценке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НАЗВАНИЕ ОУ, АДРЕС, ОСОБЕННОСТ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3780000" y="328464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84360" y="1752120"/>
            <a:ext cx="3200400" cy="371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Миссия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Цель деятельности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риоритетные направления в деятельности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еречень программ, проектов, планов, обеспечивающих их реализацию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148360" y="1700280"/>
            <a:ext cx="3200400" cy="3757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Выписка из Устава, Программа развития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Проекты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Программы 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Планы 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Фотоматериалы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…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Описание реализации программы развития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МИССИЯ, ЦЕЛИ, ПРИОРИТЕТЫ И МЕХАНИЗМЫ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3890880" y="24922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бразовательная модел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инципы деятельности и ценност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беспечение образовательного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043240" y="1904760"/>
            <a:ext cx="3871800" cy="4647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писание ОМ, схема, рисунок; фрагмент ООП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окументы, фиксирующие (фрагмент Устава, ООП …, рабочая программа, программа воспитания)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Используемые технологии, характеристика условий обучения, данные о психологическом климате в ОУ, фотоматериалы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тчет о самооценке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БРАЗОВАТЕЛЬНАЯ СРЕДА О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4343400" y="1752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истема управления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риоритеты в управлении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Делегирование полномочий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Эффективность управления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723920" y="1052280"/>
            <a:ext cx="4100760" cy="3816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хема, регламент, «Положение об УС»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Управленческие проекты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Документы наделяющие полномочиями в принятии управленческих решений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Отчет о самооценке, данные опроса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МЕНЕДЖМЕН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3809880" y="400536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ЭКСПЕРТИЗА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2" name="Object 7" descr=""/>
          <p:cNvPicPr/>
          <p:nvPr/>
        </p:nvPicPr>
        <p:blipFill>
          <a:blip r:embed="rId1"/>
          <a:stretch/>
        </p:blipFill>
        <p:spPr>
          <a:xfrm>
            <a:off x="249120" y="0"/>
            <a:ext cx="3462480" cy="2895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37644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8" descr="C:\Program Files\Common Files\Microsoft Shared\Clipart\cagcat50\PE03254_.wmf"/>
          <p:cNvPicPr/>
          <p:nvPr/>
        </p:nvPicPr>
        <p:blipFill>
          <a:blip r:embed="rId2"/>
          <a:stretch/>
        </p:blipFill>
        <p:spPr>
          <a:xfrm>
            <a:off x="5486400" y="2133720"/>
            <a:ext cx="3429000" cy="39621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9"/>
          <p:cNvSpPr/>
          <p:nvPr/>
        </p:nvSpPr>
        <p:spPr>
          <a:xfrm>
            <a:off x="304920" y="3048120"/>
            <a:ext cx="4495680" cy="350496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ивность и эффектив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чество ОП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крытость О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ффективность управления О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лияние на развитие МС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8374a"/>
                </a:solidFill>
                <a:latin typeface="Verdana"/>
              </a:rPr>
              <a:t>Практическая значим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8374a"/>
                </a:solidFill>
                <a:latin typeface="Verdana"/>
              </a:rPr>
              <a:t>/Качество презент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адровый потенциал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истема работы с кадрам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езультативность и эффективность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Характеристика кадров (таблицы…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адровая политика, программа (план) развития кадров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тчет о самооценке, динамика роста профессионализма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ПРОФЕССИОНАЛИЗМ КОЛЛЕКТИВ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564000" y="2895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Особенности взаимодействия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истема работы (приоритеты, формы …)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Результативность и эффективность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труктура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Договора, планы. Программы, проекты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Отчет о самооценке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Данные изучения отношения к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Рейтинг ОУ в МСО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убликации в СМИ, отзывы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ВЗАИМОДЕЙСТВИ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3708360" y="2895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Учебные достижения в разных сферах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Психическое, физическое состояние, здоровье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Уровень толерантности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Отчет о самооценке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Данные мониторинга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Таблицы, графики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Фотоматериалы, грамоты, дипломы и т.п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РЕЗУЛЬТАТЫ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4343400" y="251460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ПРИЛОЖЕНИЯ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1. ПРОГРАММА РАЗВИТИЯ О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Механизм целостного развития ОУ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Управленческий инструментарий, направленный на разработку и реализации стратегических целей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Нормативная модель деятельности субъектов по переводу ОУ в новое качественное состояние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Документ, направленный на решение стратегических задач, социального заказа на образование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БЩИЕ ТРЕБОВАН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итерии оценки стратегических документов (А.М. Моисеев)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исьмо ДО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етодические рекомендации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3564000" y="155736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7"/>
          <p:cNvSpPr/>
          <p:nvPr/>
        </p:nvSpPr>
        <p:spPr>
          <a:xfrm>
            <a:off x="5003640" y="2921040"/>
            <a:ext cx="792360" cy="288720"/>
          </a:xfrm>
          <a:custGeom>
            <a:avLst/>
            <a:gdLst>
              <a:gd name="textAreaLeft" fmla="*/ 18720 w 792360"/>
              <a:gd name="textAreaRight" fmla="*/ 773640 w 792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9232" h="21600">
                <a:moveTo>
                  <a:pt x="0" y="0"/>
                </a:moveTo>
                <a:lnTo>
                  <a:pt x="59232" y="0"/>
                </a:lnTo>
                <a:lnTo>
                  <a:pt x="59232" y="21600"/>
                </a:lnTo>
                <a:lnTo>
                  <a:pt x="0" y="21600"/>
                </a:lnTo>
                <a:close/>
              </a:path>
              <a:path fill="lightenLess" w="59232" h="21600">
                <a:moveTo>
                  <a:pt x="0" y="0"/>
                </a:moveTo>
                <a:lnTo>
                  <a:pt x="59232" y="0"/>
                </a:lnTo>
                <a:lnTo>
                  <a:pt x="57832" y="1400"/>
                </a:lnTo>
                <a:lnTo>
                  <a:pt x="1400" y="1400"/>
                </a:lnTo>
                <a:close/>
              </a:path>
              <a:path fill="darken" w="59232" h="21600">
                <a:moveTo>
                  <a:pt x="59232" y="0"/>
                </a:moveTo>
                <a:lnTo>
                  <a:pt x="59232" y="21600"/>
                </a:lnTo>
                <a:lnTo>
                  <a:pt x="57832" y="20200"/>
                </a:lnTo>
                <a:lnTo>
                  <a:pt x="57832" y="1400"/>
                </a:lnTo>
                <a:close/>
              </a:path>
              <a:path fill="darkenLess" w="59232" h="21600">
                <a:moveTo>
                  <a:pt x="59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832" y="20200"/>
                </a:lnTo>
                <a:close/>
              </a:path>
              <a:path fill="lighten" w="59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232" h="21600">
                <a:moveTo>
                  <a:pt x="22609" y="3794"/>
                </a:moveTo>
                <a:lnTo>
                  <a:pt x="36622" y="10800"/>
                </a:lnTo>
                <a:lnTo>
                  <a:pt x="22609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5724360" y="3860640"/>
            <a:ext cx="719280" cy="289080"/>
          </a:xfrm>
          <a:custGeom>
            <a:avLst/>
            <a:gdLst>
              <a:gd name="textAreaLeft" fmla="*/ 18720 w 719280"/>
              <a:gd name="textAreaRight" fmla="*/ 700560 w 719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704" h="21600">
                <a:moveTo>
                  <a:pt x="0" y="0"/>
                </a:moveTo>
                <a:lnTo>
                  <a:pt x="53704" y="0"/>
                </a:lnTo>
                <a:lnTo>
                  <a:pt x="53704" y="21600"/>
                </a:lnTo>
                <a:lnTo>
                  <a:pt x="0" y="21600"/>
                </a:lnTo>
                <a:close/>
              </a:path>
              <a:path fill="lightenLess" w="53704" h="21600">
                <a:moveTo>
                  <a:pt x="0" y="0"/>
                </a:moveTo>
                <a:lnTo>
                  <a:pt x="53704" y="0"/>
                </a:lnTo>
                <a:lnTo>
                  <a:pt x="52304" y="1400"/>
                </a:lnTo>
                <a:lnTo>
                  <a:pt x="1400" y="1400"/>
                </a:lnTo>
                <a:close/>
              </a:path>
              <a:path fill="darken" w="53704" h="21600">
                <a:moveTo>
                  <a:pt x="53704" y="0"/>
                </a:moveTo>
                <a:lnTo>
                  <a:pt x="53704" y="21600"/>
                </a:lnTo>
                <a:lnTo>
                  <a:pt x="52304" y="20200"/>
                </a:lnTo>
                <a:lnTo>
                  <a:pt x="52304" y="1400"/>
                </a:lnTo>
                <a:close/>
              </a:path>
              <a:path fill="darkenLess" w="53704" h="21600">
                <a:moveTo>
                  <a:pt x="53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4" y="20200"/>
                </a:lnTo>
                <a:close/>
              </a:path>
              <a:path fill="lighten" w="53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4" h="21600">
                <a:moveTo>
                  <a:pt x="19846" y="3794"/>
                </a:moveTo>
                <a:lnTo>
                  <a:pt x="33859" y="10800"/>
                </a:lnTo>
                <a:lnTo>
                  <a:pt x="19846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ТРЕБОВАНИЯ К ПРОГРАММАМ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ктуаль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Методическая разработан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рогностичность, реалистич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ациональность, направленность на достижение максимального результата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онтролируемость, чувствительность к сбоям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Целост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езультатив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ПР ОТВЕЧАЕТ НА ТРИ ГЛАВНЫХ ВОПРОСА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23640" y="1981080"/>
            <a:ext cx="8591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Чего достигла наше ОУ сегодня, каковы его сильные и слабые стороны, достижения и проблемы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акой мы хотим видеть наше ОУ и его выпускников через два-три года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Что и как мы сделаем, чтобы ОУ успешно перешло от своего сегодняшнего состояния к желаемому будущему?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ПРОГРАММА РАЗВИТИЯ – ПРОГРАММА ИЗМЕНЕНИЙ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мысл изменений: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достижение нового, востребованного временем качества образования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оздание условий для достижения нового качества образования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упрочение позиции ОУ в образовательном пространстве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др.  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2. ОПИСАНИЕ РЕАЛИЗАЦИИ ПРОГРАММЫ РАЗВИТ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22240" y="1267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Целевая направленность программы и критерии успеха (планируемые целевые показатели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Результаты (промежуточные, итоговые) и свидетельства их достижения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Выводы и перспективы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22240" y="1600200"/>
            <a:ext cx="3200400" cy="32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Эксперт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700520" y="1628280"/>
            <a:ext cx="3200400" cy="3181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оллектив ДОУ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0" name="Picture 4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3492360" y="40464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C:\Program Files\Common Files\Microsoft Shared\Clipart\cagcat50\PE01460_.wmf"/>
          <p:cNvPicPr/>
          <p:nvPr/>
        </p:nvPicPr>
        <p:blipFill>
          <a:blip r:embed="rId2"/>
          <a:stretch/>
        </p:blipFill>
        <p:spPr>
          <a:xfrm>
            <a:off x="533520" y="2514600"/>
            <a:ext cx="2790720" cy="3087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C:\Program Files\Common Files\Microsoft Shared\Clipart\cagcat50\PE01561_.wmf"/>
          <p:cNvPicPr/>
          <p:nvPr/>
        </p:nvPicPr>
        <p:blipFill>
          <a:blip r:embed="rId3"/>
          <a:stretch/>
        </p:blipFill>
        <p:spPr>
          <a:xfrm>
            <a:off x="5334120" y="2895480"/>
            <a:ext cx="3809880" cy="24386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9"/>
          <p:cNvSpPr/>
          <p:nvPr/>
        </p:nvSpPr>
        <p:spPr>
          <a:xfrm>
            <a:off x="1066680" y="5943600"/>
            <a:ext cx="3581640" cy="53352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ожидает увидеть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5257800" y="5943600"/>
            <a:ext cx="3581280" cy="53352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хотят показать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ПИСАНИ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Franklin Gothic Book"/>
              </a:rPr>
              <a:t>Стратегическая цель: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Franklin Gothic Book"/>
              </a:rPr>
              <a:t>Выводы: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0" y="2362320"/>
          <a:ext cx="8610480" cy="3581280"/>
        </p:xfrm>
        <a:graphic>
          <a:graphicData uri="http://schemas.openxmlformats.org/drawingml/2006/table">
            <a:tbl>
              <a:tblPr/>
              <a:tblGrid>
                <a:gridCol w="1371600"/>
                <a:gridCol w="1752480"/>
                <a:gridCol w="1524240"/>
                <a:gridCol w="1828800"/>
                <a:gridCol w="2133360"/>
              </a:tblGrid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У /Ц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зульта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идетель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80640" y="304920"/>
            <a:ext cx="8163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59" name="Object 5"/>
          <p:cNvGraphicFramePr/>
          <p:nvPr/>
        </p:nvGraphicFramePr>
        <p:xfrm>
          <a:off x="357120" y="990720"/>
          <a:ext cx="2712960" cy="220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990720"/>
                    <a:ext cx="271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1" name="Picture 2" descr=""/>
          <p:cNvPicPr/>
          <p:nvPr/>
        </p:nvPicPr>
        <p:blipFill>
          <a:blip r:embed="rId3"/>
          <a:stretch/>
        </p:blipFill>
        <p:spPr>
          <a:xfrm>
            <a:off x="4191120" y="762120"/>
            <a:ext cx="495288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"/>
          <p:cNvPicPr/>
          <p:nvPr/>
        </p:nvPicPr>
        <p:blipFill>
          <a:blip r:embed="rId4"/>
          <a:srcRect l="0" t="17204" r="0" b="0"/>
          <a:stretch/>
        </p:blipFill>
        <p:spPr>
          <a:xfrm>
            <a:off x="304920" y="3886200"/>
            <a:ext cx="7921440" cy="273204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8"/>
          <p:cNvSpPr/>
          <p:nvPr/>
        </p:nvSpPr>
        <p:spPr>
          <a:xfrm>
            <a:off x="533520" y="3429000"/>
            <a:ext cx="8229600" cy="30492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Verdana"/>
              </a:rPr>
              <a:t>Количество обучающихся (%),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Verdana"/>
              </a:rPr>
              <a:t>не подтвердивших освоение програм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716000" y="1052280"/>
            <a:ext cx="39783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Команда ОУ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15 минут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7720" y="2492280"/>
            <a:ext cx="80010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редставление деятельности образовательного учреждения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информирование о реализации программы развития</a:t>
            </a:r>
            <a:r>
              <a:rPr b="1" lang="ru-RU" sz="2200" spc="-1" strike="noStrike">
                <a:solidFill>
                  <a:srgbClr val="000000"/>
                </a:solidFill>
                <a:latin typeface="Times New Roman CYR"/>
              </a:rPr>
              <a:t>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редставлени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зультатов деятельности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ор образовательных программ и достижений детей и педагогического коллектива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 вопросы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ПРЕЗЕНТАЦИЯ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СЦЕНАРИЙ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едставление ОУ и команды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Наши достижения    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ак мы их достигли   (образовательные программы, технологии …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ерспективы (стратегия. Ее реализация и планы на будущее…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КАЧЕСТВО ПРЕЗЕНТАЦИ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андный дух образовательного учреждения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публичной презентаци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 ОУ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дительность выступления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ерский потенциал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презентации представленным материалам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СПАСИБО!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72" name="Picture 3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2971800" y="27432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ак можно больше материалов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спользуем старые заготовки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кцент на 1 вопросе (успех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Избыточность материалов, дублирование («корзина»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Игнорирование правил, отсутствие согласованност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ногое остается за кадром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У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564000" y="620640"/>
            <a:ext cx="1371600" cy="381240"/>
          </a:xfrm>
          <a:prstGeom prst="rightArrow">
            <a:avLst>
              <a:gd name="adj1" fmla="val 50000"/>
              <a:gd name="adj2" fmla="val 89943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ЭКСПЕР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822240" y="1099800"/>
            <a:ext cx="752184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Четкость, конкрет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Структурированность (удобно работать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Конструктивная целостность описания опыта (согласованность частей, обоснованность включения)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Представленность материалов по всем позициям (критериям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Достаточность материалов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1" name="Picture 4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168880" y="0"/>
            <a:ext cx="3975120" cy="14479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5"/>
          <p:cNvSpPr/>
          <p:nvPr/>
        </p:nvSpPr>
        <p:spPr>
          <a:xfrm>
            <a:off x="755640" y="5516640"/>
            <a:ext cx="8001000" cy="60948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уждение о том, что ОУ лучше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Что значит лучшее образовательное учреждение?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5" name="Picture 4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7543800" y="22860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ЛУЧШЕЕ О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125000"/>
            <a:ext cx="8686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Лучше других справляется с заданием (имеет высокие результаты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Созданы условия для самореализации субъектов (насыщенная среда для жизнедеятельности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Комфортная обстановка, сотрудничество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Руководитель – лидер, высокий профуровень педколлектива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Высокий рейтинг ОУ в МСО (имидж «лучшее ОУ»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Открытость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 …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КОНКУРСНАЯ ДОКУМЕНТАЦ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981000"/>
            <a:ext cx="8337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заявк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на участие в конкурсе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тчёт о самооценк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ОУ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справк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-информаци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о результатах и опыте работы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- приложения и дополнительные материалы к справке-информации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*программ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развит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 ОУ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писание реализации программы развит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ОУ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*материалы, раскрывающие инновационный опыт работ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ОУ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*под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борк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убликаций о деятельно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ОУ, ф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тограф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диаграммы, графики, схе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4303800" y="365040"/>
            <a:ext cx="558720" cy="549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821880" y="1100160"/>
            <a:ext cx="778212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Шаги: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зучение положения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тбор материалов и их оценка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пределение дефицитов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Подготовка конкурсной документации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77724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6:43:21Z</dcterms:created>
  <dc:creator>Аноним</dc:creator>
  <dc:description/>
  <dc:language>en-US</dc:language>
  <cp:lastModifiedBy>Галина Валентиновна Куприянова</cp:lastModifiedBy>
  <dcterms:modified xsi:type="dcterms:W3CDTF">2014-09-17T07:36:53Z</dcterms:modified>
  <cp:revision>18</cp:revision>
  <dc:subject/>
  <dc:title>Подготовка ОУ к участию в конкурсе на «Лучшее ОУ» </dc:title>
</cp:coreProperties>
</file>