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E61-1D7A-483E-9F5C-CBBE77CA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E71-EA5E-43A6-B2B6-DE586F95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B9C-6460-4C2C-B85B-80CB3115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EE1-3881-40D0-A8E2-6EE95E3D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1EC-A83E-4308-B254-16B3C328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A09-EBEA-402D-A0F1-67918B9A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2578-C0CE-4AEC-B005-988096B0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40B1-AEF2-4D90-AE23-76912DF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0C09-71D3-4C89-80A7-9DFC891D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4217-8216-4EDF-AA04-27A6A24D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216C-F133-43D4-9CB2-8EB4E59D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EB5-FBDE-4EC3-B8B6-778ADA0D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8057-2D4A-4245-8E98-4134973E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4359-BF6D-4104-90A7-31CAD3D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2B2-2539-4A3C-B0AA-FE1A56E8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9F54-97F5-4A04-81CD-9A7B8659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F606-6C6C-4F98-B7FE-997E988A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A06-745A-44CB-8A05-0E226EBD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50A-23A8-47A8-91EF-6BBB31B7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37D-7370-4DB3-AA66-BA1191FB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4F9-C7C0-4D0B-AA02-BEE96E33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958-BDAF-4153-A37A-C39A4032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7F6-F82F-4883-9013-253804B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DC5-663A-4698-AB1E-0651F84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98B-CC58-4349-8574-78BD38C358E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19E8-8C2F-4066-9B41-59D63984EBB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программы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10440" cy="1473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277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нтаж РЭА и прибор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й слож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phone_1120"/>
          <p:cNvPicPr/>
          <p:nvPr/>
        </p:nvPicPr>
        <p:blipFill>
          <a:blip r:embed="rId2"/>
          <a:stretch/>
        </p:blipFill>
        <p:spPr>
          <a:xfrm>
            <a:off x="0" y="3645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bekas"/>
          <p:cNvPicPr/>
          <p:nvPr/>
        </p:nvPicPr>
        <p:blipFill>
          <a:blip r:embed="rId3"/>
          <a:stretch/>
        </p:blipFill>
        <p:spPr>
          <a:xfrm>
            <a:off x="313200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duet2"/>
          <p:cNvPicPr/>
          <p:nvPr/>
        </p:nvPicPr>
        <p:blipFill>
          <a:blip r:embed="rId4"/>
          <a:stretch/>
        </p:blipFill>
        <p:spPr>
          <a:xfrm>
            <a:off x="6516720" y="3573360"/>
            <a:ext cx="214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189000"/>
          <a:ext cx="9180360" cy="66546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Выводы элементов обрезать вручную бокорез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таж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и работе с полупроводниковыми приборами пользоваться антиэлектростатическим браслетом для защиты элементов от статического электричества. Сопротивление  между антиэлектростатическим браслетом и корпусом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мегоом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 пайке полупроводниковых приборов использовать паяльник мощностью не более 25 Вт напряжением 36В, заземление жала паяльн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больше или равно 5 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189000"/>
          <a:ext cx="9180360" cy="63817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ри пайке не допускать попадания припоя на корпус ЭРЭ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Наносить флюс, на поверхность подлежащую пайке, без каплеобразования, не допускается затекания флюса в негерметичный подстроечный резисто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разъёмы, колодки, тактовую кнопку. Запрещается использовать активный флюс, паять, избегая излишнего перегре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189000"/>
          <a:ext cx="9180360" cy="57960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мывка и уклад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тереть поверхность платы, деталей, пайки, элементы от загрязнений тампоном из миткаля, смоченным в спирте (спирто –бензиновая смесь 1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Исключить затекание промывочной жидкости во внутрь негерметичных приборов, уз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ные материал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ир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бензиновая смесь 1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Мит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-36360" y="115920"/>
          <a:ext cx="9180360" cy="77119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нтроль монта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верить качество монтажа на соответствие схемы электрической и перечня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Проверить качество пайки. Пайка монтажных соединений должна быть скелетной, обеспечивать надёжность электрического контакта и необходимою механическую прочность. Поверхность галтелей припоя по всему периметру паяного шва должна быть вогнутой, непрерывной, гладкой, глянцевой без тёмных пятен и посторонних включений. Высота паяных соединений над печатной платой не должна превышать 2 мм. для всех электрорадиоэлемент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115920"/>
          <a:ext cx="9180360" cy="710244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71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зоры между токонесущими элементами и корпусом должны быть не менее 1,0 м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аркировка деталей должна быть чёткой и яс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Пайки должны быть чистыми, ровными без раковин и подтё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Выводы радиоэлементов не должны лежать на острых кромках дет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Детали не должны иметь вмятин, царапин и других поврежд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Не допускается наличие брызг припоя и посторонних предметов на деталях и элементов монт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Щу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 №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Примеры монтажа радиоэлементов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219320" y="2286000"/>
            <a:ext cx="6172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838080" y="9907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022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190512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447920" y="3808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02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62120" y="1143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2860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209680" y="1371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659400" y="3808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05740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лексные работы по теме «Монтаж РЭА и приборов средней сложност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052" descr="Video1"/>
          <p:cNvPicPr/>
          <p:nvPr/>
        </p:nvPicPr>
        <p:blipFill>
          <a:blip r:embed="rId1"/>
          <a:stretch/>
        </p:blipFill>
        <p:spPr>
          <a:xfrm>
            <a:off x="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53" descr="r_002"/>
          <p:cNvPicPr/>
          <p:nvPr/>
        </p:nvPicPr>
        <p:blipFill>
          <a:blip r:embed="rId2"/>
          <a:stretch/>
        </p:blipFill>
        <p:spPr>
          <a:xfrm>
            <a:off x="5076720" y="3860640"/>
            <a:ext cx="3291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533520" y="990720"/>
            <a:ext cx="63244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енсато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314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457200" y="1143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088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, МТ, МЛТ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44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19920" y="1905120"/>
            <a:ext cx="12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3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992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828800" y="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914560" cy="3279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325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440" y="184356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Что произойдет если радиоэлементы не правильно установить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660240"/>
            <a:ext cx="5724360" cy="6197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33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мейте в виду, что на поиск ошибочно установленного элемента потребуется много времени при последующей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наладке электронного усрой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81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13264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авайте повторим требования к пайке. </a:t>
            </a:r>
            <a:br>
              <a:rPr sz="4400"/>
            </a:b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Какая должна быть пайка?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955880"/>
            <a:ext cx="9144000" cy="2781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Недопустим перегрев ножек электрорадиоэлементов и контактных площадок печатной пла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6" name="Picture 3" descr="сканирование0055"/>
          <p:cNvPicPr/>
          <p:nvPr/>
        </p:nvPicPr>
        <p:blipFill>
          <a:blip r:embed="rId1"/>
          <a:stretch/>
        </p:blipFill>
        <p:spPr>
          <a:xfrm>
            <a:off x="2590920" y="4930920"/>
            <a:ext cx="38862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34120"/>
            <a:ext cx="9144000" cy="478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Признаком качественной пайки является равномерно растекшийся припой, который при застывании приобретает гладкую блестящую поверхность без пор и острых выпуклостей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684000"/>
            <a:ext cx="7772400" cy="34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Качество пайки не зависит от количества залитого припоя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658880"/>
            <a:ext cx="90360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знаком плохой пайки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является матовая шероховатая поверхность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47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рещается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 монтаже радиоэлектронной аппаратуры и приборов пользоваться флюсом с содержанием кислоты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45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1.Выполнить монтаж электронного устройства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233360"/>
            <a:ext cx="77724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a0000"/>
                </a:solidFill>
                <a:latin typeface="Verdana"/>
              </a:rPr>
              <a:t>Повтори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Если пайка будет некачественной, то какие могут быть последствия?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859320"/>
            <a:ext cx="9034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ьзоваться исправным инструмен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ботать в спец. одеж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верить исправность оборудования,  приборов и соблюдать правила работы  с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0"/>
            <a:ext cx="8001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ВЗАИМОКОНТРОЛЯ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л: _____________                                                                      Проверил: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07"/>
          <p:cNvGrpSpPr/>
          <p:nvPr/>
        </p:nvGrpSpPr>
        <p:grpSpPr>
          <a:xfrm>
            <a:off x="685800" y="1066680"/>
            <a:ext cx="7314840" cy="5410440"/>
            <a:chOff x="685800" y="1066680"/>
            <a:chExt cx="7314840" cy="5410440"/>
          </a:xfrm>
        </p:grpSpPr>
        <p:grpSp>
          <p:nvGrpSpPr>
            <p:cNvPr id="276" name="Group 105"/>
            <p:cNvGrpSpPr/>
            <p:nvPr/>
          </p:nvGrpSpPr>
          <p:grpSpPr>
            <a:xfrm>
              <a:off x="691560" y="1069560"/>
              <a:ext cx="7302600" cy="5404680"/>
              <a:chOff x="691560" y="1069560"/>
              <a:chExt cx="7302600" cy="5404680"/>
            </a:xfrm>
          </p:grpSpPr>
          <p:grpSp>
            <p:nvGrpSpPr>
              <p:cNvPr id="277" name="Group 38"/>
              <p:cNvGrpSpPr/>
              <p:nvPr/>
            </p:nvGrpSpPr>
            <p:grpSpPr>
              <a:xfrm>
                <a:off x="691560" y="1069560"/>
                <a:ext cx="649800" cy="429120"/>
                <a:chOff x="691560" y="1069560"/>
                <a:chExt cx="649800" cy="429120"/>
              </a:xfrm>
            </p:grpSpPr>
            <p:sp>
              <p:nvSpPr>
                <p:cNvPr id="278" name="Rectangle 3"/>
                <p:cNvSpPr/>
                <p:nvPr/>
              </p:nvSpPr>
              <p:spPr>
                <a:xfrm>
                  <a:off x="777240" y="1069560"/>
                  <a:ext cx="478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№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Rectangle 37"/>
                <p:cNvSpPr/>
                <p:nvPr/>
              </p:nvSpPr>
              <p:spPr>
                <a:xfrm>
                  <a:off x="691560" y="1069560"/>
                  <a:ext cx="64980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40"/>
              <p:cNvGrpSpPr/>
              <p:nvPr/>
            </p:nvGrpSpPr>
            <p:grpSpPr>
              <a:xfrm>
                <a:off x="1341720" y="1069560"/>
                <a:ext cx="4088520" cy="429120"/>
                <a:chOff x="1341720" y="1069560"/>
                <a:chExt cx="4088520" cy="429120"/>
              </a:xfrm>
            </p:grpSpPr>
            <p:sp>
              <p:nvSpPr>
                <p:cNvPr id="281" name="Rectangle 4"/>
                <p:cNvSpPr/>
                <p:nvPr/>
              </p:nvSpPr>
              <p:spPr>
                <a:xfrm>
                  <a:off x="1427040" y="1069560"/>
                  <a:ext cx="39171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именование  критериев оцен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Rectangle 39"/>
                <p:cNvSpPr/>
                <p:nvPr/>
              </p:nvSpPr>
              <p:spPr>
                <a:xfrm>
                  <a:off x="1341720" y="1069560"/>
                  <a:ext cx="408852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42"/>
              <p:cNvGrpSpPr/>
              <p:nvPr/>
            </p:nvGrpSpPr>
            <p:grpSpPr>
              <a:xfrm>
                <a:off x="5430600" y="1069560"/>
                <a:ext cx="2563560" cy="429120"/>
                <a:chOff x="5430600" y="1069560"/>
                <a:chExt cx="2563560" cy="429120"/>
              </a:xfrm>
            </p:grpSpPr>
            <p:sp>
              <p:nvSpPr>
                <p:cNvPr id="284" name="Rectangle 5"/>
                <p:cNvSpPr/>
                <p:nvPr/>
              </p:nvSpPr>
              <p:spPr>
                <a:xfrm>
                  <a:off x="5516280" y="1069560"/>
                  <a:ext cx="239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ллы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Rectangle 41"/>
                <p:cNvSpPr/>
                <p:nvPr/>
              </p:nvSpPr>
              <p:spPr>
                <a:xfrm>
                  <a:off x="5430600" y="1069560"/>
                  <a:ext cx="256356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" name="Group 44"/>
              <p:cNvGrpSpPr/>
              <p:nvPr/>
            </p:nvGrpSpPr>
            <p:grpSpPr>
              <a:xfrm>
                <a:off x="691560" y="1498680"/>
                <a:ext cx="649800" cy="526680"/>
                <a:chOff x="691560" y="1498680"/>
                <a:chExt cx="649800" cy="526680"/>
              </a:xfrm>
            </p:grpSpPr>
            <p:sp>
              <p:nvSpPr>
                <p:cNvPr id="287" name="Rectangle 6"/>
                <p:cNvSpPr/>
                <p:nvPr/>
              </p:nvSpPr>
              <p:spPr>
                <a:xfrm>
                  <a:off x="777240" y="14986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691560" y="14986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1341720" y="1498680"/>
                <a:ext cx="4088520" cy="526680"/>
                <a:chOff x="1341720" y="1498680"/>
                <a:chExt cx="4088520" cy="526680"/>
              </a:xfrm>
            </p:grpSpPr>
            <p:sp>
              <p:nvSpPr>
                <p:cNvPr id="290" name="Rectangle 7"/>
                <p:cNvSpPr/>
                <p:nvPr/>
              </p:nvSpPr>
              <p:spPr>
                <a:xfrm>
                  <a:off x="1427040" y="14986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лестящая гладкая поверхность пайки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Rectangle 45"/>
                <p:cNvSpPr/>
                <p:nvPr/>
              </p:nvSpPr>
              <p:spPr>
                <a:xfrm>
                  <a:off x="1341720" y="14986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5430600" y="1498680"/>
                <a:ext cx="2563560" cy="526680"/>
                <a:chOff x="5430600" y="1498680"/>
                <a:chExt cx="2563560" cy="526680"/>
              </a:xfrm>
            </p:grpSpPr>
            <p:sp>
              <p:nvSpPr>
                <p:cNvPr id="293" name="Rectangle 8"/>
                <p:cNvSpPr/>
                <p:nvPr/>
              </p:nvSpPr>
              <p:spPr>
                <a:xfrm>
                  <a:off x="5516280" y="14986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Rectangle 47"/>
                <p:cNvSpPr/>
                <p:nvPr/>
              </p:nvSpPr>
              <p:spPr>
                <a:xfrm>
                  <a:off x="5430600" y="14986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5" name="Group 50"/>
              <p:cNvGrpSpPr/>
              <p:nvPr/>
            </p:nvGrpSpPr>
            <p:grpSpPr>
              <a:xfrm>
                <a:off x="691560" y="2025360"/>
                <a:ext cx="649800" cy="526680"/>
                <a:chOff x="691560" y="2025360"/>
                <a:chExt cx="649800" cy="526680"/>
              </a:xfrm>
            </p:grpSpPr>
            <p:sp>
              <p:nvSpPr>
                <p:cNvPr id="296" name="Rectangle 9"/>
                <p:cNvSpPr/>
                <p:nvPr/>
              </p:nvSpPr>
              <p:spPr>
                <a:xfrm>
                  <a:off x="777240" y="20253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Rectangle 49"/>
                <p:cNvSpPr/>
                <p:nvPr/>
              </p:nvSpPr>
              <p:spPr>
                <a:xfrm>
                  <a:off x="691560" y="20253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8" name="Group 52"/>
              <p:cNvGrpSpPr/>
              <p:nvPr/>
            </p:nvGrpSpPr>
            <p:grpSpPr>
              <a:xfrm>
                <a:off x="1341720" y="2025360"/>
                <a:ext cx="4088520" cy="526680"/>
                <a:chOff x="1341720" y="2025360"/>
                <a:chExt cx="4088520" cy="526680"/>
              </a:xfrm>
            </p:grpSpPr>
            <p:sp>
              <p:nvSpPr>
                <p:cNvPr id="299" name="Rectangle 10"/>
                <p:cNvSpPr/>
                <p:nvPr/>
              </p:nvSpPr>
              <p:spPr>
                <a:xfrm>
                  <a:off x="1427040" y="20253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Скелетная» пай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Rectangle 51"/>
                <p:cNvSpPr/>
                <p:nvPr/>
              </p:nvSpPr>
              <p:spPr>
                <a:xfrm>
                  <a:off x="1341720" y="20253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1" name="Group 54"/>
              <p:cNvGrpSpPr/>
              <p:nvPr/>
            </p:nvGrpSpPr>
            <p:grpSpPr>
              <a:xfrm>
                <a:off x="5430600" y="2025360"/>
                <a:ext cx="2563560" cy="526680"/>
                <a:chOff x="5430600" y="2025360"/>
                <a:chExt cx="2563560" cy="526680"/>
              </a:xfrm>
            </p:grpSpPr>
            <p:sp>
              <p:nvSpPr>
                <p:cNvPr id="302" name="Rectangle 11"/>
                <p:cNvSpPr/>
                <p:nvPr/>
              </p:nvSpPr>
              <p:spPr>
                <a:xfrm>
                  <a:off x="5516280" y="20253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Rectangle 53"/>
                <p:cNvSpPr/>
                <p:nvPr/>
              </p:nvSpPr>
              <p:spPr>
                <a:xfrm>
                  <a:off x="5430600" y="20253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4" name="Group 56"/>
              <p:cNvGrpSpPr/>
              <p:nvPr/>
            </p:nvGrpSpPr>
            <p:grpSpPr>
              <a:xfrm>
                <a:off x="691560" y="2552400"/>
                <a:ext cx="649800" cy="526680"/>
                <a:chOff x="691560" y="2552400"/>
                <a:chExt cx="649800" cy="526680"/>
              </a:xfrm>
            </p:grpSpPr>
            <p:sp>
              <p:nvSpPr>
                <p:cNvPr id="305" name="Rectangle 12"/>
                <p:cNvSpPr/>
                <p:nvPr/>
              </p:nvSpPr>
              <p:spPr>
                <a:xfrm>
                  <a:off x="777240" y="255240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Rectangle 55"/>
                <p:cNvSpPr/>
                <p:nvPr/>
              </p:nvSpPr>
              <p:spPr>
                <a:xfrm>
                  <a:off x="691560" y="255240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58"/>
              <p:cNvGrpSpPr/>
              <p:nvPr/>
            </p:nvGrpSpPr>
            <p:grpSpPr>
              <a:xfrm>
                <a:off x="1341720" y="2552400"/>
                <a:ext cx="4088520" cy="526680"/>
                <a:chOff x="1341720" y="2552400"/>
                <a:chExt cx="4088520" cy="526680"/>
              </a:xfrm>
            </p:grpSpPr>
            <p:sp>
              <p:nvSpPr>
                <p:cNvPr id="308" name="Rectangle 13"/>
                <p:cNvSpPr/>
                <p:nvPr/>
              </p:nvSpPr>
              <p:spPr>
                <a:xfrm>
                  <a:off x="1427040" y="255240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авильная формовка и лужение выводов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Rectangle 57"/>
                <p:cNvSpPr/>
                <p:nvPr/>
              </p:nvSpPr>
              <p:spPr>
                <a:xfrm>
                  <a:off x="1341720" y="255240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0" name="Group 60"/>
              <p:cNvGrpSpPr/>
              <p:nvPr/>
            </p:nvGrpSpPr>
            <p:grpSpPr>
              <a:xfrm>
                <a:off x="5430600" y="2552400"/>
                <a:ext cx="2563560" cy="526680"/>
                <a:chOff x="5430600" y="2552400"/>
                <a:chExt cx="2563560" cy="526680"/>
              </a:xfrm>
            </p:grpSpPr>
            <p:sp>
              <p:nvSpPr>
                <p:cNvPr id="311" name="Rectangle 14"/>
                <p:cNvSpPr/>
                <p:nvPr/>
              </p:nvSpPr>
              <p:spPr>
                <a:xfrm>
                  <a:off x="5516280" y="255240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59"/>
                <p:cNvSpPr/>
                <p:nvPr/>
              </p:nvSpPr>
              <p:spPr>
                <a:xfrm>
                  <a:off x="5430600" y="255240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3" name="Group 62"/>
              <p:cNvGrpSpPr/>
              <p:nvPr/>
            </p:nvGrpSpPr>
            <p:grpSpPr>
              <a:xfrm>
                <a:off x="691560" y="3079080"/>
                <a:ext cx="649800" cy="526680"/>
                <a:chOff x="691560" y="3079080"/>
                <a:chExt cx="649800" cy="526680"/>
              </a:xfrm>
            </p:grpSpPr>
            <p:sp>
              <p:nvSpPr>
                <p:cNvPr id="314" name="Rectangle 15"/>
                <p:cNvSpPr/>
                <p:nvPr/>
              </p:nvSpPr>
              <p:spPr>
                <a:xfrm>
                  <a:off x="777240" y="30790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61"/>
                <p:cNvSpPr/>
                <p:nvPr/>
              </p:nvSpPr>
              <p:spPr>
                <a:xfrm>
                  <a:off x="691560" y="30790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6" name="Group 64"/>
              <p:cNvGrpSpPr/>
              <p:nvPr/>
            </p:nvGrpSpPr>
            <p:grpSpPr>
              <a:xfrm>
                <a:off x="1341720" y="3079080"/>
                <a:ext cx="4088520" cy="526680"/>
                <a:chOff x="1341720" y="3079080"/>
                <a:chExt cx="4088520" cy="526680"/>
              </a:xfrm>
            </p:grpSpPr>
            <p:sp>
              <p:nvSpPr>
                <p:cNvPr id="317" name="Rectangle 16"/>
                <p:cNvSpPr/>
                <p:nvPr/>
              </p:nvSpPr>
              <p:spPr>
                <a:xfrm>
                  <a:off x="1427040" y="30790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Состояние печатных проводников (отслоение дорожек)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Rectangle 63"/>
                <p:cNvSpPr/>
                <p:nvPr/>
              </p:nvSpPr>
              <p:spPr>
                <a:xfrm>
                  <a:off x="1341720" y="30790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9" name="Group 66"/>
              <p:cNvGrpSpPr/>
              <p:nvPr/>
            </p:nvGrpSpPr>
            <p:grpSpPr>
              <a:xfrm>
                <a:off x="5430600" y="3079080"/>
                <a:ext cx="2563560" cy="526680"/>
                <a:chOff x="5430600" y="3079080"/>
                <a:chExt cx="2563560" cy="526680"/>
              </a:xfrm>
            </p:grpSpPr>
            <p:sp>
              <p:nvSpPr>
                <p:cNvPr id="320" name="Rectangle 17"/>
                <p:cNvSpPr/>
                <p:nvPr/>
              </p:nvSpPr>
              <p:spPr>
                <a:xfrm>
                  <a:off x="5516280" y="30790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Rectangle 65"/>
                <p:cNvSpPr/>
                <p:nvPr/>
              </p:nvSpPr>
              <p:spPr>
                <a:xfrm>
                  <a:off x="5430600" y="30790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68"/>
              <p:cNvGrpSpPr/>
              <p:nvPr/>
            </p:nvGrpSpPr>
            <p:grpSpPr>
              <a:xfrm>
                <a:off x="691560" y="3605760"/>
                <a:ext cx="649800" cy="526680"/>
                <a:chOff x="691560" y="3605760"/>
                <a:chExt cx="649800" cy="526680"/>
              </a:xfrm>
            </p:grpSpPr>
            <p:sp>
              <p:nvSpPr>
                <p:cNvPr id="323" name="Rectangle 18"/>
                <p:cNvSpPr/>
                <p:nvPr/>
              </p:nvSpPr>
              <p:spPr>
                <a:xfrm>
                  <a:off x="777240" y="36057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Rectangle 67"/>
                <p:cNvSpPr/>
                <p:nvPr/>
              </p:nvSpPr>
              <p:spPr>
                <a:xfrm>
                  <a:off x="691560" y="36057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5" name="Group 70"/>
              <p:cNvGrpSpPr/>
              <p:nvPr/>
            </p:nvGrpSpPr>
            <p:grpSpPr>
              <a:xfrm>
                <a:off x="1341720" y="3605760"/>
                <a:ext cx="4088520" cy="526680"/>
                <a:chOff x="1341720" y="3605760"/>
                <a:chExt cx="4088520" cy="526680"/>
              </a:xfrm>
            </p:grpSpPr>
            <p:sp>
              <p:nvSpPr>
                <p:cNvPr id="326" name="Rectangle 19"/>
                <p:cNvSpPr/>
                <p:nvPr/>
              </p:nvSpPr>
              <p:spPr>
                <a:xfrm>
                  <a:off x="1427040" y="36057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Укладка монтаж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Промывка па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верка соответствия схеме монтаж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Rectangle 69"/>
                <p:cNvSpPr/>
                <p:nvPr/>
              </p:nvSpPr>
              <p:spPr>
                <a:xfrm>
                  <a:off x="1341720" y="36057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8" name="Group 72"/>
              <p:cNvGrpSpPr/>
              <p:nvPr/>
            </p:nvGrpSpPr>
            <p:grpSpPr>
              <a:xfrm>
                <a:off x="5430600" y="3605760"/>
                <a:ext cx="2563560" cy="526680"/>
                <a:chOff x="5430600" y="3605760"/>
                <a:chExt cx="2563560" cy="526680"/>
              </a:xfrm>
            </p:grpSpPr>
            <p:sp>
              <p:nvSpPr>
                <p:cNvPr id="329" name="Rectangle 20"/>
                <p:cNvSpPr/>
                <p:nvPr/>
              </p:nvSpPr>
              <p:spPr>
                <a:xfrm>
                  <a:off x="5516280" y="36057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71"/>
                <p:cNvSpPr/>
                <p:nvPr/>
              </p:nvSpPr>
              <p:spPr>
                <a:xfrm>
                  <a:off x="5430600" y="36057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1" name="Group 74"/>
              <p:cNvGrpSpPr/>
              <p:nvPr/>
            </p:nvGrpSpPr>
            <p:grpSpPr>
              <a:xfrm>
                <a:off x="691560" y="4132440"/>
                <a:ext cx="649800" cy="526680"/>
                <a:chOff x="691560" y="4132440"/>
                <a:chExt cx="649800" cy="526680"/>
              </a:xfrm>
            </p:grpSpPr>
            <p:sp>
              <p:nvSpPr>
                <p:cNvPr id="332" name="Rectangle 21"/>
                <p:cNvSpPr/>
                <p:nvPr/>
              </p:nvSpPr>
              <p:spPr>
                <a:xfrm>
                  <a:off x="777240" y="413244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Rectangle 73"/>
                <p:cNvSpPr/>
                <p:nvPr/>
              </p:nvSpPr>
              <p:spPr>
                <a:xfrm>
                  <a:off x="691560" y="413244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4" name="Group 76"/>
              <p:cNvGrpSpPr/>
              <p:nvPr/>
            </p:nvGrpSpPr>
            <p:grpSpPr>
              <a:xfrm>
                <a:off x="1341720" y="4132440"/>
                <a:ext cx="4088520" cy="526680"/>
                <a:chOff x="1341720" y="4132440"/>
                <a:chExt cx="4088520" cy="52668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1427040" y="413244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Rectangle 75"/>
                <p:cNvSpPr/>
                <p:nvPr/>
              </p:nvSpPr>
              <p:spPr>
                <a:xfrm>
                  <a:off x="1341720" y="413244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7" name="Group 78"/>
              <p:cNvGrpSpPr/>
              <p:nvPr/>
            </p:nvGrpSpPr>
            <p:grpSpPr>
              <a:xfrm>
                <a:off x="5430600" y="4132440"/>
                <a:ext cx="2563560" cy="526680"/>
                <a:chOff x="5430600" y="4132440"/>
                <a:chExt cx="2563560" cy="526680"/>
              </a:xfrm>
            </p:grpSpPr>
            <p:sp>
              <p:nvSpPr>
                <p:cNvPr id="338" name="Rectangle 23"/>
                <p:cNvSpPr/>
                <p:nvPr/>
              </p:nvSpPr>
              <p:spPr>
                <a:xfrm>
                  <a:off x="5516280" y="413244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Rectangle 77"/>
                <p:cNvSpPr/>
                <p:nvPr/>
              </p:nvSpPr>
              <p:spPr>
                <a:xfrm>
                  <a:off x="5430600" y="413244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0" name="Group 80"/>
              <p:cNvGrpSpPr/>
              <p:nvPr/>
            </p:nvGrpSpPr>
            <p:grpSpPr>
              <a:xfrm>
                <a:off x="691560" y="4659480"/>
                <a:ext cx="649800" cy="526680"/>
                <a:chOff x="691560" y="4659480"/>
                <a:chExt cx="649800" cy="526680"/>
              </a:xfrm>
            </p:grpSpPr>
            <p:sp>
              <p:nvSpPr>
                <p:cNvPr id="341" name="Rectangle 24"/>
                <p:cNvSpPr/>
                <p:nvPr/>
              </p:nvSpPr>
              <p:spPr>
                <a:xfrm>
                  <a:off x="777240" y="46594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Rectangle 79"/>
                <p:cNvSpPr/>
                <p:nvPr/>
              </p:nvSpPr>
              <p:spPr>
                <a:xfrm>
                  <a:off x="691560" y="46594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3" name="Group 82"/>
              <p:cNvGrpSpPr/>
              <p:nvPr/>
            </p:nvGrpSpPr>
            <p:grpSpPr>
              <a:xfrm>
                <a:off x="1341720" y="4659480"/>
                <a:ext cx="4088520" cy="526680"/>
                <a:chOff x="1341720" y="4659480"/>
                <a:chExt cx="4088520" cy="526680"/>
              </a:xfrm>
            </p:grpSpPr>
            <p:sp>
              <p:nvSpPr>
                <p:cNvPr id="344" name="Rectangle 25"/>
                <p:cNvSpPr/>
                <p:nvPr/>
              </p:nvSpPr>
              <p:spPr>
                <a:xfrm>
                  <a:off x="1427040" y="46594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Rectangle 81"/>
                <p:cNvSpPr/>
                <p:nvPr/>
              </p:nvSpPr>
              <p:spPr>
                <a:xfrm>
                  <a:off x="1341720" y="46594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Group 84"/>
              <p:cNvGrpSpPr/>
              <p:nvPr/>
            </p:nvGrpSpPr>
            <p:grpSpPr>
              <a:xfrm>
                <a:off x="5430600" y="4659480"/>
                <a:ext cx="2563560" cy="526680"/>
                <a:chOff x="5430600" y="4659480"/>
                <a:chExt cx="2563560" cy="526680"/>
              </a:xfrm>
            </p:grpSpPr>
            <p:sp>
              <p:nvSpPr>
                <p:cNvPr id="347" name="Rectangle 26"/>
                <p:cNvSpPr/>
                <p:nvPr/>
              </p:nvSpPr>
              <p:spPr>
                <a:xfrm>
                  <a:off x="5516280" y="46594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Rectangle 83"/>
                <p:cNvSpPr/>
                <p:nvPr/>
              </p:nvSpPr>
              <p:spPr>
                <a:xfrm>
                  <a:off x="5430600" y="46594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9" name="Group 86"/>
              <p:cNvGrpSpPr/>
              <p:nvPr/>
            </p:nvGrpSpPr>
            <p:grpSpPr>
              <a:xfrm>
                <a:off x="691560" y="5186160"/>
                <a:ext cx="637560" cy="526680"/>
                <a:chOff x="691560" y="5186160"/>
                <a:chExt cx="637560" cy="526680"/>
              </a:xfrm>
            </p:grpSpPr>
            <p:sp>
              <p:nvSpPr>
                <p:cNvPr id="350" name="Rectangle 27"/>
                <p:cNvSpPr/>
                <p:nvPr/>
              </p:nvSpPr>
              <p:spPr>
                <a:xfrm>
                  <a:off x="777240" y="5186160"/>
                  <a:ext cx="465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Rectangle 85"/>
                <p:cNvSpPr/>
                <p:nvPr/>
              </p:nvSpPr>
              <p:spPr>
                <a:xfrm>
                  <a:off x="691560" y="5186160"/>
                  <a:ext cx="637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2" name="Group 88"/>
              <p:cNvGrpSpPr/>
              <p:nvPr/>
            </p:nvGrpSpPr>
            <p:grpSpPr>
              <a:xfrm>
                <a:off x="1329480" y="5186160"/>
                <a:ext cx="4100760" cy="526680"/>
                <a:chOff x="1329480" y="5186160"/>
                <a:chExt cx="4100760" cy="526680"/>
              </a:xfrm>
            </p:grpSpPr>
            <p:sp>
              <p:nvSpPr>
                <p:cNvPr id="353" name="Rectangle 28"/>
                <p:cNvSpPr/>
                <p:nvPr/>
              </p:nvSpPr>
              <p:spPr>
                <a:xfrm>
                  <a:off x="1415160" y="5186160"/>
                  <a:ext cx="39290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Rectangle 87"/>
                <p:cNvSpPr/>
                <p:nvPr/>
              </p:nvSpPr>
              <p:spPr>
                <a:xfrm>
                  <a:off x="1329480" y="5186160"/>
                  <a:ext cx="41007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5" name="Group 90"/>
              <p:cNvGrpSpPr/>
              <p:nvPr/>
            </p:nvGrpSpPr>
            <p:grpSpPr>
              <a:xfrm>
                <a:off x="5430600" y="5186160"/>
                <a:ext cx="2563560" cy="526680"/>
                <a:chOff x="5430600" y="5186160"/>
                <a:chExt cx="2563560" cy="526680"/>
              </a:xfrm>
            </p:grpSpPr>
            <p:sp>
              <p:nvSpPr>
                <p:cNvPr id="356" name="Rectangle 29"/>
                <p:cNvSpPr/>
                <p:nvPr/>
              </p:nvSpPr>
              <p:spPr>
                <a:xfrm>
                  <a:off x="5516280" y="51861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Rectangle 89"/>
                <p:cNvSpPr/>
                <p:nvPr/>
              </p:nvSpPr>
              <p:spPr>
                <a:xfrm>
                  <a:off x="5430600" y="51861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Group 92"/>
              <p:cNvGrpSpPr/>
              <p:nvPr/>
            </p:nvGrpSpPr>
            <p:grpSpPr>
              <a:xfrm>
                <a:off x="691560" y="5712840"/>
                <a:ext cx="637560" cy="760680"/>
                <a:chOff x="691560" y="5712840"/>
                <a:chExt cx="637560" cy="760680"/>
              </a:xfrm>
            </p:grpSpPr>
            <p:sp>
              <p:nvSpPr>
                <p:cNvPr id="359" name="Rectangle 30"/>
                <p:cNvSpPr/>
                <p:nvPr/>
              </p:nvSpPr>
              <p:spPr>
                <a:xfrm>
                  <a:off x="777240" y="5712840"/>
                  <a:ext cx="465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Rectangle 91"/>
                <p:cNvSpPr/>
                <p:nvPr/>
              </p:nvSpPr>
              <p:spPr>
                <a:xfrm>
                  <a:off x="691560" y="5712840"/>
                  <a:ext cx="637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1" name="Group 94"/>
              <p:cNvGrpSpPr/>
              <p:nvPr/>
            </p:nvGrpSpPr>
            <p:grpSpPr>
              <a:xfrm>
                <a:off x="1329480" y="5712840"/>
                <a:ext cx="4100760" cy="760680"/>
                <a:chOff x="1329480" y="5712840"/>
                <a:chExt cx="4100760" cy="760680"/>
              </a:xfrm>
            </p:grpSpPr>
            <p:sp>
              <p:nvSpPr>
                <p:cNvPr id="362" name="Rectangle 31"/>
                <p:cNvSpPr/>
                <p:nvPr/>
              </p:nvSpPr>
              <p:spPr>
                <a:xfrm>
                  <a:off x="1415160" y="5712840"/>
                  <a:ext cx="39290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Rectangle 93"/>
                <p:cNvSpPr/>
                <p:nvPr/>
              </p:nvSpPr>
              <p:spPr>
                <a:xfrm>
                  <a:off x="1329480" y="5712840"/>
                  <a:ext cx="41007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4" name="Group 96"/>
              <p:cNvGrpSpPr/>
              <p:nvPr/>
            </p:nvGrpSpPr>
            <p:grpSpPr>
              <a:xfrm>
                <a:off x="5430600" y="5712840"/>
                <a:ext cx="2563560" cy="760680"/>
                <a:chOff x="5430600" y="5712840"/>
                <a:chExt cx="2563560" cy="760680"/>
              </a:xfrm>
            </p:grpSpPr>
            <p:sp>
              <p:nvSpPr>
                <p:cNvPr id="365" name="Rectangle 32"/>
                <p:cNvSpPr/>
                <p:nvPr/>
              </p:nvSpPr>
              <p:spPr>
                <a:xfrm>
                  <a:off x="5516280" y="5712840"/>
                  <a:ext cx="2391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Rectangle 95"/>
                <p:cNvSpPr/>
                <p:nvPr/>
              </p:nvSpPr>
              <p:spPr>
                <a:xfrm>
                  <a:off x="5430600" y="5712840"/>
                  <a:ext cx="2563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7" name="Group 98"/>
              <p:cNvGrpSpPr/>
              <p:nvPr/>
            </p:nvGrpSpPr>
            <p:grpSpPr>
              <a:xfrm>
                <a:off x="691560" y="6473880"/>
                <a:ext cx="637560" cy="360"/>
                <a:chOff x="691560" y="6473880"/>
                <a:chExt cx="637560" cy="360"/>
              </a:xfrm>
            </p:grpSpPr>
            <p:sp>
              <p:nvSpPr>
                <p:cNvPr id="368" name="Rectangle 33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Rectangle 97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0" name="Group 100"/>
              <p:cNvGrpSpPr/>
              <p:nvPr/>
            </p:nvGrpSpPr>
            <p:grpSpPr>
              <a:xfrm>
                <a:off x="1329480" y="6473880"/>
                <a:ext cx="11520" cy="360"/>
                <a:chOff x="1329480" y="6473880"/>
                <a:chExt cx="11520" cy="360"/>
              </a:xfrm>
            </p:grpSpPr>
            <p:sp>
              <p:nvSpPr>
                <p:cNvPr id="371" name="Rectangle 34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2" name="Rectangle 99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3" name="Group 102"/>
              <p:cNvGrpSpPr/>
              <p:nvPr/>
            </p:nvGrpSpPr>
            <p:grpSpPr>
              <a:xfrm>
                <a:off x="1341720" y="6473880"/>
                <a:ext cx="4088520" cy="360"/>
                <a:chOff x="1341720" y="6473880"/>
                <a:chExt cx="4088520" cy="360"/>
              </a:xfrm>
            </p:grpSpPr>
            <p:sp>
              <p:nvSpPr>
                <p:cNvPr id="374" name="Rectangle 35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5" name="Rectangle 101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6" name="Group 104"/>
              <p:cNvGrpSpPr/>
              <p:nvPr/>
            </p:nvGrpSpPr>
            <p:grpSpPr>
              <a:xfrm>
                <a:off x="5430600" y="6473880"/>
                <a:ext cx="2563560" cy="360"/>
                <a:chOff x="5430600" y="6473880"/>
                <a:chExt cx="2563560" cy="360"/>
              </a:xfrm>
            </p:grpSpPr>
            <p:sp>
              <p:nvSpPr>
                <p:cNvPr id="377" name="Rectangle 36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8" name="Rectangle 103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9" name="Rectangle 106"/>
            <p:cNvSpPr/>
            <p:nvPr/>
          </p:nvSpPr>
          <p:spPr>
            <a:xfrm>
              <a:off x="685800" y="1066680"/>
              <a:ext cx="731484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Rectangle 108"/>
          <p:cNvSpPr/>
          <p:nvPr/>
        </p:nvSpPr>
        <p:spPr>
          <a:xfrm>
            <a:off x="571680" y="628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295280" y="380880"/>
            <a:ext cx="6782040" cy="3934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– 6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 – 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– 3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3" descr="BS00559_"/>
          <p:cNvPicPr/>
          <p:nvPr/>
        </p:nvPicPr>
        <p:blipFill>
          <a:blip r:embed="rId3"/>
          <a:stretch/>
        </p:blipFill>
        <p:spPr>
          <a:xfrm>
            <a:off x="2286000" y="3962520"/>
            <a:ext cx="45957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915200"/>
            <a:ext cx="90345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ыполнение самостоятель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дведем итоги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8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1.Выполнить монтаж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3840" cy="3048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4487a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icture 4"/>
          <p:cNvSpPr/>
          <p:nvPr/>
        </p:nvSpPr>
        <p:spPr>
          <a:xfrm>
            <a:off x="4648320" y="0"/>
            <a:ext cx="39621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омашнее задание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1560" cy="2438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торить назначение узлов электронных осциллограф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0595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емонстрация выполнен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2495880"/>
            <a:ext cx="9144000" cy="3018600"/>
          </a:xfrm>
          <a:prstGeom prst="rect">
            <a:avLst/>
          </a:prstGeom>
          <a:solidFill>
            <a:srgbClr val="66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311120" y="703440"/>
            <a:ext cx="47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Verdana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861480"/>
            <a:ext cx="9034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 flipV="1" rot="10800000">
            <a:off x="-1440" y="1987920"/>
            <a:ext cx="82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1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Разработать технолог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процесс по выбранно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устройств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034560" cy="34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«Если вы удачно выберите труд и вложите в него всю душу, то счастье само вас отыщет»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                      К.Д.Ушинский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973080"/>
            <a:ext cx="76788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Verdana"/>
              </a:rPr>
              <a:t>Проверка домашнего задания №1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80360" cy="713268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и 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-ческий ре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мент и контрольно измерительные приб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оверить комплектность согласно перечню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Проверить детали на отсутствие механических повреждений, сколов, наруш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одготовить паяльник к работ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регулировать длин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заточить стержень нужной формы и облудить припоем ПОС-61;-проверить температур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инц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Теплоот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Бокор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Паяльник 36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-17640" y="458640"/>
          <a:ext cx="9180720" cy="6492960"/>
        </p:xfrm>
        <a:graphic>
          <a:graphicData uri="http://schemas.openxmlformats.org/drawingml/2006/table">
            <a:tbl>
              <a:tblPr/>
              <a:tblGrid>
                <a:gridCol w="849600"/>
                <a:gridCol w="4443480"/>
                <a:gridCol w="1744560"/>
                <a:gridCol w="2143080"/>
              </a:tblGrid>
              <a:tr h="64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Облудить выводы элементов паяльником с применением припоя ПОС-61 и флюса ФКСП. Расстояние от корпуса до поверхности лужения не должно быть менее 5 мм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чее место должно быть оснащено приточно- вытяжной вентиляцией.  При лужении не допускать попадания припоя на корпус ЭРЭ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Выполнить обрезку и формовку выводов элементов согласно приложения. При формовке выводов элементов обеспечить меры предосторожности от изгиба выводов у основания корпуса элемента, придерживая вывод элемента круглогубцами или пинцет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 стержня паяльника 250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nn</cp:lastModifiedBy>
  <dcterms:modified xsi:type="dcterms:W3CDTF">2010-06-10T11:32:44Z</dcterms:modified>
  <cp:revision>24</cp:revision>
  <dc:subject/>
  <dc:title>PowerPoint Presentation</dc:title>
</cp:coreProperties>
</file>