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33F9C-4401-4062-971D-11463BE2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9A3FF-A4E9-42B6-8D8D-1EF6AF36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9150E-B27B-4996-810A-F3AE5FC0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14D66-0A5A-4E08-A158-3FE85292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5359-C098-4205-9EBC-CE5DC7A1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F8EA-B6FC-4C5B-BF5E-AFD93328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E63E-252B-4CAA-9905-4CC55083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9D5C-8492-45DF-9883-EABE8EDA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FD73-F9A0-40E3-9F86-3BC62241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42E6-F835-4C6D-A7EE-74D9AD39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3533-5E73-4CA0-8368-1F496CA7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79497-1487-4825-89A4-AC1968BA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2B49-69CE-40AD-81C6-D62C9B69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92A1-B60F-4D35-AC96-27E0853E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326C-8F43-439F-9F04-39D3E47D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AB66-CE89-46E7-9D3F-3094FD46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A285-771E-4D8B-B1E2-1FA1E841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ECB8B-B7E6-4B3E-8C68-A6D185CF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F23DA-789C-47A1-A9CC-38887C1F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B8D06-4204-4217-A378-6AA842B5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0BC5F-C7DC-4393-AD3A-648F1776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A2057-0180-41F2-98A0-7264D673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29BD5-5B9B-4B8E-8108-E960F896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2CF9B-2025-4CDE-ABB3-1D486619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40124-9991-4E09-919F-41D4971F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A8821-661D-4A4A-BEDF-C3AB65CE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D0663-6E47-4978-8072-0C41145E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01B2F-DD96-4AD8-9596-7542742F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6FAF7-E636-409E-B63F-4B9E6742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3F14E-DF8F-40E3-96CA-384B572B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5C170-E103-48E7-B8FE-DE01D31A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C163B-9A47-4831-B2EF-3A490F3D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F6A82-25B2-48C7-AD40-EE3B2896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ABCDA-23C5-4D18-8A3B-B24814F2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8B3B8-446D-4335-BF57-179C61AB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6023B-8E06-40CC-89B5-9374DE79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9E589-CFE5-4933-BAF7-1447DCF5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A5CCE-283E-41A5-9CDA-6B365486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ED64B-5DA1-4DE7-A257-95F3CEDF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A545F-0961-4152-AB05-A070E503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3BCF5-27FD-4EDC-9263-49D68FD5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D0ED4-57AF-4917-B65F-1906D6B9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F4BCF-7A37-4AE2-A225-89D631ED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D95E7-A02E-47AA-9575-37D9C4C5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2E6B-FB80-4857-960F-17B0C6CD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50281-84A7-4700-BAAC-F65E61C9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CCAD0-481B-431B-9E32-165913BD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F7FC1-E189-4BC6-864B-A8750242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6BDAC-C183-4092-A6B0-8594A8DF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BD099-5A3C-4EBD-A241-83A00470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A8466-61DA-4A67-A30C-FAFCA1FE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27ABC-9E89-465A-A100-3622E71F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958E0-BA70-4D63-93B0-AB426A1B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933FC-93F9-4379-A315-A6D81A1A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FAD9B-769B-416E-85A5-0983599E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8D8EC-CB33-44E9-87B0-5F2C23CA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A4274-919F-4125-BE6A-43473312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7A852-10D1-4387-A0B0-2A40012E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805F4-D94A-47B0-ABD9-A8DD0AD9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839E-B6E6-4D73-9CD0-DAC150C9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94A7-0597-4636-A6EB-A58DD52B79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EECB-1F0C-429A-B6C5-E19853634C0A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86B4-2A69-40D4-B876-A4DE21850F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7991-5DD3-40B6-97B8-0611AED899E8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BACA-D7E5-410B-B191-6763F8952E40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68000" y="1700280"/>
            <a:ext cx="68756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стижение образовательных результатов в рамках подготовки обучающихся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124080" y="5300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цева Т.В.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ы ЕМД ГОАУ ЯО И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179280" y="620640"/>
          <a:ext cx="8785440" cy="496260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выявля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ительные признаки отдельных организм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пособления у организмов к среде обитания, ароморфозы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иоадаптации у растений и животны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иотические и биотические компоненты экосистем, взаимосвязи организ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экосистеме, антропогенные изменения в экосистема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и мутагенов в окружающей среде (косвенно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равнивать (и делать выводы на основе сравнения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ие объекты (клетки, ткани, органы и системы органов, организ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ений, животных, грибов и бактерий, экосистемы и агроэкосистем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 и явления (обмен веществ у растений, животных, человек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ический и энергетический обмен; фотосинтез и хемосинтез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оз и мейоз, бесполое и половое размножение, оплодотворение у раст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животных, внешнее и внутреннее оплодотвор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179280" y="5589720"/>
          <a:ext cx="8785440" cy="56016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естественного отбора, искусственный и естественный отбор, спосо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ообразования, макро- и микроэволюцию, пути и направления 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79280" y="476280"/>
          <a:ext cx="8785440" cy="525132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пределя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адлежность биологических объектов к определенной систематической группе (классификация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Анализирова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гипотезы сущности жизни, происхождения жизни, разны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мов и человека, человеческих рас, эволюцию организм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окружающей среды, влияние факторов риска на здоровье человек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ствия деятельности человека в экосистемах, глоб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ропогенные изменения в биосфер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биологических экспериментов, наблюдений по их опис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ТЬ ПРИОБРЕТЕННЫЕ ЗНАНИЯ И УМЕНИЯ В ПРАКТИЧЕСКОЙ ДЕЯТЕЛЬНОСТИ И ПОВСЕДНЕВНОЙ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для обоснова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 поведения в окружающей сред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 профилактики распространения заболеваний, вызываемых растениями, животными, бактериями, грибами и вирусами; травматизма, стрессов, ВИЧ- инфекции, вредных привычек (курение, алкоголизм, наркомания); нарушения осанки, зрения, слуха; инфекционных и простудных заболеваний; стрессов, вредных привычек (курение, алкоголизм, наркомания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179280" y="5734080"/>
          <a:ext cx="8785440" cy="115560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я первой помощи при травмах, простудных и других заболеваниях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влении пищевыми продукта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ов выращивания и размножения культурных растений и домаш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ых, ухода за ни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251ba5"/>
                </a:solidFill>
                <a:latin typeface="Arial"/>
              </a:rPr>
              <a:t>книками на ГИА в части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ибольшие затруднения у удовлетворительно подготовленных выпускников вызвали задания А4, А5, А10, А13, А17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ния А4 и А5 проверяли знание морфологии растений и способов ухода и выращивания культурных растени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10 – строения нервной и эндокринной систем, а также знание нейрогуморальной регуляци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13 – строения органов кровообращения, а также знание механизмов движения крови по сосудам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17 – психологии и поведения человека.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1ba5"/>
                </a:solidFill>
                <a:latin typeface="Arial"/>
              </a:rPr>
              <a:t>Столь низкие результаты выполнения заданий части 1 выпускниками объясняются не столько слабыми знаниями курса биологии за VI–VIII класс, сколько отсутствием налаженной системы повторения учащимися IX классов, готовящимися к сдаче экзамена, ключевых разделов школьной биологии за предыдущие годы обуч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1ba5"/>
                </a:solidFill>
                <a:latin typeface="Arial"/>
              </a:rPr>
              <a:t>Задания части 2 проверяли ум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ать и применять знания о строении и функционировании организма человека в практической деятельности и повседневной жизни и многообразии органического ми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поставлять особенности строения и функционирования организмов разных царств; устанавливать структурно-функциональные связи объектов, процессов, явлений; классифицировать биологические объекты и процесс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ть биологические термины и понятия в понимании биологических тек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358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трудными для всех групп выпускников, как и в прошлом году, оказались </a:t>
            </a:r>
            <a:r>
              <a:rPr b="0" lang="ru-RU" sz="2000" spc="-1" strike="noStrike">
                <a:solidFill>
                  <a:srgbClr val="251ba5"/>
                </a:solidFill>
                <a:latin typeface="Arial"/>
              </a:rPr>
              <a:t>задание В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собенно </a:t>
            </a:r>
            <a:r>
              <a:rPr b="0" lang="ru-RU" sz="2000" spc="-1" strike="noStrike">
                <a:solidFill>
                  <a:srgbClr val="251ba5"/>
                </a:solidFill>
                <a:latin typeface="Arial"/>
              </a:rPr>
              <a:t>задание В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 установление правильной последовательности элемент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ьшинстве вариантов эти задания предполагали теоретическую проверку выполнения обязательных практических и лабораторных работ, представленных в примерной программе по биологии, а также знание вопросов, касающихся эволюции животного и растительно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ые результаты (38,2% выполнения всеми группами выпускников) убеждают, что практические работы на уроках биологии в основной в школе нередко имеют формальный характер, а знания особенностей исторического развития организмов формируются только у учащихся с отличной подготов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1ba5"/>
                </a:solidFill>
                <a:latin typeface="Arial"/>
              </a:rPr>
              <a:t>задание  В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яет умение читать и понимать прочитанн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 включение пропущенных в текст терминов и поняти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т именно такой алгоритм действ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507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1ba5"/>
                </a:solidFill>
                <a:latin typeface="Arial"/>
              </a:rPr>
              <a:t>Задания части 3</a:t>
            </a:r>
            <a:r>
              <a:rPr b="0" lang="ru-RU" sz="2800" spc="-1" strike="noStrike">
                <a:solidFill>
                  <a:srgbClr val="251ba5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заменационной работы проверяли умения применять биологические знания в практических ситуациях (все 26 вариантов были подготовлены по разделу «Человек и его здоровье»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я анализировать текст биологического содержания и на его основе обосновывать научные факты, процессы и явления, строить умозаключения, проверять гипотез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я работать со статистическими данными, представленными в таблич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иболее трудным остается </a:t>
            </a:r>
            <a:r>
              <a:rPr b="0" i="1" lang="ru-RU" sz="2200" spc="-1" strike="noStrike">
                <a:solidFill>
                  <a:srgbClr val="251ba5"/>
                </a:solidFill>
                <a:latin typeface="Arial"/>
              </a:rPr>
              <a:t>задание С1</a:t>
            </a:r>
            <a:r>
              <a:rPr b="0" lang="ru-RU" sz="2200" spc="-1" strike="noStrike">
                <a:solidFill>
                  <a:srgbClr val="ad3c25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отором предусматривалась проверка умения применять биологические знания в повседневной жизни Только одна из групп выпускников (с отличной подготовкой) преодолела 50%-ное выполнение («2» – 11%, «3» – 24%, «4» – 39%, «5» – 62%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ительно лучше обстоят дела с выполнением </a:t>
            </a:r>
            <a:r>
              <a:rPr b="0" i="1" lang="ru-RU" sz="2200" spc="-1" strike="noStrike">
                <a:solidFill>
                  <a:srgbClr val="251ba5"/>
                </a:solidFill>
                <a:latin typeface="Arial"/>
              </a:rPr>
              <a:t>задания С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Можно предположить, что это связано с тем, что задание С2 проверяет освоенное значительной частью учащихся умение работать с текстом, находить в нем нужную информацию, представленную как в явном, так и неявном ви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251ba5"/>
                </a:solidFill>
                <a:latin typeface="Arial"/>
              </a:rPr>
              <a:t>Задание С3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на работу со статистическими данными, представленными в табличной форме) с заданием справились уже две группы аттестуемых. Учащиеся с отличной подготовкой показали 73% выполнения, а учащиеся с хорошей подготовкой–58%. У остальных групп % выполнения ниже 40 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1ba5"/>
                </a:solidFill>
                <a:latin typeface="Arial"/>
              </a:rPr>
              <a:t>Рекомендации по подготовке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ение рекомендуем начинать с методов познания человеком живой природы и собственного организма, а также с роли биологии в жизни современно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ение и жизнедеятельность организмов разных царств следует рассматривать комплексно, связывая повторение особенностей внешнего и внутреннего строения организмов с историческим развитием растительного и животного мира и вопросами экологии и охраны природы, которые широко рассмотрены в обобщенном виде изучаются в IX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ый материал за основную школу необходимо проверять на разных уровнях   сложности: базовом, повышенном и высо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ую роль дает введение разнообразных заданий по работе с текстом; оправдало себя введение значительного количества заданий с рисунками, графиками, табли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спешность освоения курса и подготовки к экзамену существенное влияние оказывает правильно подобранная учебная литература и тренировочные пособ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ям биологии задолго до экзамена (возможно, в начале VI класса) следует продумать отбор содержания таким образом, чтобы максимально заложить в учебный процесс отработку требований к знаниям и умениям, сформулированных во ФГ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тическую подготовку к итоговой аттестации целесообразно начинать в первой четверти/триместре IX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Изменения КИМ основного государственного экзамена (ОГЭ) в 2015 год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ржательных изменений не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а структура варианта КИ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вариант состоит из двух ча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в варианте представлены в режиме сквозной нумерации без буквенных обозначений А, В, 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а форма записи ответа на каждое из заданий 1–2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 КИМ 2015 г. требуется записывать цифру, соответствующую номеру правильного ответ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9636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1ba5"/>
                </a:solidFill>
                <a:latin typeface="Arial"/>
              </a:rPr>
              <a:t>ОСОБЕННОСТИ ОЦЕНКИ ПРЕДМЕТ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 объектом содержательной и критериальной базой итоговой оценки выпускников выступают планируемые результаты </a:t>
            </a:r>
            <a:r>
              <a:rPr b="0" lang="ru-RU" sz="2400" spc="-1" strike="noStrike">
                <a:solidFill>
                  <a:srgbClr val="251ba5"/>
                </a:solidFill>
                <a:latin typeface="Arial"/>
              </a:rPr>
              <a:t>«Выпускник научится»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251ba5"/>
                </a:solidFill>
                <a:latin typeface="Arial"/>
              </a:rPr>
              <a:t>Выпускник имеет возможность научитьс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 элементами содержания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умениями, проверяемыми на итоговой аттестации (ГИА) можно ознакомиться в </a:t>
            </a:r>
            <a:r>
              <a:rPr b="0" lang="ru-RU" sz="2400" spc="-1" strike="noStrike">
                <a:solidFill>
                  <a:srgbClr val="251ba5"/>
                </a:solidFill>
                <a:latin typeface="Arial"/>
              </a:rPr>
              <a:t>кодификат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1ba5"/>
                </a:solidFill>
                <a:latin typeface="Arial"/>
              </a:rPr>
              <a:t>Уровни сложности экзаменационной работы ГИ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Часть 1 (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держит 22 задания с выбором одного верного ответа из четырех предложенных, все задания базового уровня с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Часть 2 (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держит 6 заданий повышенного уровня сложности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м ответо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 выбором трех верных ответов из ше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соответст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 определение последовательности биологических процессов, явлений, объек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включение пропущенных в тексте терминов и понят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 соотнесение морфологических признаков организма или его отдельных органов с предложенными моделями по заданному алгорит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Часть 3 (С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держит 4 задания с развернутым ответом, из 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 работу с текстом, требующую извлекать необходимую информацию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оженной, отвечая на поставленные вопрос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работу со статистическими данными, представленными в табличной форм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применение биологических знаний на прак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е задание повышенного, а остальные высокого уровня с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51ba5"/>
                </a:solidFill>
                <a:latin typeface="Arial"/>
              </a:rPr>
              <a:t>Содержательные блоки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6421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Первый блок «Биология как наук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ключает в себя задания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иру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о роли биологии в формировании современной естественнонаучной картины мира, в практической деятельности людей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тоды изучения живых объектов (наблюдение, описание, измерение, эксперимен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Второй блок «Признаки живых организмов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тавлен заданиями, проверяющими материа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строении, функциях и многообразии клеток, тканей, органов и систем орган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ах живых организмов, наследственности и изменчив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ах размножения, приемах выращивания растений и разведения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Третий блок «Система, многообразие и эволюция живой природы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ит задания, контролирующие зн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важнейших отличительных признаках основных царств живой природы: Животные, Растения, Гриб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актерии, Виру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ификации растений и животных: отдел (тип), класс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 усложнении растений и животных в процессе эволю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биоразнообразии как основе устойчивости биосферы и результате эволю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Четвертый блок «Человек и его здоровье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ит задания, выявляющие зн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происхождении человека и его биосоциальной природе, высшей нервной деятельности и об особенностях поведения челове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и и жизнедеятельности органов и систем органов (нервной, эндокринной, кровеносной, лимфатической, дыхания, выделения, пищеварения, половой, опоры и движе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ей среде, об иммунитете, органах чувств, о нейрогуморальной регуляции процессов жизне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нитарно-гигиенических нормах и правилах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Пятый блок «Взаимосвязи организмов и окружающей среды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ит задания, проверяющие зн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системной организации живой природы, об экологических факторах, о взаимодействии разных видов в природ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ых и искусственных экосистемах и входящих в них компонентах, пищевых связя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 экологических проблемах, их влиянии на собственную жизнь и жизнь других люд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правилах поведения в окружающей среде и способах сохранения равновесия в 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Распределение заданий по проверяемым</a:t>
            </a:r>
            <a:br>
              <a:rPr sz="2400"/>
            </a:b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умениям и вида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79280" y="1268280"/>
          <a:ext cx="8713800" cy="5681880"/>
        </p:xfrm>
        <a:graphic>
          <a:graphicData uri="http://schemas.openxmlformats.org/drawingml/2006/table">
            <a:tbl>
              <a:tblPr/>
              <a:tblGrid>
                <a:gridCol w="4788000"/>
                <a:gridCol w="1387440"/>
                <a:gridCol w="2538360"/>
              </a:tblGrid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веряемые умения и вид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цент максим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ервичного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бъяснять роль биологии в формировании современной естественнонаучной картины м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Распознавать: основные части клетки; грибы; органы цветковых растений, раст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ых отделов; органы и системы органов животных, а также животных разных такс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писывать биологические объе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Объяснять взаимосвязи организмов и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равнивать биологические объекты: клетки, ткани, органы и системы органов и организмы разных такс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Знать особенности организма человека, 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Распознавать на рисунках (фотографиях) органы и системы органов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Использовать приобретенные знания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я в практической деятельности и д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людения мер профил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Распределение заданий по проверяемым</a:t>
            </a:r>
            <a:br>
              <a:rPr sz="2400"/>
            </a:b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умениям и вида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628640"/>
          <a:ext cx="8229600" cy="4535640"/>
        </p:xfrm>
        <a:graphic>
          <a:graphicData uri="http://schemas.openxmlformats.org/drawingml/2006/table">
            <a:tbl>
              <a:tblPr/>
              <a:tblGrid>
                <a:gridCol w="4521240"/>
                <a:gridCol w="1311120"/>
                <a:gridCol w="2397240"/>
              </a:tblGrid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веряемые умения и вид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цент максим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ервичного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Использоват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ные знания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я в практическо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и для оказани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Описывать и объяснять результаты эксперимента и данные табл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Анализировать 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ть воз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ов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Проводить самостоятельный поис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ой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0" y="44280"/>
          <a:ext cx="9144000" cy="5023080"/>
        </p:xfrm>
        <a:graphic>
          <a:graphicData uri="http://schemas.openxmlformats.org/drawingml/2006/table">
            <a:tbl>
              <a:tblPr/>
              <a:tblGrid>
                <a:gridCol w="1512720"/>
                <a:gridCol w="76312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                                    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И ПОНИМА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сновные положения биологических законов, теорий, закономерностей, правил, гипотез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ложения биологических теорий (клеточная; хромосомна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тетическая теория эволюции, антропогенеза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ложения учений (о путях и направлениях 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И. Вавилова о центрах многообразия и происхождения культур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ений; В.И. Вернадского о биосфере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ь законов (Г. Менделя; сцепленного наследования Т. Морган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мологических рядов в наследственной изменчивости; зародышев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одства; биогенетического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ь закономерностей (изменчивости; сцепленного наследов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ования, сцепленного с полом; взаимодействия генов и 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тологических основ); правил (доминирования Г. Менделя; экологической пирамиды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ь гипотез (чистоты гамет, происхождения жизни, происхождения человека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0" y="4986360"/>
          <a:ext cx="9144000" cy="1876320"/>
        </p:xfrm>
        <a:graphic>
          <a:graphicData uri="http://schemas.openxmlformats.org/drawingml/2006/table">
            <a:tbl>
              <a:tblPr/>
              <a:tblGrid>
                <a:gridCol w="1476360"/>
                <a:gridCol w="76676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троение и признаки биологических объектов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ток прокариот и эукариот: химический состав и строение органоид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ов, хромосом, гаме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ов, одноклеточных и многоклеточных организмов царств жи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ы (растений, животных, грибов и бактерий), челове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, популяций; экосистем и агроэкосистем; биосфер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108000" y="549360"/>
          <a:ext cx="8928000" cy="1015920"/>
        </p:xfrm>
        <a:graphic>
          <a:graphicData uri="http://schemas.openxmlformats.org/drawingml/2006/table">
            <a:tbl>
              <a:tblPr/>
              <a:tblGrid>
                <a:gridCol w="1439640"/>
                <a:gridCol w="7488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И ПОНИМ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ущность биологических процессов и явлени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08000" y="1484280"/>
          <a:ext cx="8928000" cy="2165400"/>
        </p:xfrm>
        <a:graphic>
          <a:graphicData uri="http://schemas.openxmlformats.org/drawingml/2006/table">
            <a:tbl>
              <a:tblPr/>
              <a:tblGrid>
                <a:gridCol w="1457280"/>
                <a:gridCol w="7470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ен веществ и превращения энергии в клетке и организме, пластический иэнергетический обмен, питание, фотосинтез, хемосинтез, дыхание, брожение, выделение, транспорт веществ, раздражимость, рос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оз, мейоз, развитие гамет у цветковых растений и позвоночных животны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одотворение у цветковых растений и позвоночных животных; развитие и размножение, индивидуальное развитие организма (онтогенез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генов, получение гетерозиса, полиплоидов, отдал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бридов, действие искусственного отбо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108000" y="3645000"/>
          <a:ext cx="8928000" cy="1245960"/>
        </p:xfrm>
        <a:graphic>
          <a:graphicData uri="http://schemas.openxmlformats.org/drawingml/2006/table">
            <a:tbl>
              <a:tblPr/>
              <a:tblGrid>
                <a:gridCol w="1463760"/>
                <a:gridCol w="746424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 движущего и стабилизирующего отбора, географическое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ое видообразование, влияние элементарных факторов эволю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генофонд популяции, формирование приспособленности к среде обит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оворот веществ и превращения энергии в экосистемах и биосфере, эволюция биосфер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108000" y="4869000"/>
          <a:ext cx="8928000" cy="1288800"/>
        </p:xfrm>
        <a:graphic>
          <a:graphicData uri="http://schemas.openxmlformats.org/drawingml/2006/table">
            <a:tbl>
              <a:tblPr/>
              <a:tblGrid>
                <a:gridCol w="1439640"/>
                <a:gridCol w="74883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овременную биологическую терминологию и символику по цитологии,генетике, селекции, биотехнологии, онтогенезу, систематике, экологии,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собенности организма человека, его строения, жизнедеятельности, высшей нервной деятельности и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79280" y="549360"/>
          <a:ext cx="8785440" cy="604368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бъясня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ь биологических теорий, законов, принципов, гипотез в формирова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ременной естественнонаучной картины ми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ство живой и неживой природы, родство, общность происх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ых организмов, эволюцию растений и животных, использу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ие теории, законы и прав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ицательное влияние алкоголя, никотина, наркотических веществ 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зародыша человека; влияние мутагенов на организм челове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наследственных и ненаследственных изменений, наследств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олеваний, генных и хромосомных мутац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связи организмов, человека и окружающей среды; причины устойчивости, саморегуляции, саморазвития и смены экосистем; необходимость сохранения многообразия видов, защиты окружающей сред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эволюции видов, человека, биосферы, единства человеческих рас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и роль человека в природе, родство человека с млекопитающими животными, роль различных организмов в жизни челове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здоровья человека от состояния окружающей среды; прояв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ственных заболеваний, иммунитета у человека; роль гормонов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минов в организм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549360"/>
          <a:ext cx="8785440" cy="467028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устанавливать взаимосвяз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ения и функций молекул, органоидов клетки; органов и систем орган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ического и энергетического обмена; световых и темновых реак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синтез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ущих сил эволюции; путей и направлений 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Реш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 разной сложности по цитологии, генетике (составлять схемы скрещивания), экологии, эволюц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оставлять схемы</a:t>
                      </a: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а веществ и энергии в экосистемах (цепи питания, пищевые сети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распознавать и описыв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тки растений и животны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й вида по морфологическому критерию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ие объекты по их изображению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179280" y="5229360"/>
          <a:ext cx="8785440" cy="59184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системы и агроэкосисте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51:42Z</dcterms:created>
  <dc:creator>nemceva</dc:creator>
  <dc:description/>
  <dc:language>en-US</dc:language>
  <cp:lastModifiedBy>Татьяна Васильевна Немцева</cp:lastModifiedBy>
  <dcterms:modified xsi:type="dcterms:W3CDTF">2015-04-28T10:32:06Z</dcterms:modified>
  <cp:revision>42</cp:revision>
  <dc:subject/>
  <dc:title>Структура системы оценки достижения планируемых результатов ООП ООО по биологии</dc:title>
</cp:coreProperties>
</file>