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F0A9-5134-4F1F-A4AC-22D89AE2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4FD6-DD05-4BBD-BFF8-39F1354A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2476-E59F-4E7C-A250-BC03E0DA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C280-1868-49CA-B6F2-21979833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56D9-E546-4FD2-81F0-D46D7ECCC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4431-9077-492F-B93D-0AA82F1E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D237-A891-44B9-A059-56083BC0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528C-F2E4-4C8E-BFC7-A4BAB710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8556-03A2-499E-8A59-95526D36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A572-C487-435C-8153-C34C1287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5691-11A2-4046-9DF3-21FF5F8D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8903-D48B-42C7-AF4D-9FB7A0C5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1ED9-BB02-4A81-A3FF-242EA4D8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E799-5C5E-41F5-A36B-5E67D824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0BC3-735B-449C-9749-990E54CD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B4C4-A1D0-465E-9326-9D3F1644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7037-40D1-4508-8CD4-937AC71F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87E6-A6DC-4399-BA49-C69B2F52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D2A1-31C1-4DA1-AFF5-68321D90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11E1-D47C-41BA-891B-5D52D9D2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DC97-F4D3-4A5B-9799-BBBCD271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42DD-4C88-4B52-84E2-9B6E7A18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6A90-F289-4040-9A41-91146AD8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9512-95D1-4511-A0E0-9B711A5B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35EB-843C-4147-A372-E211C9F45702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7BF3-F1F7-4608-A4D3-934598A90DF7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920" y="112500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пичные ошибки при выполнении заданий ЕГЭ по би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6836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Автор: Немцева Т.В.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ст.преподаватель кафедры ЕМД ГОУ ЯО ИРО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часть 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790640"/>
            <a:ext cx="844704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2. Белки, в отличие от нуклеиновых кислот,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участвуют в образовании плазматической мембраны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входят в состав хромосом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выполняют гуморальную регуляцию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осуществляют транспортную функцию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5) выполняют защитную функцию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6) переносят наследственную информацию из ядра к рибосоме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Ответ: 1,3,5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Два отличия белков от нуклеиновых кислот определяют 40%, а три отличия – только 20% участников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Типичной ошибкой, которую допускают выпускники, являетс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отнесение транспортной функции только к белкам, тогда как т - РНК также выполняют эту функцию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316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часть 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3. Установите соответствие между характеристикой энергетического обмена и его этапом</a:t>
            </a:r>
            <a:r>
              <a:rPr b="0" i="1" lang="ru-RU" sz="16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ХАРАКТЕРИСТИКА                                                                             ЭТАП ЭНЕРГЕТИЧЕСКОГО ОБМЕНА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А) происходит в анаэробных условиях                                               1) гликолиз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Б) происходит в митохондриях                                                            2) кислородное окисление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В) образуется молочная кислота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Г) образуется пировиноградная кислота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Д) синтезируется 36 молекул АТФ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Arial"/>
              </a:rPr>
              <a:t>Ответ: 1 2 1 1 2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На это задание правильно ответили и получили 2 балла только 13% экзаменуемых. Допустили одну ошибку и получили 1 балл 21%. Остальные получили 0 баллов. При подготовке к ЕГЭ на вопросы, связанные с обменом веществе в клетке, следует обращать особое внимание. Ошибки при выполнении таких заданий повторяются из года в год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4. Установите последовательность процессов, происходящих при фагоцитозе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1) поступление мономеров в цитоплазму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2) захват клеточной мембраной питательных веществ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3) гидролиз полимеров до мономеров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4) образование фагоцитозного пузырька внутри клетки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5) слияние фагоцитозного пузырька с лизосомой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Arial"/>
              </a:rPr>
              <a:t>Ответ: 2 4 5 3 1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При выполнении данного задания правильно определили последовательность и получили 2 балла только 30% экзаменуемых. Низкие результаты свидетельствуют о неумении представить в целом процесс фагоцитоза и определить последовательность его этапов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часть 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71380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В6. Установите соответствие между особенностью процесса и фазой мейоза, для которой она характерна</a:t>
            </a:r>
            <a:r>
              <a:rPr b="1" i="1" lang="ru-RU" sz="1400" spc="-1" strike="noStrike">
                <a:solidFill>
                  <a:srgbClr val="292929"/>
                </a:solidFill>
                <a:latin typeface="Arial"/>
              </a:rPr>
              <a:t>. (18%)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6600"/>
                </a:solidFill>
                <a:latin typeface="Arial"/>
              </a:rPr>
              <a:t>ОСОБЕННОСТЬ 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                                                            </a:t>
            </a:r>
            <a:r>
              <a:rPr b="0" i="1" lang="ru-RU" sz="1400" spc="-1" strike="noStrike">
                <a:solidFill>
                  <a:srgbClr val="ff6600"/>
                </a:solidFill>
                <a:latin typeface="Arial"/>
              </a:rPr>
              <a:t>ФАЗА МЕЙОЗА</a:t>
            </a:r>
            <a:r>
              <a:rPr b="0" i="1" lang="ru-RU" sz="1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292929"/>
                </a:solidFill>
                <a:latin typeface="Arial"/>
              </a:rPr>
              <a:t>А)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расхождение сестринских хромосом                                        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1)  анафаза I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к разным полюсам клетки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Б) образование четырёх гаплоидных                                           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2)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анафаза II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ядер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В) расхождение двухроматидных хромосом                               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3) телофаза II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Г)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увеличение вдвое числа хромосом в клетке при расхождении сестринских хромати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Д)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независимое расхождение хромосом из каждой гомологичной пары</a:t>
            </a:r>
            <a:r>
              <a:rPr b="0" i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В6. Установите соответствие между признаком и видом гаметогенеза, для которого этот признак характерен.</a:t>
            </a:r>
            <a:r>
              <a:rPr b="1" i="1" lang="ru-RU" sz="1400" spc="-1" strike="noStrike">
                <a:solidFill>
                  <a:srgbClr val="292929"/>
                </a:solidFill>
                <a:latin typeface="Arial"/>
              </a:rPr>
              <a:t> (27%)</a:t>
            </a:r>
            <a:r>
              <a:rPr b="0" i="1" lang="ru-RU" sz="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ПРИЗНАК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                                                         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ВИД ГАМЕТОГЕНЕЗА</a:t>
            </a:r>
            <a:r>
              <a:rPr b="0" i="1" lang="ru-RU" sz="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А) образуются яйцеклетки                                                           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1)  овогенез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Б)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созревают четыре гаметы                                                       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2)  сперматогенез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В)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образуются направительные тельца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Г)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гаметы содержат небольшое количество цитоплазмы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Д)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гаметы содержат большое количество питательных вещест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просы, наиболее часто вызывающие затруд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8092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В какой период жизненного цикла клетки синтезируется наибольшее количество АТФ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Сколько хромосом содержит ядро исходной клетки, если при мейозе образуется ядро с 12 хромосомами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Какие связи обеспечивают образование третичной структуры белка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Какая связь обеспечивает соединение кодона и - РНК с антикодоном т - РНК при биосинтезе белка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Какую функцию в клетке выполняет белок ДНК-полимераза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Как преобразуется энергия на подготовительном этапе энергетического обмена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На образование АТФ при фотосинтезе используется энергия электронов молекулы (хлорофилла)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Наибольшее количество энергии запасается в АТФ в процессе (биологического окисления)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Чем второе деление мейоза отличается от первого деления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В результате какого деления происходит уменьшение числа хромосом в 2 раза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Трудными оказались задания линии С1 или С2, связанные с анализом рисунка или текста, на которых были изображены различные органоиды клетки, фазы деления митоза и мейоза, в среднем справились 25–33% участников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Сложными оказались  вопросы, требующие объяснения причин изменения содержания тех или иных органоидов в клетках разных тканей. Для ответа на такие задания необходимо было установить причинно-следственные связи: вспомнить функции конкретных органоидов и объяснить причину их значительного содержания в клетках. Правильно ответили на такие задания только 8–20% участников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100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644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В 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линии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С5</a:t>
            </a: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редлагаются два типа задач по цитологии: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1) на применение знаний о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генетическом коде;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2) на определение числа хромосом и ДНК в разных фазах митоза и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мейоза, в половых и соматических клетках организма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Наибольшие затруднения вызывают задания второго типа, проверяющие знания о хромосомном наборе клеток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спорофита и гаметофита водорослей, мхов, папоротников, голосеменных и цветковых растений; об образовании у растений спор в процессе мейоза, а половых клеток – в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роцессе митоза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Трудными оказываются и задания на определение числа хромосом и ДНК в разных фазах деления при образовании половых клеток у животных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Примеры заданий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1. Какой хромосомный набор характерен для гамет и спор растения мха кукушкина льна?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Объясните, из каких клеток и в результате какого деления они образуются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2. Для соматической клетки животного характерен диплоидный набор хромосом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Определите хромосомный набор (n) и число молекул ДНК (с) в клетке в конце телофазы мейоза I и анафазе мейоза II. Объясните результаты в каждом случае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3. Хромосомный набор соматических клеток пшеницы равен 28. Определите хромосомный набор и число молекул ДНК в ядре (клетке) семязачатка перед началом мейоза I и мейоза II. Объясните результаты в каждом случае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ледует обратить внимание на то, что для решения задач данного тип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необходимо актуализировать знания о сущности митоза и мейоза, процессах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протекающих в разных фазах, циклах развития растений разных отделов. К числу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недостатков в ответах экзаменуемых следует отнести отсутствие объяснений полученных в каждом случае результатов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4. Для соматической клетки животного характерен диплоидный набор хромосом. Определите хромосомный набор (n) и число молекул ДНК (с) в клетке в конце телофазы мейоза I и анафазе мейоза II. Объясните результаты в каждом случае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Схема решения задачи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) в конце телофазы мейоза I набор хромосом – n; число ДНК – 2с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в анафазе мейоза II набор хромосом – 2n; число ДНК – 2с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в конце телофазы I произошло редукционное деление, число хромосом и ДНК уменьшилось в 2 раза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в анафазе мейоза II к полюсам расходятся сестринские хроматиды (хромосомы), поэтому число хромосом и число ДНК равное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                                                                                                         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К числу типичных ошибок следует также отнести наличие в ответе вместо объяснения результатов, как это требуется в условии задачи, описания процессов, происходящих в эти фазы мейоза.       Такие ответы не учитываются, даже если в описании отсутствуют ошибки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Трудными оказались задачи на определение числа хромосом и ДНК в разных фазах митоза или мейоза, в половых и соматических клетках растений разных отделов, животных разных типов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С5. У хламидомонады преобладающим поколением является гаметофит. Определите хромосомный набор споры и гамет хламидомонады. Объясните, из каких исходных клеток и в результате какого деления образуются эти клетки при половом размножении.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92929"/>
                </a:solidFill>
                <a:latin typeface="Arial"/>
              </a:rPr>
              <a:t>Элементы ответа: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) хромосомный набор споры – n (гаплоидный)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2) споры образуются из диплоидной зиготы путём мейоза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3) хромосомный набор гамет – n (гаплоидный)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4) гаметы образуются из клетки взрослого организма (гаметофита) путём митоза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                                                                    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С5. Какой хромосомный набор характерен для вегетативной, генеративной клеток и спермиев пыльцевого зерна цветкового растения? Объясните, из каких исходных клеток и в результате какого деления образуются эти клетки.</a:t>
            </a:r>
            <a:r>
              <a:rPr b="0" i="1" lang="en-US" sz="1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92929"/>
                </a:solidFill>
                <a:latin typeface="Arial"/>
              </a:rPr>
              <a:t>Элементы ответа: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) набор хромосом вегетативной и генеративной клеток – n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2) вегетативная и генеративная клетки пыльцы образуются путём митоза при прорастании гаплоидной споры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3) хромосомный набор спермиев – n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4) спермии образуются из генеративной клетки путём митоза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C5. Укажите число хромосом и количество молекул ДНК в профазе первого и второго мейотического деления клетки. Какое событие происходит с хромосомами в профазе первого деления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Ответ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1. В профазе первого деления количество хромосом и ДНК отвечает формуле 2n4c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2. В профазе второго деления формула – n2с, так как клетка гаплоидна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3. В профазе первого деления происходят конъюгация и кроссинговер гомологичных хромосом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В целом по данному блоку к числу слабо сформированных у выпускников знаний и умений можно отнести следующие:</a:t>
            </a:r>
            <a:r>
              <a:rPr b="0" i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1) знание циклов развития растений разных отделов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2) определение числа хромосом и ДНК в разных фазах деления клетки, объяснение и аргументация причины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3) сравнение гаметофита и спорофита у разных групп растений, спор и половых клеток, спор и клеток спорофита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Arial"/>
              </a:rPr>
              <a:t>Блок 1. Биология – наука о живой природе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К числу 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наиболее сложных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следует отнести задания, в которых требовалось указать минимальный уровень организации живого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00"/>
                </a:solidFill>
                <a:latin typeface="Arial"/>
              </a:rPr>
              <a:t>Назвали уровень, на котором происходит</a:t>
            </a:r>
            <a:r>
              <a:rPr b="0" i="1" lang="ru-RU" sz="2000" spc="-1" strike="noStrike">
                <a:solidFill>
                  <a:srgbClr val="990000"/>
                </a:solidFill>
                <a:latin typeface="Arial"/>
              </a:rPr>
              <a:t>: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                                 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- фотосинтез (клеточный), только 54% участников,                                   - матричный синтез белка (клеточный) – 37%;                                 - метод биологии, изучающий строение и функции белка (биохимический), – 45%;                                                               - метод исследования степени распространения наследственных заболеваний человека (популяционно-статистический) – 27%;                                                                    - уровень организации колонии тлей на листьях смородины (популяционно-видовой) – 46%;                                                 - метод генетики для определения генотипа родительских форм (гибридологический) – 39%,                                                             - метод создания сортов растений с кратным увеличением набора хромосом в клетках (полиплоидизация) – 38%, гибридизация – 55%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Цикл развития спорового рас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Зигота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Зародыш (2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Молодое растение (2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Взрослое растение со спорангиями (спорофит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МЕЙОЗ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Споры (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(высыпаются наружу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Заросток(гаметофит) (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                      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Архегоний                                               Антеридий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                  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Яйцеклетка (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)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                                   Сперматозоиды (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Оплодотворение яйцеклетки в архегонии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                        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Зигота (2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                             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184464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84464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34936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2924280"/>
            <a:ext cx="0" cy="2887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386064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458136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48000" y="530064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20000" y="530064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48000" y="580536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948360" y="580536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6237360"/>
            <a:ext cx="0" cy="2887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лок 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рганизм как биологическая система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лиз ошибок, допущенных выпук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920" y="1790640"/>
            <a:ext cx="866448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6600"/>
                </a:solidFill>
                <a:latin typeface="Arial"/>
              </a:rPr>
              <a:t>Трудности вызвали лишь отдельные задания: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              - способ питания молочнокислых бактерий;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- где требуется определить, что образуется в результате оплодотворения у растений (вместо зиготы выбирается зародышевый мешок);                        - слабо сформированы такие понятия, как генотип, геном, фенотип, альтернативные гены, аутосомы, геномные и генные мутации. </a:t>
            </a:r>
            <a:r>
              <a:rPr b="0" i="1" lang="ru-RU" sz="2800" spc="-1" strike="noStrike">
                <a:solidFill>
                  <a:srgbClr val="ff6600"/>
                </a:solidFill>
                <a:latin typeface="Arial"/>
              </a:rPr>
              <a:t>Традиционно плохо участники отвечают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на вопросы, связанные с методами изучения генетики человека, о сцепленном наследовании генов.                                                 </a:t>
            </a:r>
            <a:r>
              <a:rPr b="0" i="1" lang="ru-RU" sz="2800" spc="-1" strike="noStrike">
                <a:solidFill>
                  <a:srgbClr val="ff6600"/>
                </a:solidFill>
                <a:latin typeface="Arial"/>
              </a:rPr>
              <a:t>Вызвали затруднения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и отдельные задания по эмбриогенезу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лок 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рганизм как биологическая система (часть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48960" y="1981080"/>
            <a:ext cx="7661160" cy="41148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1. Согласно закону Т. Моргана гены наследуются преимущественно вместе, если они расположены 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аутосомах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разных гомологичных хромосомах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одной хромосоме (53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половых хромосомах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2. Генетическая информация зиготы реализуется в процессе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филогенеза 2) гаметогенеза 3) эволюции 4) онтогенеза (50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3. Если при моногибридном скрещивании четверть особей несет рецессивный признак, а три четверти – доминантный, значит, проявляетс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правило единообрази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закон расщепления (48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промежуточное наследование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закон неполного доминировани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лок 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рганизм как биологическая система (часть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. В результате двойного оплодотворения у цветковых растений образуются</a:t>
            </a: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генеративные почки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мядоли (одна или две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зигота и триплоидная клетка (44%)                                                                                         4) плод и семя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5. Совокупность всех признаков и свойств организма, проявляющихся в индивидуальном развитии, называют</a:t>
            </a: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                                                                                  1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генотипом                                 3) генофондом                                                                        2)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модификацией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                    4) фенотипом (40%)</a:t>
            </a:r>
            <a:r>
              <a:rPr b="0" i="1" lang="ru-RU" sz="3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6. Фенотипические различия между однояйцевыми близнецами обусловлены 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взаимодействием аллельных генов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разными генотипами организмов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цеплением генов                                                                                                    4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влиянием условий среды (49%)</a:t>
            </a:r>
            <a:r>
              <a:rPr b="0" i="1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521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На повышенном уровне в частях 1 и 2 наиболее сложными оказались задания по эмбриогенезу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Задания разного типа (выбор одного ответа из четырех, выбор нескольких верных ответов из шести, установление соответствия), проверяющие знание стадий развития зародыша, образования тканей животных из зародышевых листков, сравнение сперматогенеза и овогенеза, выполнены значительно хуже, чем все остальные задания этого блок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71578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сть (А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80" y="1905120"/>
            <a:ext cx="8785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На стадии бластулы зародыш животного имеет полость и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два слоя клеток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эпителиальную ткан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соединительную ткан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один слой клеток (35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2. Какие ткани и органы позвоночного животного образуются из клеток, обозначенных на рисунке цифрой 1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потовые железы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костная ткан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ногтевые пластинк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соединительная ткан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5) кожный эпидермис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6) гладкая мышечная ткан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Ответ: 135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940360" y="4221000"/>
            <a:ext cx="21938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8666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6600"/>
                </a:solidFill>
                <a:latin typeface="Arial"/>
              </a:rPr>
              <a:t>В6. Установите соответствие между характеристикой метода изучения наследственности человека и его названием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 (33%)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ХАРАКТЕРИСТИКА 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                                            </a:t>
            </a: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МЕТОД</a:t>
            </a:r>
            <a:r>
              <a:rPr b="0" i="1" lang="ru-RU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А)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исследуется родословная         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1) цитогенетический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семьи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выявляется сцепленность        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2) генеалогический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признака с полом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изучается число хромосом                                                                            на стадии метафазы митоза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Г)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устанавливается доминантный признак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Д)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определяется наличие геномных мутаций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ХАРАКТЕРИСТИКА                                 ВИД ГАМЕТОГЕНЕЗА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А) образуется одна крупная                    1) овогенез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половая клетка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Б) образуются направительные              2) сперматогенез клетк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В) формируется много мелких                                                                                                гамет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Г) питательные вещества                                                                                                     запасаются в одной из четырех                                                                                      клеток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Д) образуются подвижные гаметы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Ответ: 11212</a:t>
            </a:r>
            <a:r>
              <a:rPr b="0" lang="en-US" sz="3200" spc="-1" strike="noStrike">
                <a:solidFill>
                  <a:srgbClr val="cccc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777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ые низкие результаты (1 балл – 27%; 2 балла – 15%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олучены на следующе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6662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4. </a:t>
            </a: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Установите соответствие между органом, тканью позвоночного животного и зародышевым листком, из которого они образуютс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ОРГАН, ТКАНЬ                             ЗАРОДЫШЕВЫЙ ЛИСТОК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А) кишечник                                  1) энтодерм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Б) кровь                                        2) мезодерм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В) почк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Г) легкие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Д) хрящевая ткан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Е) сердечная мышц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Ответ: 12212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При подготовке к ЕГЭ следует особое внимание уделит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повторению характерных признаков разных стадий развития зародыша, установлению соответствия между тканями и органами животных и конкретными зародышевыми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листками, которые их формируют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зкие результаты получены и на задание, в котором требовалось установит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арактеристики геномных мут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215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6600"/>
                </a:solidFill>
                <a:latin typeface="Arial"/>
              </a:rPr>
              <a:t>5. Чем характеризуется геномная мутация?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92929"/>
                </a:solidFill>
                <a:latin typeface="Arial"/>
              </a:rPr>
              <a:t>1) изменением нуклеотидной последовательности ДНК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92929"/>
                </a:solidFill>
                <a:latin typeface="Arial"/>
              </a:rPr>
              <a:t>2) утратой одной хромосомы в диплоидном наборе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92929"/>
                </a:solidFill>
                <a:latin typeface="Arial"/>
              </a:rPr>
              <a:t>3) кратным увеличением числа хромосом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92929"/>
                </a:solidFill>
                <a:latin typeface="Arial"/>
              </a:rPr>
              <a:t>4) изменением структуры синтезируемых белков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92929"/>
                </a:solidFill>
                <a:latin typeface="Arial"/>
              </a:rPr>
              <a:t>5) удвоением участка хромосомы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92929"/>
                </a:solidFill>
                <a:latin typeface="Arial"/>
              </a:rPr>
              <a:t>6) изменением числа хромосом в кариотипе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8080"/>
                </a:solidFill>
                <a:latin typeface="Arial"/>
              </a:rPr>
              <a:t>Ответ: 236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Из года в год сложными оказываются задания, требующие установить различия между генотипом, геномом и кариотипом, неаллельными и аллельными генами на конкретных примерах; указать причины хромосомных и геномных мутаций, постоянств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хромосомного набора организмов при половом размножении, признаки модификационной и наследственной изменчивости, методы, применяемые в селекции и биотехнологии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6600"/>
                </a:solidFill>
                <a:latin typeface="Arial"/>
              </a:rPr>
              <a:t>Блок 1. Биология – наука о живой природе.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нализ ошибок, допущенных выпукниками (часть 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1790640"/>
            <a:ext cx="859140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Экзаменуемые в целом освоили материал об уровнях организации живого и методах его изучения, роли различных биологических наук в познании природы, признаках и свойствах живых организмов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Однако отдельные задания вызвали затруднения</a:t>
            </a: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1. В основе разделения органоидов методом центрифугирования лежат их различия по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1) строению и составу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2) выполняемым функциям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3) размеру и массе (49%)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4) расположению в цитоплазме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2. Какие органоиды были обнаружены в клетке впервые с помощью электронного микроскопа?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1) ядра 2) хлоропласты 3) рибосомы (51%) 4) вакуоли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К числу </a:t>
            </a:r>
            <a:r>
              <a:rPr b="1" i="1" lang="ru-RU" sz="1800" spc="-1" strike="noStrike">
                <a:solidFill>
                  <a:srgbClr val="292929"/>
                </a:solidFill>
                <a:latin typeface="Arial"/>
              </a:rPr>
              <a:t>сложных следует отнести задания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, в которых требовалось определить область биологии, изучающую межвидовые отношения (экология), метод генетики человека, с помощью которого устанавливается характер наследования признаков (генеалогический); метод, используемый в генетике для определения геномных мутаций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 (часть 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56908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В заданиях линии С6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предлагались генетические задачи:                                                                - на дигибридное скрещивание,                                                                                          - наследование признаков, сцепленных с полом,                                                - сцепленное наследование признаков.                                                                                         С этими заданиями в среднем справились 25% участников.                                                                                       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Кроме составления схем скрещивания и определения генотипов родителей и потомства, по условию задачи необходимо было объяснить причины представленных в условии результатов. Экзаменуемые должны были обосновать полученный результат и объяснить, какой закон имел место в конкретном случае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Так, например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, необходимо было объяснить полученные результаты при полном сцеплении генов, появление четырех фенотипических групп в анализирующем скрещивании при сцепленном наследовании генов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Невысокий результат выполнения этого задания можно объяснить тем, что многие выпускники сосредоточились только на решении задачи и составлении схемы скрещивания, не обращая внимания на то, что в условии требовалось объяснить закон и полученный результат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 (часть 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Наибольшие трудности в этом году вызвали генетические задачи на анализ</a:t>
            </a:r>
            <a:br>
              <a:rPr sz="1800"/>
            </a:b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родословных и наследование групп крови и резус-фактора, а также задача, в которой один</a:t>
            </a:r>
            <a:br>
              <a:rPr sz="1800"/>
            </a:b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признак был аутосомным, а другой сцеплен с Х-хромосомой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. Группа крови и резус-фактор – аутосомные несцепленные признаки. Группа крови контролируется тремя аллелями одного гена: i0, IA, IB. Аллели IA и IB доминантны по отношению к аллелю i0. Первую группу (0) определяют рецессивные аллели i0, вторую группу (А) определяет доминантный аллель IA, третью группу (В) определяет доминантный аллель IB, а четвертую (АВ) – два доминантных аллеля – IAIB. Положительный резус-фактор (R) доминирует над отрицательным (r). У отца третья группа крови и положительный резус (дигетерозигота), у матери вторая группа и положительный резус (дигомозигота). Определите генотипы родителей. Какую группу крови и резус-фактор могут иметь дети в этой семье, каковы их возможные генотипы и соотношение фенотипов? Составьте схему решения задачи. Какой закон наследственности проявляется в данном случае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71280" y="-243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 (часть 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28948" t="42826" r="12111" b="19532"/>
          <a:stretch/>
        </p:blipFill>
        <p:spPr>
          <a:xfrm>
            <a:off x="395280" y="1916280"/>
            <a:ext cx="83534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 (часть 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893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ри решении генетических задач следует внимательно читать условие задачи, анализировать его и правильно определять признаки, генотипы родителей (см. задачу 1)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ри наличии в условии буквенных обозначений признаков нужно использовать указанные в задаче  символы, а не упрощать их или приводить свои, так как это может привести к неверному решению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Если в условии задачи указано, что признак сцеплен с Х-хромосомой, то его нужно обозначать Хh, а не просто h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Аналогично нужно использовать символы,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обозначающие группы крови (см. задачу 2)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Небрежность при решении задачи может привести к потере баллов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158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Блока 4 «Система и многообразие органического мира»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42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В работу включены вопросы общебиологического характера о систематике организмов, особенностях строения и жизнедеятельности бактерий, грибов, растений и животных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При их выполнении учащиеся должны были продемонстрировать умения определять организмы и особенности их строения по рисункам или описанию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Слабо усвоенным оказался материал о признаках, лежащих в основе классификации цветковых растений, отличительных признаках основных групп растений и животных, особенностях жизнедеятельности организмов разных царств. В частности, вызвали затруднения вопросы об органах дыхания у насекомых, моллюсков разных классов, определение по рисунку зон корня, хотя этот материал относится к базовым знаниям и представлен во всех учебниках.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      органического мира» (часть 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По разделу «Растения» экзаменуемые часто затрудняются ответить на вопросы о строении корня, росте дерева в толщину за счет деления клеток камбия, о причинах     передвижения воды в растениях, об особенностях образования плодов и семян у покрытосеменных растений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1. Из завязи пестика после оплодотворения образуется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1) семя 2) зигота 3) плод (49%) 4) зародыш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2. Найдите верное описание корневого волоска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1) часть корня, защищенная корневым чехликом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2) молодой кончик корня, состоящий из одинаковых клеток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3) молодая сильно вытянутая клетка с тонкой оболочкой (32%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4) часть корня, в которой находятся сосуды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     органического мира» (часть 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Слабо усвоены знания о грибах и бактериях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Так, на вопрос об отличии грибов от бактерий вместо ответа «наличие ядра» экзаменуемые выбрали ответ «являются гетеротрофами», не учитывая, что многие бактерии также гетеротрофные организмы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Выпускники часто не знают организмов, способных к хемосинтезу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3. Для каких организмов характерен хемосинтез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цианобактерий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бактериофаго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эукариот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серобактерий (48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4. Микориза – это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паразит, живущий за счет других организмо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симбиоз мицелия с корнями растений (51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болезнь растения, вызванная грибам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гифы гриба, на которых развивается плодовое тело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-100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органического мира» (часть 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По разделу «Животные» основные трудности вызвал материал о беспозвоночных животных. Экзаменуемые затруднились ответить на вопросы о функции ресничек у инфузории, стрекательных клеток у гидры, о развитой нервной системы у свободноживущих организмов по сравнению с паразитическими формами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5. Какую функцию выполняет клетка, обозначенная вопросительным знаком на схеме строения тела гидры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вызывает паралич или гибель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прикоснувшихся мелких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животных (47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при делении образует клетки                                                                                            других видо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воспринимает действия химических                                                         раздражителей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принимает возбуждение и передает                                                                         его другим клеткам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64000" y="3573360"/>
            <a:ext cx="29530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органического мира» (часть 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6. Что происходит в пищеварительных вакуолях простейших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неорганические вещества растворяются и выводятся наружу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органические вещества превращаются в воду и углекислый газ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синтезируются органические веществ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сложные органические вещества расщепляются до мономеров (39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Слабые знания о функциях органоидов клетки приводят к низким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результатам. 25% учащихся выбрали ответ 1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7. У свободноживущего плоского червя белой планарии, в отличие от печеночного сосальщика,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тело имеет двустороннюю симметрию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жизненный цикл происходит со сменой хозяе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имеется выделительная систем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нервная система и органы чувств лучше развиты (43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органического мира» (часть 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8845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8. Обыкновенный дельфин, погружаясь в морские глубины, расходует кислород, который содержится в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1) легких (54%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2) полостях тела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3) воздушных мешках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4) жабрах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9. У млекопитающих, по сравнению с пресмыкающимися, в процессе эволюции в дыхательной системе появились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1) легочные пузырьки в легких (42%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2) трахеи и бронх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3) правое и левое легкие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4) ноздри и носовые полост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56908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6600"/>
                </a:solidFill>
                <a:latin typeface="Arial"/>
              </a:rPr>
              <a:t>Наибольшие трудности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у участников вызвали вопросы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- о различии состава ДНК и РНК, о кроссинговере и конъюгации, процессах, протекающих в митозе и мейозе, свойствах генетического кода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- по метаболизму в клетках,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- различным типам деления клетки,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- соответствия триплета на ДНК и антикодона на т-РНК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6600"/>
                </a:solidFill>
                <a:latin typeface="Arial"/>
              </a:rPr>
              <a:t>Выпускники не знают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, что триплет на ДНК соответствует кодону на и-РНК, который, в свою очередь, соответствует антикодону на т-РНК. Следовательно, чтобы правильно найти соответствие триплета на ДНК и антикодона на т-РНК, следует дважды по принципу комплементарности найти соответствующие нуклеотиды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Блока 4 «Система и многообразие органического ми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6421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6600"/>
                </a:solidFill>
                <a:latin typeface="Arial"/>
              </a:rPr>
              <a:t>10. Промежуточными хозяевами паразитических червей называют те организмы, в которых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взрослые особи живут, но не размножаются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живут и развиваются личинки паразита (46%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аразиты откладывают яйца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живут и размножаются взрослые особи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6600"/>
                </a:solidFill>
                <a:latin typeface="Arial"/>
              </a:rPr>
              <a:t>11. Все многоклеточные животные имеют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кровеносную систему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дифференцированные клетки (44%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двуслойное тело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двустороннюю симметрию тела</a:t>
            </a:r>
            <a:r>
              <a:rPr b="0" i="1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6600"/>
                </a:solidFill>
                <a:latin typeface="Arial"/>
              </a:rPr>
              <a:t>12. Какой буквой на рисунке обозначена зона корня,                                          состоящая из образовательной ткани?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А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Б (24%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В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Г</a:t>
            </a:r>
            <a:r>
              <a:rPr b="0" i="1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588000" y="4365720"/>
            <a:ext cx="8431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органического мира» (часть 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35992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Наибольшие затруднения у экзаменуемых вызвали задания на сопоставление биологических объектов (В4).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Сопоставить: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- строение и размножение мхов и папоротников,                              - особенностей органов дыхания у представителей моллюсков,                                                                                  - развитие насекомых с полным и неполным превращением на конкретных примерах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Определить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принадлежность представителей позвоночных к определенным классам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Соотносить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признаки птиц и пресмыкающихся у археоптерикса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органического мира» (часть 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64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В4. Установите соответствие между особенностью размножения и отделом растений, для которого она характерна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. (25%)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ОСОБЕННОСТЬ РАЗМНОЖЕНИЯ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                       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ОТДЕЛ РАСТЕНИЙ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А)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В цикле развития преобладает гаметофит           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1)  Моховидные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Б)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В цикле развития доминирует бесполое              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2)  Папоротниковидные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поколение растений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В)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Образование спор происходит в коробочке (спорогоне)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Г)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Спорофит не способен к образованию органических веществ из неорганических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Д)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Гаметофит представлен заростком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Е)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Спора прорастает в предросток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органического мира» (часть 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8080" y="1341360"/>
            <a:ext cx="884556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1. Установите соответствие между признаком животного и классом, для которого он характерен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ПРИЗНАК ЖИВОТНОГО                                       КЛАСС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А) наличие головогруди и брюшка                       1) Паукообразные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Б) одна пара усиков                                               2) Насекомые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В) четыре пары ходильных ног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Г) глаза простые или отсутствуют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Д) дыхание только трахейное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Ответ: 1211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Выпускники не смогли найти отличительные признаки насекомых и паукообразных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органического мира» (часть 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Самые низкие показатели выполнения заданий данного блока связаны с практико-ориентированными заданиями (С1).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                                                                                              Участники ЕГЭ затруднились объяснить, как происходит заражение таежным энцефалитом, причины отсутствия семян в метелках кукурузы, роль грибницы в жизни грибов, суть опыта по выделению кислорода растениями при фотосинтезе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6600"/>
                </a:solidFill>
                <a:latin typeface="Arial"/>
              </a:rPr>
              <a:t>С1. Растение кукуруза имеет два типа соцветий: початок и метёлку. Почему плоды образуются только в початке?</a:t>
            </a:r>
            <a:r>
              <a:rPr b="0" i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(20%)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Элементы ответа: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1) початок состоит из женских цветков, в которых образуются плоды – зерновки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2) метёлка состоит из мужских цветков, которые образуют пыльцу, участвующую в оплодотворении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6600"/>
                </a:solidFill>
                <a:latin typeface="Arial"/>
              </a:rPr>
              <a:t>С1. Почему люди, работающие в тайге в весенне-летнее время, нередко заболевают тяжёлой болезнью – таёжным энцефалитом? Объясните, как происходит заражение.</a:t>
            </a:r>
            <a:r>
              <a:rPr b="0" i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(29%)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Элементы ответа: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) в это время в тайге активизируются таёжные клещи, которые, питаясь кровью зверей и птиц, становятся переносчиками возбудителей энцефалита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2) клещи, попавшие на кожу человека, присасываются к ней и со слюной вносят в неё возбудителей энцефалита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органического мира» (часть 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Примеры заданий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С1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, вызвавших затруднения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1. Ветроопыляемые деревья и кустарники чаще зацветают до распускания листьев, и в их тычинках, как правило, образуется гораздо больше пыльцы, чем у насекомоопыляемых. Объясните, с чем это связано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2. Почему малярия распространена в заболоченных районах? Кто является возбудителем этого заболевания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Многие ответы оказались правильными, но неполными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Так,  при ответе на задание 1 экзаменуемые указали, что большое количество пыльцы обеспечивает вероятность опыления и оплодотворения. Однако объяснения причины зацветания ветроопыляемых растений до распускания листьев дали только 12% участников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При ответе на задание 2 экзаменуемые правильно указали, что переносчиком малярии являются малярийные комары, однако не указали, что личинки комара развиваются в воде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               органического мира» (часть 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Выпускники плохо справляются с заданиями линии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С3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– высокого уровн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сложности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С</a:t>
            </a: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 3. В чем состоит связь дыхания и фотосинтеза у растений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За это задание 1 балл получили 31%; 2 балла – 6%; 3 балла – только 1%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экзаменуемых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В ответе требовалось раскрыть следующие позиции: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какие вещества выделяются и поглощаются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как происходит преобразование солнечной энергии 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энергии АТФ;                                                                                                                             3) что происходит с органическими веществами в этих процессах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Чаще всего в ответе участники указывали только на поглощение углекислого газа и выделение кислорода при фотосинтезе, и на поглощение кислорода и выделение углекислого газа при дыхании. Остальные позиции в ответах не были раскрыты, что привело к таким низким результатам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-316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лок 5 «Человек и его здоровье» (часть 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0000" y="1483920"/>
            <a:ext cx="87836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Примеры заданий разных уровней сложности, вызвавших наибольшие затруднения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2. Какой буквой обозначен на рисунке двигательный нейрон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А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Б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В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Г (48%)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. В организме человека облегчает расщепление жиров, усиливает перистальтику кишечник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поджелудочный сок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соляная кислот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инсулин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желчь (37%)                                                                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33075" t="22153" r="39769" b="59116"/>
          <a:stretch/>
        </p:blipFill>
        <p:spPr>
          <a:xfrm>
            <a:off x="4211640" y="2708280"/>
            <a:ext cx="367200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2920" y="-171360"/>
            <a:ext cx="715824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лок 5 «Человек и его здоровье» (часть 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А17. В клетки тела человека питательные вещества поступают из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лимфы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клеток крови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тканевой жидкости (19%)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венозной крови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А33. Крупные лимфатические сосуды впадают в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крупные артерии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сердце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лёгочные вены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полые вены ( 26%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А33. Пассивный искусственный иммунитет у человека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формируется после перенесённого заболевания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имеет кратковременное действие (24%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образуется после введения антибиотиков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сохраняется в течение всей жизни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6600"/>
                </a:solidFill>
                <a:latin typeface="Arial"/>
              </a:rPr>
              <a:t>А34. При выработке условного рефлекса условный раздражитель должен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следовать сразу после безусловного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предшествовать безусловному (26%)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постепенно ослабляться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быть сильнее безусловного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лок 5 «Человек и его здоровье» (часть 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В5. Установите соответствие между процессом пищеварения у человека и органом пищеварительной системы, в котором он происходит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(19,4%)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ОЦЕСС ПИЩЕВАРЕНИЯ</a:t>
            </a: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РГА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А) Происходит окончательное                    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 желудок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расщепление жиров                                    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 тонкая кишка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Б) Начинается переваривание белков        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 толстая кишка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В) Происходит расщепление клетчатк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Г) Пищевая масса обрабатывается                                                        желчью и поджелудочным соком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Д) Происходит интенсивное всасывание                                              питательных веществ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790640"/>
            <a:ext cx="844704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В этом блоке затруднения у выпускников вызвали вопросы о строении и функциях органических компонентов и органоидов клетки, об энергетическом обмене веществ, о фотосинтезе, биосинтезе белка, репликации ДНК, различных типах деления клетки.</a:t>
            </a:r>
            <a:r>
              <a:rPr b="0" i="1" lang="en-US" sz="16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i="1" lang="ru-RU" sz="1700" spc="-1" strike="noStrike">
                <a:solidFill>
                  <a:srgbClr val="ff6600"/>
                </a:solidFill>
                <a:latin typeface="Arial"/>
              </a:rPr>
              <a:t>. </a:t>
            </a:r>
            <a:r>
              <a:rPr b="0" i="1" lang="en-US" sz="17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i="1" lang="ru-RU" sz="1700" spc="-1" strike="noStrike">
                <a:solidFill>
                  <a:srgbClr val="ff6600"/>
                </a:solidFill>
                <a:latin typeface="Arial"/>
              </a:rPr>
              <a:t>Одна из функций клеточного центра</a:t>
            </a:r>
            <a:r>
              <a:rPr b="0" i="1" lang="ru-RU" sz="1700" spc="-1" strike="noStrike">
                <a:solidFill>
                  <a:srgbClr val="292929"/>
                </a:solidFill>
                <a:latin typeface="Arial"/>
              </a:rPr>
              <a:t> –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1) управление биосинтезом белка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2) формирование ядерной оболочки 3) образование веретена деления (53%)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4) перемещение веществ в клетке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6600"/>
                </a:solidFill>
                <a:latin typeface="Arial"/>
              </a:rPr>
              <a:t>2. Вторичная структура белка поддерживается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1) ковалентными связями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2) электростатическими взаимодействиями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3) водородными связями (54%)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4) гидрофобными взаимодействиями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6600"/>
                </a:solidFill>
                <a:latin typeface="Arial"/>
              </a:rPr>
              <a:t>3. Сигнальную, двигательную, транспортную и защитную функции в клетке выполняю</a:t>
            </a:r>
            <a:r>
              <a:rPr b="0" lang="ru-RU" sz="1700" spc="-1" strike="noStrike">
                <a:solidFill>
                  <a:srgbClr val="ff6600"/>
                </a:solidFill>
                <a:latin typeface="Arial"/>
              </a:rPr>
              <a:t>т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1) белки (52%)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2) углеводы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3) липиды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4) ДНК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87280" y="-171360"/>
            <a:ext cx="715824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лок 5 «Человек и его здоровье» (часть С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85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С2. На рисунке представлены слои кожи человека, обозначенные буквами А и В. Назовите их. Какие функции они выполняют?</a:t>
            </a:r>
            <a:r>
              <a:rPr b="1" i="1" lang="en-US" sz="12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Элементы ответа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1)       А – эпидермис;                                                                                                                                                                                                       В – подкожная жировая клетчатка;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2) эпидермис выполняет защитную                                                                                                                                                 функцию, обеспечивает образование                                                                                                                                                         пигмента;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3) подкожная жировая клетчатка                                                                                                                                                   препятствует  охлаждению тела,                                                                                                                                         является энергетическим                                                                                                                                                              резервом, играет роль амортизатора                                                                                                                                                           при ушибах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С3. Что лежит в основе изменения кровяного давления человека в спокойном состоянии и во время работы? Какие отделы нервной системы это обеспечивают?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Элементы ответа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1) в спокойном состоянии расслабляются гладкие мышцы сосудов и увеличивается их просвет, давление понижается;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2) во время работы сокращаются гладкие мышцы сосудов, сужается их просвет, давление повышается;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3) в изменении кровяного давления участвуют симпатический (повышает) и парасимпатический (понижает) отделы вегетативной нервной системы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148360" y="1916280"/>
            <a:ext cx="266364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87280" y="-31644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лок 5 «Человек и его здоровье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Arial"/>
              </a:rPr>
              <a:t>Наиболее низкие результаты (18–24%) получены на отдельные задания базового уровня: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                                         - распознавание по рисунку нервной и эпителиальной ткани,                                                                                                            - тип соединения костей конечностей,                                            - условия формирования и сохранения пассивного иммунитета,                                                                           - определение места впадения крупных лимфатических сосудов,                                                                                - особенности выработки условного рефлекса, поступления веществ в клетки из тканевой жидкости,                                                                                 - процессы регуляции теплоотдачи у человека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280" y="-31644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Блок 6. Эволюция живой при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Выявлены отдельные понятия, закономерности, слабо освоенные выпускниками и требующие серьезной подготовки: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- установление признака, на основании которого особей относят к одному виду, изменчивости, приводящей к сохранению особей с полезными свойствами;                                                            - определение атавизмов на конкретных примерах, экологического видообразования при разделении популяции по срокам размножения, экологических критериев вида;                                                                                           - признаки морфофизиологического прогресса на примерах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Значительные затруднения вызвали задания в разных вариантах, где требовалось установить первично- и вторично водных животных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Блок 6. Эволюция живой при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42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А22. Приспособленность организмов к среде обитания формируется в результате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модификационной изменчивости (49%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стремления особей к совершенствованию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применения методов селекции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сохранения особей с полезными изменениями (21%)</a:t>
            </a:r>
            <a:r>
              <a:rPr b="1" i="1" lang="ru-RU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В8. Установите последовательность формирования популяции тёмноокрашенной бабочки берёзовой пяденицы в загрязнённых промышленных районах</a:t>
            </a:r>
            <a:r>
              <a:rPr b="0" i="1" lang="ru-RU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i="1" lang="ru-RU" sz="1400" spc="-1" strike="noStrike">
                <a:solidFill>
                  <a:srgbClr val="292929"/>
                </a:solidFill>
                <a:latin typeface="Arial"/>
              </a:rPr>
              <a:t>31%).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появление в потомстве разноокрашенных бабочек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увеличение численности бабочек с более тёмной окраской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сохранение в результате естественного отбора бабочек с тёмной окраской и гибель со светлой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возникновение популяции тёмноокрашенных бабочек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92929"/>
                </a:solidFill>
                <a:latin typeface="Arial"/>
              </a:rPr>
              <a:t>Слабо сформированы у выпускников учебные умения сравнивать и сопоставлять эволюционные процессы, признаки организмов: дивергенцию и конвергенцию; ароморфозы и идиоадаптации на примерах у пресмыкающихся, растений; науки, изучающие различные доказательства эволюции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92929"/>
                </a:solidFill>
                <a:latin typeface="Arial"/>
              </a:rPr>
              <a:t>К типичным ошибкам, повторяющимся из года в год, следует отнести неумение экзаменуемых устанавливать правильную последовательность процессов видообразования и формирования приспособленности как результата эволюции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31640" y="-17136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Блок 7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. </a:t>
            </a: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Экосистемы и присущие им закономе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78544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Задания по экологии, как правило, выполняются хорошо и не вызывают особых затруднений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ри ответе на задания экологического характера </a:t>
            </a:r>
            <a:r>
              <a:rPr b="0" i="1" lang="ru-RU" sz="2400" spc="-1" strike="noStrike">
                <a:solidFill>
                  <a:srgbClr val="ff6600"/>
                </a:solidFill>
                <a:latin typeface="Arial"/>
              </a:rPr>
              <a:t>выпускники должны продемонстрировать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знание основных экологических закономерностей, сформированность учебных умений выявлять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существенные признаки экосистемы, процессов круговорота веществ и превращения энергии, устанавливать взаимосвязи организмов в экосистеме и типы их взаимодействия, антропогенные изменения в биосфере, составлять цепи питания, сравнивать природные экосистемы и агроэкосистемы.                                                                         </a:t>
            </a:r>
            <a:r>
              <a:rPr b="0" i="1" lang="ru-RU" sz="2400" spc="-1" strike="noStrike">
                <a:solidFill>
                  <a:srgbClr val="ff6600"/>
                </a:solidFill>
                <a:latin typeface="Arial"/>
              </a:rPr>
              <a:t>Отдельные трудности возникли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у экзаменуемых при выполнении заданий на определение устойчивости различных экосистем, сравнение агроэкосистем и природных сообществ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1578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Блок 7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. </a:t>
            </a: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Экосистемы и присущие им закономе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ри ответе на задания экологического характера учащиеся продемонстрировали знание основного содержания и сформированность ряда учебных умений: выявлять существенные признаки экосистемы, процессов круговорота веществ и превращения энергии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Однако в этом году, в отличие от предыдущих лет, вызвали затруднения задания на установление абиотических факторов среды, определение консументов и продуцентов в экосистемах и цепях питания, выбор правильного суждения об агроценозах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15824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Блок 7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. </a:t>
            </a: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Экосистемы и присущие им закономе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А25. Какой организм отсутствует в приведённой цепи питания: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листовой опад </a:t>
            </a: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 </a:t>
            </a: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… </a:t>
            </a: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 </a:t>
            </a: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ёж </a:t>
            </a: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 </a:t>
            </a: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лисица?</a:t>
            </a:r>
            <a:r>
              <a:rPr b="0" i="1" lang="ru-RU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кузнечик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майский жук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гриб-трутовик (38%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дождевой червь (46%)</a:t>
            </a:r>
            <a:r>
              <a:rPr b="0" i="1" lang="ru-RU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А24. Минеральные вещества, используемые растениями в процессе почвенного питания, относят к группе факторов</a:t>
            </a:r>
            <a:r>
              <a:rPr b="0" i="1" lang="ru-RU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сезонных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антропогенных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биотических (36%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абиотических (39%)</a:t>
            </a:r>
            <a:r>
              <a:rPr b="0" i="1" lang="ru-RU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А35. Разделение популяций одного вида по срокам размножения может привести к</a:t>
            </a:r>
            <a:r>
              <a:rPr b="0" i="1" lang="ru-RU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популяционным волнам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экологическому видообразованию (28%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усилению межвидовой борьбы (36%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конвергенции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признаков</a:t>
            </a: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ff6600"/>
                </a:solidFill>
                <a:latin typeface="Arial"/>
              </a:rPr>
              <a:t>В заданиях части С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участники не смогли обосновать:                                                                                      -  последствия обработки деревьев ядохимикатами,                                                                                                   - приспособленность растений к жизни в тундре.                                                                                   - объяснить, почему каменный уголь относят к веществам биогенного происхождения и невосполнимым ресурсам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-243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790640"/>
            <a:ext cx="844704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На повышенном уровне в части 1 на низком уровне выполнены следующие задания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4. В процессе обмена веществ в клетке энергия АТФ может использоватьс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для выделения углекислого газа из клетк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на поступление веществ в клетку через плазматическую мембрану (17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при расщеплении биополимеро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для образования воды на кислородном этапе энергетического обмен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5. Четвертичная структура молекулы гемоглобина представляет собой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глобулу из одной полипептидной цеп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двойную полипептидную спирал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несколько соединенных полипептидных цепей (40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последовательность аминокислот в полипептидной цеп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4960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6. Какой способ питания характерен для молочнокислых бактерий?</a:t>
            </a:r>
            <a:r>
              <a:rPr b="0" i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гетеротрофный (30%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хемотрофный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автотрофный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фототрофный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7. Синтез ДНК в клетке, кроме ядра, происходит в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рибосомах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шероховатой эндоплазматической сети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митохондриях (30%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аппарате Гольджи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15824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В части 2 (В)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слабо сформированными оказались умения сравнивать и соотносить:                                                 - клетки прокариот и эукариот;                                                        - соматические и половые клетки;                                                                   - процессы, протекающие в интерфазе, митозе и мейозе, при фотосинтезе и энергетическом обмене.                                                   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Вызвали существенные затруднения и задания на установление последовательности процессов, протекающих при фотосинтезе, гаметогенеза (сперматогенеза) у животных, хотя этот материал представлен во всех учебниках по общей биологии как базового, так и профильного уровня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790640"/>
            <a:ext cx="852012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части 2 (В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к числу трудных следует отнести следующие задания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1. Какие особенности строения и свойств воды определяют ее функции в клетке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1) способность образовывать водородные связ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2) наличие в молекулах макроэргических связей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3) полярность молекулы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4) высокая теплоемкость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5) способность образовывать ионные связ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6) способность выделять энергию при расщеплени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Ответ: 1,3,4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Две функции воды в клетке учащиеся определяют легко (48%), а три функции отмечают только 30% участников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0:22:35Z</dcterms:created>
  <dc:creator>nemceva</dc:creator>
  <dc:description/>
  <dc:language>en-US</dc:language>
  <cp:lastModifiedBy>nemceva</cp:lastModifiedBy>
  <dcterms:modified xsi:type="dcterms:W3CDTF">2014-09-18T12:46:28Z</dcterms:modified>
  <cp:revision>16</cp:revision>
  <dc:subject/>
  <dc:title>Уровни организации живых систем</dc:title>
</cp:coreProperties>
</file>