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162F-5CB0-4607-A558-7978794E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9576-63CE-4F16-BCAB-1FAECCF7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7727-DD75-4338-8003-6341CDE1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B98D-9864-4BB5-8EB9-E6FD1AC1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B282-958C-45A3-90AB-25ECF9ED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29F4-6865-4F80-8861-CC6CA8F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FC8D-24A6-4A81-8634-14C69487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8948-4504-4D23-8EE0-8FB913D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4CE0-51AD-48F5-8B6B-F325BCA8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4FE2-62A6-4E8B-B7E6-7457238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220B-42E4-402B-BA67-51A95680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B405-D2FC-4570-8CCB-16A1C1E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D36F-5F7F-4B79-8ABF-73FDC403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AAD3-FF2C-4B61-B396-41896EA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668E-A369-4A4A-8AB0-2A737C41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0C5-82BD-4351-A312-600C69AE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4ED4-EB22-4A1E-A2C0-A91BB875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67FA-1D4E-47FA-956D-A56764D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08AF-D30F-44D3-8818-60E05A3B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14CE-8E08-4F28-80F0-988A5D25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FE7F-CD06-4AE5-A57D-591F788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BE35-3C93-42D0-A4B0-2DD75920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3E3B-D527-42A4-B5D4-1A9E543F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30AE-B11D-48DF-87F3-20C04882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8550-CC0F-47F5-B656-DC9A3679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BC10-8BBF-428E-BEE1-9908170D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2FCC-D799-4995-9317-E4602AD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B6CA-3257-4BA9-B269-F4A946FA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F219-5E64-423C-9651-97B04D30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44B5-5C6F-4823-9487-564FD6DA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0D1C-C621-4027-8719-2ABBCF80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397D-69F2-4E56-8DFB-98F33391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461C-F01B-45C3-9AD4-B099D3AF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2A5E-534A-4B0E-8421-04D04CB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82AC-E886-4AAD-8191-F0720C01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1B35-5CDF-4E7B-AFB6-3E182850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CC5A-7944-4CFE-89FD-ABAFB5E4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E5E2-6877-43EA-8814-A7F6C750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A345-AB83-404E-B098-780E5E7A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E7B9-E97C-45A0-AF31-389BE55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0446-2A81-47F4-9FA5-E13E997E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E99ED-3504-4045-B8F1-7940B112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22F3-3687-411F-B07C-8D9124E3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49CC-04BF-427A-AA68-EB0924EE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6DC3-CE20-44D0-BC52-8D644AEA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08CCE-FE41-4ACE-A68D-76F4ADFA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CFE41-8849-43D3-A11A-00D193AC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1326-553E-49E1-80A8-9D286134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24A21-5E54-4372-AE61-053AAD9B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82E4-35A4-4BA1-919D-B98CB70C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D7EF-F6D6-4529-A360-84EC4D06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CF08-427F-40B1-86C5-0008BB9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FBAA3-F303-4468-90AF-DFA1D58A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BB5A-E954-492D-BC84-6352166B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5252E-FAD6-4EBD-A04C-0B130210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F077-B0BC-4D9D-9945-27D8BD6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8632-846A-4B77-9C9F-3F4FA23C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ED23-5E48-4C05-9F87-CF66E163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471D-900D-4B49-969A-2BA8D50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7CB5-2193-4F52-B462-492E300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661-45DB-435E-AD92-B0DBF4A712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EAEE-237D-4849-80E0-6DB11C72E51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3483-FE80-4D12-BACC-92DEC7171F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94F-07DF-40CA-96F5-BA98F4F5B8CA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C88F-E690-4B94-956D-03D6231CC07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700280"/>
            <a:ext cx="6875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ижение образовательных результатов в рамках подготовки обучающихся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124080" y="5300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цева Т.В.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ы ЕМД ГОАУ ЯО И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79280" y="620640"/>
          <a:ext cx="8785440" cy="4962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выявля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признаки отдельных организм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я у организмов к среде обитания, ароморфозы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иоадаптации у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иотические и биотические компоненты экосистем, взаимосвязи организ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косистеме, антропогенные изменения в экосистем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мутагенов в окружающей среде (косвенн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равнивать (и делать выводы на основе сравнения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(клетки, ткани, органы и системы органов, орг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, животных, грибов и бактерий, экосистемы и агроэкосис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 и явления (обмен веществ у растений, животных, челове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ий и энергетический обмен; фотосинтез и хемосинт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 и мейоз, бесполое и половое размножение, оплодотворение у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животных, внешнее и внутреннее оплодотвор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5589720"/>
          <a:ext cx="8785440" cy="56016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естественного отбора, искусственный и естественный отбор, спос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ообразования, макро- и микроэволюцию, пути и направления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79280" y="476280"/>
          <a:ext cx="8785440" cy="525132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пределя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адлежность биологических объектов к определенной систематической группе (классификация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Анализиров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гипотезы сущности жизни, происхождения жизни, раз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ов и человека, человеческих рас, эволюцию организм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окружающей среды, влияние факторов риска на здоровье человек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 деятельности человека в экосистемах, глоб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опогенные изменения в биосфер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биологических экспериментов, наблюдений по их опис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для обоснов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поведения в окружающей сред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 профилактики распространения заболеваний, вызываемых растениями, животными, бактериями, грибами и вирусами; травматизма, стрессов, ВИЧ- инфекции, вредных привычек (курение, алкоголизм, наркомания); нарушения осанки, зрения, слуха; инфекционных и простудных заболеваний; стрессов, вредных привычек (курение, алкоголизм, наркомания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79280" y="5734080"/>
          <a:ext cx="8785440" cy="1155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я первой помощи при травмах, простудных и других заболевания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влении пищевыми продукт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в выращивания и размножения культурных растений и домаш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х, ухода за н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книками на ГИА в части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ие затруднения у удовлетворительно подготовленных выпускников вызвали задания А4, А5, А10, А13, А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ия А4 и А5 проверяли знание морфологии растений и способов ухода и выращивания культурных раст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0 – строения нервной и эндокринной систем, а также знание нейрогуморальной регуля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3 – строения органов кровообращения, а также знание механизмов движения крови по сосуда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7 – психологии и поведения человека.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1ba5"/>
                </a:solidFill>
                <a:latin typeface="Arial"/>
              </a:rPr>
              <a:t>Столь низкие результаты выполнения заданий части 1 выпускниками объясняются не столько слабыми знаниями курса биологии за VI–VIII класс, сколько отсутствием налаженной системы повторения учащимися IX классов, готовящимися к сдаче экзамена, ключевых разделов школьной биологии за предыдущие годы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2 проверяли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ать и применять знания о строении и функционировании организма человека в практической деятельности и повседневной жизни и многообразии органического м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оставлять особенности строения и функционирования организмов разных царств; устанавливать структурно-функциональные связи объектов, процессов, явлений; классифицировать биологические объекты и процес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биологические термины и понятия в понимании биологических тек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трудными для всех групп выпускников, как и в прошлом году, оказались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собенно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установление правильной последовательности элемен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вариантов эти задания предполагали теоретическую проверку выполнения обязательных практических и лабораторных работ, представленных в примерной программе по биологии, а также знание вопросов, касающихся эволюции животного и раститель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результаты (38,2% выполнения всеми группами выпускников) убеждают, что практические работы на уроках биологии в основной в школе нередко имеют формальный характер, а знания особенностей исторического развития организмов формируются только у учащихся с отличной подгото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ет умение читать и понимать прочита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включение пропущенных в текст терминов и понят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именно такой алгоритм 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3</a:t>
            </a: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заменационной работы проверяли умения применять биологические знания в практических ситуациях (все 26 вариантов были подготовлены по разделу «Человек и его здоровье»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анализировать текст биологического содержания и на его основе обосновывать научные факты, процессы и явления, строить умозаключения, проверять гипотез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работать со статистическими данными, представленными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ее трудным остается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1</a:t>
            </a:r>
            <a:r>
              <a:rPr b="0" lang="ru-RU" sz="2200" spc="-1" strike="noStrike">
                <a:solidFill>
                  <a:srgbClr val="ad3c25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тором предусматривалась проверка умения применять биологические знания в повседневной жизни Только одна из групп выпускников (с отличной подготовкой) преодолела 50%-ное выполнение («2» – 11%, «3» – 24%, «4» – 39%, «5» – 62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ельно лучше обстоят дела с выполнением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я С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ожно предположить, что это связано с тем, что задание С2 проверяет освоенное значительной частью учащихся умение работать с текстом, находить в нем нужную информацию, представленную как в явном, так и неявном ви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3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работу со статистическими данными, представленными в табличной форме) с заданием справились уже две группы аттестуемых. Учащиеся с отличной подготовкой показали 73% выполнения, а учащиеся с хорошей подготовкой–58%. У остальных групп % выполнения ниже 40 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Рекомендации по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рекомендуем начинать с методов познания человеком живой природы и собственного организма, а также с роли биологии в жизни современ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 и жизнедеятельность организмов разных царств следует рассматривать комплексно, связывая повторение особенностей внешнего и внутреннего строения организмов с историческим развитием растительного и животного мира и вопросами экологии и охраны природы, которые широко рассмотрены в обобщенном виде изучаются в IX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материал за основную школу необходимо проверять на разных уровнях   сложности: базовом, повышенном и выс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ую роль дает введение разнообразных заданий по работе с текстом; оправдало себя введение значительного количества заданий с рисунками, графиками, табл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спешность освоения курса и подготовки к экзамену существенное влияние оказывает правильно подобранная учебная литература и тренировоч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 биологии задолго до экзамена (возможно, в начале VI класса) следует продумать отбор содержания таким образом, чтобы максимально заложить в учебный процесс отработку требований к знаниям и умениям, сформулированных во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ую подготовку к итоговой аттестации целесообразно начинать в первой четверти/триместре IX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Изменения КИМ основного государственного экзамена (ОГЭ) в 2015 го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тельных изменений не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структура варианта К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ариант состоит из дву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в варианте представлены в режиме сквозной нумерации без буквенных обозначений А, В,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форма записи ответа на каждое из заданий 1–2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КИМ 2015 г. требуется записывать цифру, соответствующую номеру правильного ответ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ОСОБЕННОСТИ ОЦЕНКИ 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объектом содержательной и критериальной базой итоговой оценки выпускников выступают планируемые результаты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«Выпускник научится»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Выпускник имеет возможность на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 элементами содержания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мениями, проверяемыми на итоговой аттестации (ГИА) можно ознакомиться в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кодифика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Уровни сложности экзаменационной работы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1 (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22 задания с выбором одного верного ответа из четырех предложенных, все задания базов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2 (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6 заданий повышенного уровня сложност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м ответ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 выбором трех верных ответов из ше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соответ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определение последовательности биологических процессов, явлений, объек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включение пропущенных в тексте терминов и понят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соотнесение морфологических признаков организма или его отдельных органов с предложенными моделями по заданному алгорит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3 (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4 задания с развернутым ответом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работу с текстом, требующую извлекать необходимую информацию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ной, отвечая на поставленные вопро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работу со статистическими данными, представленными в табличной фор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применение биологических знаний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задание повышенного, а остальные высок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1ba5"/>
                </a:solidFill>
                <a:latin typeface="Arial"/>
              </a:rPr>
              <a:t>Содержательные блоки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ервый блок «Биология как наук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ет в себя задания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ир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о роли биологии в формировании современной естественнонаучной картины мира, в практической деятельности людей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ы изучения живых объектов (наблюдение, описание, измерение, эксперимен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Второй блок «Признаки живых организмов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ен заданиями, проверяющими матери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троении, функциях и многообразии клеток, тканей, органов и систем орга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ах живых организмов, наследственности и изменчив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ах размножения, приемах выращивания растений и разведения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Третий блок «Система, многообразие и эволюция живой приро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контролиру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важнейших отличительных признаках основных царств живой природы: Животные, Растения, Гриб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ктерии, Виру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и растений и животных: отдел (тип), клас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усложнении растений и животных в процессе эволю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биоразнообразии как основе устойчивости биосферы и результате э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Четвертый блок «Человек и его здоровь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выявл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оисхождении человека и его биосоциальной природе, высшей нервной деятельности и об особенностях поведения челове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и и жизнедеятельности органов и систем органов (нервной, эндокринной, кровеносной, лимфатической, дыхания, выделения, пищеварения, половой, опоры и движ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ей среде, об иммунитете, органах чувств, о нейрогуморальной регуляции процессов жизне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нитарно-гигиенических нормах и правилах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ятый блок «Взаимосвязи организмов и окружающей сре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провер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истемной организации живой природы, об экологических факторах, о взаимодействии разных видов в природ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х и искусственных экосистемах и входящих в них компонентах, пищевых связ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экологических проблемах, их влиянии на собственную жизнь и жизнь других люд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авилах поведения в окружающей среде и способах сохранения равновесия в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268280"/>
          <a:ext cx="8713800" cy="5681880"/>
        </p:xfrm>
        <a:graphic>
          <a:graphicData uri="http://schemas.openxmlformats.org/drawingml/2006/table">
            <a:tbl>
              <a:tblPr/>
              <a:tblGrid>
                <a:gridCol w="4788000"/>
                <a:gridCol w="1387440"/>
                <a:gridCol w="2538360"/>
              </a:tblGrid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ъяснять роль биологии в формировании современной естественнонаучной картины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познавать: основные части клетки; грибы; органы цветковых растений,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х отделов; органы и системы органов животных, а также животных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ывать биологические объ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бъяснять взаимосвязи организмов и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равнивать биологические объекты: клетки, ткани, органы и системы органов и организмы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нать особенности организма человека,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аспознавать на рисунках (фотографиях) органы и системы органов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Использовать 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 деятельности и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я мер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628640"/>
          <a:ext cx="8229600" cy="4535640"/>
        </p:xfrm>
        <a:graphic>
          <a:graphicData uri="http://schemas.openxmlformats.org/drawingml/2006/table">
            <a:tbl>
              <a:tblPr/>
              <a:tblGrid>
                <a:gridCol w="4521240"/>
                <a:gridCol w="1311120"/>
                <a:gridCol w="239724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Использоват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 для оказа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Описывать и объяснять результаты эксперимента и данные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Анализировать 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ть во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ов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Проводить самостоятельный поис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44280"/>
          <a:ext cx="9144000" cy="5023080"/>
        </p:xfrm>
        <a:graphic>
          <a:graphicData uri="http://schemas.openxmlformats.org/drawingml/2006/table">
            <a:tbl>
              <a:tblPr/>
              <a:tblGrid>
                <a:gridCol w="1512720"/>
                <a:gridCol w="763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                                   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новные положения биологических законов, теорий, закономерностей, правил, гипотез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биологических теорий (клеточная; хромосомна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тическая теория эволюции, антропогенез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учений (о путях и направлениях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И. Вавилова о центрах многообразия и происхождения культур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; В.И. Вернадского о биосфер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в (Г. Менделя; сцепленного наследования Т. Морга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логических рядов в наследственной изменчивости; зародыше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а; биогенетическог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мерностей (изменчивости; сцепленного наслед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ования, сцепленного с полом; взаимодействия генов и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логических основ); правил (доминирования Г. Менделя; экологической пирамид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гипотез (чистоты гамет, происхождения жизни, происхождения человек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0" y="4986360"/>
          <a:ext cx="9144000" cy="187632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троение и признаки биологических объект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ок прокариот и эукариот: химический состав и строение органоид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ов, хромосом, гам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ов, одноклеточных и многоклеточных организмов царств жи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ы (растений, животных, грибов и бактерий),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, популяций; экосистем и агроэкосистем; биосфер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8000" y="549360"/>
          <a:ext cx="8928000" cy="101592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ущность биологических процессов и явле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08000" y="1484280"/>
          <a:ext cx="8928000" cy="2165400"/>
        </p:xfrm>
        <a:graphic>
          <a:graphicData uri="http://schemas.openxmlformats.org/drawingml/2006/table">
            <a:tbl>
              <a:tblPr/>
              <a:tblGrid>
                <a:gridCol w="1457280"/>
                <a:gridCol w="7470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 веществ и превращения энергии в клетке и организме, пластический иэнергетический обмен, питание, фотосинтез, хемосинтез, дыхание, брожение, выделение, транспорт веществ, раздражимость, ро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, мейоз, развитие гамет у цветковых растений и позвоночных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 у цветковых растений и позвоночных животных; развитие и размножение, индивидуальное развитие организма (онтоген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генов, получение гетерозиса, полиплоидов, отда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ридов, действие искусственного отб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08000" y="3645000"/>
          <a:ext cx="8928000" cy="1245960"/>
        </p:xfrm>
        <a:graphic>
          <a:graphicData uri="http://schemas.openxmlformats.org/drawingml/2006/table">
            <a:tbl>
              <a:tblPr/>
              <a:tblGrid>
                <a:gridCol w="1463760"/>
                <a:gridCol w="74642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движущего и стабилизирующего отбора, географическо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ое видообразование, влияние элементарных факторов эволю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енофонд популяции, формирование приспособленности к среде об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орот веществ и превращения энергии в экосистемах и биосфере, эволюция биосфер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8000" y="4869000"/>
          <a:ext cx="8928000" cy="128880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временную биологическую терминологию и символику по цитологии,генетике, селекции, биотехнологии, онтогенезу, систематике, экологии,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обенности организма человека, его строения, жизнедеятельности, высшей нервной деятельности и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79280" y="549360"/>
          <a:ext cx="8785440" cy="60436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бъясня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биологических теорий, законов, принципов, гипотез в формир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ой естественнонаучной картины ми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о живой и неживой природы, родство, общность происх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ых организмов, эволюцию растений и животных, использу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теории, законы и прав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ое влияние алкоголя, никотина, наркотических веществ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зародыша человека; влияние мутагенов на организм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наследственных и ненаследственных изменений, наследств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й, генных и хромосомных мут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связи организмов, человека и окружающей среды; причины устойчивости, саморегуляции, саморазвития и смены экосистем; необходимость сохранения многообразия видов, защиты окружающей ср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эволюции видов, человека, биосферы, единства человеческих ра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и роль человека в природе, родство человека с млекопитающими животными, роль различных организмов в жизни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здоровья человека от состояния окружающей среды; проя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ых заболеваний, иммунитета у человека; роль гормонов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ов в организ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549360"/>
          <a:ext cx="8785440" cy="46702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устанавливать взаимосвяз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и функций молекул, органоидов клетки; органов и систем орган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ого и энергетического обмена; световых и темновых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ущих сил эволюции; путей и направлений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еш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разной сложности по цитологии, генетике (составлять схемы скрещивания), экологии, эволю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ставлять схемы</a:t>
                      </a: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а веществ и энергии в экосистемах (цепи питания, пищевые се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аспознавать и описы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и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й вида по морфологическому критер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по их изображе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5229360"/>
          <a:ext cx="8785440" cy="59184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системы и агроэкосисте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51:42Z</dcterms:created>
  <dc:creator>nemceva</dc:creator>
  <dc:description/>
  <dc:language>en-US</dc:language>
  <cp:lastModifiedBy>Татьяна Васильевна Немцева</cp:lastModifiedBy>
  <dcterms:modified xsi:type="dcterms:W3CDTF">2015-04-28T10:32:06Z</dcterms:modified>
  <cp:revision>42</cp:revision>
  <dc:subject/>
  <dc:title>Структура системы оценки достижения планируемых результатов ООП ООО по биологии</dc:title>
</cp:coreProperties>
</file>