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9294813" cy="11736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0CD-0632-4DA0-8C45-0952B21D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47E-D190-4F79-97A0-2BDACFCA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8C6A-2741-4A38-8F62-C499071D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4D6-DDD3-4084-93D8-90681D12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4909-E788-454D-9350-F645EE37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224C-FC19-4D59-857D-849CA94C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32F9-501A-4BB9-9BE4-7DC0E7CA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64B6-1DD0-4E6B-A23B-C7A7DC97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2CFC-20C3-46B8-A7EB-22AE5952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9B1C-1EF2-4B3B-B7A9-3BEC142F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9162-F9DC-40C0-A90A-FD1E08F6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4811-7D7B-4B64-B4EA-6A5ADF33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C779-1E26-48A5-B2B7-7A394D09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5265-9ECE-4527-8F93-A000F509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0588-3109-4D7B-B248-58FF781B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25AD-6C00-437D-B2CD-65D474CA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273F-E06A-4F21-89C7-2E94BEC2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7A4-8B08-45D0-8125-9377656E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76E-CFFF-476D-9AEF-A8B85CF9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F971-17B0-44AC-BC3C-98FFB65C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E1F-FEEB-43CA-8406-F693283F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8F0D-4532-4F6F-9E43-A3868CBD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33D-0FA4-4716-A049-54F847F8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489-3F37-4A22-9DD9-E1B92648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11EA-75C0-452F-BB34-8C0E3346A7C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F6F2-FC94-4097-926F-CFE4F1D678C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Сравнительный анализ результатов ЕГЭ</a:t>
            </a: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по биологии за 20</a:t>
            </a: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1</a:t>
            </a: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2-2014 гг.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84360" y="3933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т.преподаватель кафедры ЕМД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ГОУ ЯО ИР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емцева Т.В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1. Биология – наука о живой природе </a:t>
            </a:r>
            <a:r>
              <a:rPr b="1" i="1" lang="en-US" sz="2800" spc="-1" strike="noStrike">
                <a:solidFill>
                  <a:srgbClr val="990000"/>
                </a:solidFill>
                <a:latin typeface="Garamond"/>
              </a:rPr>
              <a:t>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числу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иболее сложных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ледует отнести задания, в которых требовалось указать минимальный уровень организации жив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Назвали уровень, на котором происходит: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фотосинтез (клеточный), только 54% участников,                                   - матричный синтез белка (клеточный) – 37%;                                 - метод биологии, изучающий строение и функции белка (биохимический), – 45%;                                                               - метод исследования степени распространения наследственных заболеваний человека (популяционно-статистический) – 27%;                                                                    - уровень организации колонии тлей на листьях смородины (популяционно-видовой) – 46%;                                                 - метод генетики для определения генотипа родительских форм (гибридологический) – 39%,                                                             - метод создания сортов растений с кратным увеличением набора хромосом в клетках (полиплоидизация) – 38%, гибридизация – 55%.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2. Клетка как биологическая систем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Наибольшие трудност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 участников вызвали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о различии состава ДНК и РНК, о кроссинговере и конъюгации, процессах, протекающих в митозе и мейозе, свойствах генетического к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по метаболизму в клетках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различным типам деления клетки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соответствия триплета на ДНК и антикодона на т-РН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ыпускники не знаю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что триплет на ДНК соответствует кодону на и-РНК, который, в свою очередь, соответствует антикодону на т-РНК. Следовательно, чтобы правильно найти соответствие триплета на ДНК и антикодона на т-РНК, следует дважды по принципу комплементарности найти соответствующие нуклеотид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имеры некоторых заданий, вызвавших наибольшие затруднения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А5. Какой способ питания характерен для молочнокислых бактерий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етеротрофный (30%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емотрофный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трофный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тотрофный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А27. Синтез ДНК в клетке, кроме ядра, происходит в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ибосомах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ероховатой эндоплазматической сет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тохондриях (30%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ппарате Гольдж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имеры некоторых заданий, вызвавших наибольшие затруднени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В части 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лабо сформированными оказались умения сравнивать и соотносить: клетки прокариот и эукариот; соматические и половые клетки; процессы, протекающие в интерфазе, митозе и мейозе, при фотосинтезе и энергетическом обмене. Вызвали сущест-венные затруднения и задания на установление последовательности процессов, протекающих при фотосинтезе, гаметогенеза (сперматогенеза) у животных, хотя этот материал представлен во всех учебниках по общей биологии как базового, так и профильного уровн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имеры некоторых заданий, вызвавших наибольшие затруднени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6. Установите соответствие между особенностью процесса и фазой мейоза, для которой она характерна. (18%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ОСОБЕННОСТЬ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                                                             </a:t>
            </a: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ФАЗА МЕЙОЗА</a:t>
            </a:r>
            <a:r>
              <a:rPr b="0" i="1" lang="ru-RU" sz="10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расхождение сестринских хромосом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 анафаза I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к разным полюсам клет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Б) образование четырёх гаплоидных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нафаза II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ядер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В) расхождение двухроматидных хромосом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телофаза II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увеличение вдвое числа хромосом в клетке при расхождении сестринских хроматид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независимое расхождение хромосом из каждой гомологичной пары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6. Установите соответствие между признаком и видом гаметогенеза, для которого этот признак характерен. (27%)</a:t>
            </a:r>
            <a:r>
              <a:rPr b="0" i="1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ПРИЗНАК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                                                           ВИД ГАМЕТОГЕНЕЗА</a:t>
            </a:r>
            <a:r>
              <a:rPr b="0" i="1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А) образуются яйцеклетки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 овогенез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созревают четыре гаметы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 сперматогенез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образуются направительные тельц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аметы содержат небольшое количество цитоплазм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аметы содержат большое количество питательных веществ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В части 3 блока </a:t>
            </a:r>
            <a:r>
              <a:rPr b="1" i="1" lang="ru-RU" sz="3200" spc="-1" strike="noStrike">
                <a:solidFill>
                  <a:srgbClr val="999900"/>
                </a:solidFill>
                <a:latin typeface="Garamond"/>
              </a:rPr>
              <a:t>«Клетка как биологическая система»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удными оказались задания линии С1 или С2, связанные с анализом рисунка или текста, на которых были изображены различные органоиды клетки, фазы деления митоза и мейоза, в среднем справились 25–33% участник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ожными оказались  вопросы, требующие объяснения причин изменения содержания тех или иных органоидов в клетках разных тканей. Для ответа на такие задания необходимо было установить причинно-следственные связи: вспомнить функции конкретных органоидов и объяснить причину их значительного содержания в клетках. Правильно ответили на такие задания только 8–20% участник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заданиях линии С5 предлагалось два типа задач по цитологии: 1) на применение знаний о генетическом коде; 2) на определение числа хромосом и ДНК в разных фазах митоза и мейоза, в половых и соматических клетках разных организмов.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Примеры трудных заданий С5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рудными оказались задачи на определение числа хромосом и ДНК в разных фазах митоза или мейоза, в половых и соматических клетках растений разных отделов, животных разных тип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С5.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У хламидомонады преобладающим поколением является гаметофит. Определите хромосомный набор споры и гамет хламидомонады. Объясните, из каких исходных клеток и в результате какого деления образуются эти клетки при половом размножении.</a:t>
            </a:r>
            <a:r>
              <a:rPr b="0" i="1" lang="ru-RU" sz="12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хромосомный набор споры – n (гаплоидный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споры образуются из диплоидной зиготы путём мейоза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хромосомный набор гамет – n (гаплоидный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4) гаметы образуются из клетки взрослого организма (гаметофита) путём мито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С5. Какой хромосомный набор характерен для вегетативной, генеративной клеток и спермиев пыльцевого зерна цветкового растения? Объясните, из каких исходных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клеток и в результате какого деления образуются эти клетки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) набор хромосом вегетативной и генеративной клеток – n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вегетативная и генеративная клетки пыльцы образуются путём митоза при прорастании гаплоидной споры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хромосомный набор спермиев – n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4) спермии образуются из генеративной клетки путём митоз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В целом по данному блоку к числу слабо сформированных у выпускников знаний и умений можно отнести следующие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знание циклов развития растений разных отделов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определение числа хромосом и ДНК в разных фазах деления клетки, объяснение и аргументация причины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сравнение гаметофита и спорофита у разных групп растений, спор и половых клеток, спор и клеток спорофи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</a:t>
            </a:r>
            <a:br>
              <a:rPr sz="4000"/>
            </a:b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Трудности вызвали лишь отдельные задания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- способ питания молочнокислых бактери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где требуется определить, что образуется в результате оплодотворения у растений (вместо зиготы выбирается зародышевый мешок);                        - слабо сформированы такие понятия, как генотип, геном, фенотип, альтернативные гены, аутосомы, геномные и генные мутации. </a:t>
            </a: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Традиционно плохо участники отвечаю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а вопросы, связанные с методами изучения генетики человека, о сцепленном наследовании генов.                                                 </a:t>
            </a: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Вызвали затрудн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отдельные задания по эмбриогенез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.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Примеры заданий, имеющих низкие результаты.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6. В результате двойного оплодотворения у цветковых растений образуютс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енеративные почк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емядоли (одна или две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игота и триплоидная клетка (44%)                                                                                         4) плод и сем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7. Совокупность всех признаков и свойств организма, проявляющихся в индивидуальном развитии, назыв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енотипо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дификацией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енофондо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енотипом (40%)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24000" y="4724280"/>
            <a:ext cx="8640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9. Фенотипические различия между однояйцевыми близнецами обусловлены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заимодействием аллельных генов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разными генотипами организмов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цеплением генов                                                                                                    4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лиянием условий среды (49%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.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2, имеющих низкие результаты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6. Установите соответствие между характеристикой метода изучения наследственности человека и его названием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(33%)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ХАРАКТЕРИСТИКА 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                                            </a:t>
            </a: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МЕТОД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следуется родословная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цитогенетический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емь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ыявляется сцепленность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генеалогическ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изнака с пол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зучается число хромосом                                                                            на стадии метафазы митоз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устанавливается доминантный призна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определяется наличие геномных мутаций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5877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100- бальников – нет по Ярославской области 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84280"/>
          <a:ext cx="8229600" cy="4530600"/>
        </p:xfrm>
        <a:graphic>
          <a:graphicData uri="http://schemas.openxmlformats.org/drawingml/2006/table">
            <a:tbl>
              <a:tblPr/>
              <a:tblGrid>
                <a:gridCol w="1344600"/>
                <a:gridCol w="3278160"/>
                <a:gridCol w="360684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редний балл по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редний балл по Я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1" lang="en-US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</a:t>
                      </a:r>
                      <a:r>
                        <a:rPr b="1" lang="en-US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4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59,</a:t>
                      </a: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еодолели минимальную границу (36 баллов) в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1" lang="en-US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3 </a:t>
                      </a: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48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4 </a:t>
                      </a: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,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.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3, имеющих низкие результаты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71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 заданиях линии С6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едлагались генетические задачи:              - на дигибридное скрещивание,                                                       - наследование признаков, сцепленных с полом,                                                - сцепленное наследование признаков.                                                       С этими заданиями в среднем справились 25% участников.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ме составления схем скрещивания и определения генотипов родителей и потомства, по условию задачи необходимо было объяснить причины представленных в условии результатов. Экзаменуемые должны были обосновать полученный результат и объяснить, какой закон имел место в конкретном случа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Так, наприме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необходимо было объяснить полученные результаты при полном сцеплении генов, появление четырех фенотипических групп в анализирующем скрещивании при сцепленном наследовании ген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Невысокий результат выполнения этого задания можно объяснить тем, что многие выпускники сосредоточились только на решении задачи и составлении схемы скрещивания, не обращая внимания на то, что в условии требовалось объяснить закон и полученный результа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а 4 «Система и</a:t>
            </a:r>
            <a:r>
              <a:rPr b="1" i="1" lang="ru-RU" sz="4000" spc="-1" strike="noStrike">
                <a:solidFill>
                  <a:srgbClr val="990000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многообразие органического мира»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работу включены вопросы общебиологического характера о систематике организмов, особенностях строения и жизнедеятельности бактерий, грибов, растений и животны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их выполнении учащиеся должны были продемонстрировать умения определять организмы и особенности их строения по рисункам или описа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Слабо усвоенным оказался материал о признаках, лежащих в основе классификации цветковых растений, отличительных признаках основных групп растений и животных, особенностях жизнедеятельности организмов разных царств. В частности, вызвали затруднения вопросы об органах дыхания у насекомых, моллюсков разных классов, определение по рисунку зон корня, хотя этот материал относится к базовым знаниям и пред-ставлен во всех учебниках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1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13. Промежуточными хозяевами паразитических червей называют те организмы, в которых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зрослые особи живут, но не размножаютс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живут и развиваются личинки паразита (4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аразиты откладывают яйц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живут и размножаются взрослые особи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13. Все многоклеточные животные имеют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ровеносную систему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ифференцированные клетки (4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вуслойное тело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вустороннюю симметрию тела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2. Какой буквой на рисунке обозначена зона корня,                                          состоящая из образовательной ткани?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 (24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843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2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Наибольшие затруднения у экзаменуемых вызвали задания на сопоставление биологических объектов (В4)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опоставить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троение и размножение мхов и папоротников,                              - особенностей органов дыхания у представителей моллюсков,                                                                                  - развитие насекомых с полным и неполным превращением на конкретных пример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предели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надлежность представителей позвоночных к определенным класс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оотноси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знаки птиц и пресмыкающихся у археоптерикс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2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Verdana"/>
              </a:rPr>
              <a:t>В4. Установите соответствие между особенностью размножения и отделом растений, для которого она характерна. (25%)</a:t>
            </a:r>
            <a:r>
              <a:rPr b="0" i="1" lang="ru-RU" sz="18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ОСОБЕННОСТЬ РАЗМНОЖЕНИЯ 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                        </a:t>
            </a: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ОТДЕЛ РАСТЕНИ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 цикле развития преобладает гаметофит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)  Моховидны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 цикле развития доминирует бесполое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)  Папоротниковидные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поколение растени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Образование спор происходит в коробочке (спорогоне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Спорофит не способен к образованию органических веществ из неорганических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Гаметофит представлен заростк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Е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Спора прорастает в предросток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3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Самые низкие показатели выполнения заданий данного блока связаны с практико-ориентированными заданиями (С1)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Участники ЕГЭ затруднились объяснить, как происходит заражение таежным энцефалитом, причины отсутствия семян в метелках кукурузы, роль грибницы в жизни грибов, суть опыта по выделению кислорода растениями при фотосинтез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С1. Растение кукуруза имеет два типа соцветий: початок и метёлку. Почему плоды образуются только в початке? (20%)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 початок состоит из женских цветков, в которых образуются плоды – зерновки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метёлка состоит из мужских цветков, которые образуют пыльцу, участвующую в оплодотворени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С1. Почему люди, работающие в тайге в весенне-летнее время, нередко заболевают тяжёлой болезнью – таёжным энцефалитом? Объясните, как происходит заражение. (29%)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 в это время в тайге активизируются таёжные клещи, которые, питаясь кровью зверей и птиц, становятся переносчиками возбудителей энцефалита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клещи, попавшие на кожу человека, присасываются к ней и со слюной вносят в неё возбудителей энцефалит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дельные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задания С2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полнили от 2% до 9% участников. Например,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пределили бактериофаг по рисунку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54% экзаменуемых, но сумели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писать особенности жизне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только 5%. 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пределили по рисунку цветочную почку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61%,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назвали части почк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13%, но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тветили на вопро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какая ткань обеспечивает рост и развитее почки, только 6% экзаменуемы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выполнении заданий линии С3 вызвали затруднения задания, где требовалось раскрыть особенности строения земноводных в связи с выходом на сушу, скелета птиц в связи с полетом, признаки членистоногих, грызунов, обеспечившие их широкое распространение на земле.                                                      Максимальное число баллов на подобные задания получили в среднем только 5% участник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Verdana"/>
              </a:rPr>
              <a:t>Анализ полученных результатов позволяет сделать вывод о слабо сформированных умениях сравнивать разные отделы растений и типы животных, выявлять их ароморфные признаки, определять по рисунку ткани и органы растений, раскрывать их функции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Наиболее низкие результаты (18–24%) получены на отдельные задания базового уровня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                       - распознавание по рисунку нервной и эпителиальной ткани,                                                                 - тип соединения костей конечностей,                                            - условия формирования и сохранения пассивного иммунитета,                                                                           - определение места впадения крупных лимфатических сосудов,                                                                                - особенности выработки условного рефлекса, поступления веществ в клетки из тканевой жидкости,                                                                                 - процессы регуляции теплоотдачи у человек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 части 1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17. В клетки тела человека питательные вещества поступают из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мфы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клеток кров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каневой жидкости (19%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нозной кров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3. Крупные лимфатические сосуды впадают в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крупные артери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рдц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ёгочные вены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лые вены ( 2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3. Пассивный искусственный иммунитет у человека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формируется после перенесённого заболеван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меет кратковременное действие (24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разуется после введения антибиотиков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охраняется в течение всей жизни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34. При выработке условного рефлекса условный раздражитель должен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ледовать сразу после безусловного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редшествовать безусловному (26%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степенно ослаблятьс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быть сильнее безусловного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4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книками в части 2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Выпускники затруднились соотнести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- процессы пищеварения, протекающие в желудке, тонком и толстом кишечнике, - состав крови в сосудах кровеносной системы, функции разных типов нейронов, железы внутренней и внешней секре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Низки показател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полнения задания </a:t>
            </a: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на установление последовательности процесс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обеспечивающих дыхательные движения у человека, движение крови по системе кровообращ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Структура экзаменационной работ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экзаменационной работе представлены задания разного типа:           с выбором одного или нескольких ответов, задания с кратким ответом на установление соответствия и последовательности биологических объектов, процессов, явлений, а также задания с развернутым ответ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Verdana"/>
              </a:rPr>
              <a:t>По уровню сложности задания распределяются следующим образо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I. Задания базового уровня с выбором одного верного ответа (А1–А26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II. Задания повышенного уров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) с выбором одного (А27–А36) или нескольких (В1–В3) верных ответ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) на установление соответствия объектов, процессов, явлений (В4–В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) на определение последовательности биологических процессов и явлений (В8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) с развернутым ответом (на два элемента) практико-ориентированного характера (С1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III. Задания высокого уровня с развернутым ответом (на 3 элемента и более) (С2–С6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 части 2, вызвавших наибольшие 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5. Установите соответствие между процессом пищеварения у человека и органом пищеварительной системы, в котором он происходит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(19,4%)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ПРОЦЕСС ПИЩЕВАРЕНИЯ </a:t>
            </a: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                                </a:t>
            </a: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ОРГАН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А) Происходит окончательное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 желудок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расщепление жир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Б) Начинается переваривание белков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 тонкая кишка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) Происходит расщепление клетчатки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 толстая кишка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Г) Пищевая масса обрабатывается                                                        желчью и поджелудочным сок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) Происходит интенсивное всасывание                                              питательных веществ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нализ ошибок заданий части 3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астники затруднились установить по рисунку строение кожи, описать функции эпидермиса и подкожной клетчатки, строение почки и функции ее час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ожными оказались  задания, в которых требовалось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объяснить особенности дыхательных движений у человека при спокойном вдохе и выдохе,                           - транспорта газов кровью,                                                                                       - регуляции кровяного давления в процессе работы и в спокойном состоянии;                                                                             - установить отделы нервной системы, участвующие в этом процессе,                                                                                      - причины введения инсулина человеку только в виде инъекц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 части 3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С2. На рисунке представлены слои кожи человека, обозначенные буквами А и В. Назовите их. Какие функции они выполняют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  А – эпидермис;                                                                                                                                                В – подкожная жировая клетчатка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эпидермис выполняет защитную                                                                                                                                                 функцию, обеспечивает образование                                                                                               пигмента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подкожная жировая клетчатка                                                                                                                  препятствует  охлаждению тела,                                                                                                        является энергетическим                                                                                                      резервом, играет роль амортизатора                                                                                          при ушиба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С3. Что лежит в основе изменения кровяного давления человека в спокойном состоянии и во время работы? Какие отделы нервной системы это обеспечивают?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в спокойном состоянии расслабляются гладкие мышцы сосудов и увеличивается их просвет, давление понижается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во время работы сокращаются гладкие мышцы сосудов, сужается их просвет, давление повышается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в изменении кровяного давления участвуют симпатический (повышает) и парасимпатический (понижает) отделы вегетативной нервной системы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266364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6. Эволюция живой природы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явлены отдельные понятия, закономерности, слабо освоенные выпускниками и требующие серьезной подготовк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установление признака, на основании которого особей относят к одному виду, изменчивости, приводящей к сохранению особей с полезными свойствами;                                                            - определение атавизмов на конкретных примерах, экологического видообразования при разделении популяции по срокам размножения, экологических критериев вида;                                                                                           - признаки морфофизиологического прогресса на пример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ительные затруднения вызвали задания в разных вариантах, где требовалось установить первично- и вторично водных животны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6. Эволюция живой природы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22. Приспособленность организмов к среде обитания формируется в результате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дификационной изменчивости (49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емления особей к совершенствованию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я методов селекци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хранения особей с полезными изменениями (21%)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В8. Установите последовательность формирования популяции тёмноокрашенной бабочки берёзовой пяденицы в загрязнённых промышленных районах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1%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явление в потомстве разноокрашенных бабоче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величение численности бабочек с более тёмной окраско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хранение в результате естественного отбора бабочек с тёмной окраской и гибель со светлой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озникновение популяции тёмноокрашенных бабоче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Слабо сформированы у выпускников учебные умения сравнивать и сопоставлять эволюционные процессы, признаки организмов: дивергенцию и конвергенцию; ароморфозы и идиоадаптации на примерах у пресмыкающихся, растений; науки, изучающие различные доказательства эволюции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К типичным ошибкам, повторяющимся из года в год, следует отнести неумение экзаменуемых устанавливать правильную последовательность процессов видообразования и формирования приспособленности как результата эволю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6. Эволюция живой природы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 в части 3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 линии С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ущественные затруднения вызвали два похожих задания разных вариантов.                                                                      По изображению пород голубей и разновидностей капусты требовалось определить эволюционные процессы и вид отбора, обеспечившие выведение этих разновидностей, и установить, изменения каких органов были взяты за основу. Только 3% экзаменуемых правильно ответили на эти задания и получили максимальный бал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заданиях  </a:t>
            </a: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линии С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ожно выделить вопросы, на которые следует обратить внимание при подготовке к ЕГЭ:                                                                                                            - причины вымирания вида при снижении его численности, сокращении ареала, снижении адаптационных возможностей организма;                                                  - эволюционные доказательства принадлежности человека к типу Хордовы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7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Экосистемы и присущие им закономерности               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ания по экологии, как правило, выполняются хорошо и не вызывают особых затруднен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ответе на задания экологического характера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ыпускники должны продемонстриров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знание основных экологических закономерностей, сформированность учебных умений выявля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щественные признаки экосистемы, процессов круговорота веществ и превращения энергии, устанавливать взаимосвязи организмов в экосистеме и типы их взаимодействия, антропогенные изменения в биосфере, составлять цепи питания, сравнивать природные экосистемы и агроэкосистемы.             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Отдельные трудности возникл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 экзаменуемых при выполнении заданий на определение устойчивости различных экосистем, сравнение агроэкосистем и природных сообщест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7</a:t>
            </a:r>
            <a:r>
              <a:rPr b="1" lang="ru-RU" sz="24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Экосистемы и присущие им закономерности</a:t>
            </a:r>
            <a:r>
              <a:rPr b="0" lang="ru-RU" sz="24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4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ответе на задания экологического характера учащиеся продемонстрировали знание основного содержания и сформированность ряда учебных умений: выявлять существенные признаки экосистемы, процессов круговорота веществ и превращения энерг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ако в этом году, в отличие от предыдущих лет, вызвали затруднения задания на установление абиотических факторов среды, определение консументов и продуцентов в экосистемах и цепях питания, выбор правильного суждения об агроценоза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7</a:t>
            </a:r>
            <a:r>
              <a:rPr b="1" lang="ru-RU" sz="24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Экосистемы и присущие им закономерности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25. Какой организм отсутствует в приведённой цепи питания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листовой опад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 </a:t>
            </a:r>
            <a:r>
              <a:rPr b="1" i="1" lang="ru-RU" sz="1400" spc="-1" strike="noStrike">
                <a:solidFill>
                  <a:srgbClr val="990000"/>
                </a:solidFill>
                <a:latin typeface="Verdana"/>
              </a:rPr>
              <a:t>…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 </a:t>
            </a: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ёж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 </a:t>
            </a: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лисица?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знечи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йский жу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иб-трутовик (38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ождевой червь (46%)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24. Минеральные вещества, используемые растениями в процессе почвенного питания, относят к группе факторов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зонны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тропогенны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иотических (3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биотических (39%)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5. Разделение популяций одного вида по срокам размножения может привести к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пуляционным волнам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кологическому видообразованию (28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илению межвидовой борьбы (3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нвергенци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знаков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В заданиях части С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участники не смогли обосновать:                                                  - последствия обработки деревьев ядохимикатами,                                                                                                   - приспособленность растений к жизни в тундре.                                                   Объяснить, почему каменный уголь относят к веществам биогенного происхождения и невосполнимым ресурсам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Планируемые изменения КИМ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В части 1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ены задания А и В уров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ьшено число заданий с выбором одного верного ответа с 36 до 25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к заданиям 1–25 записываются в виде одной цифры, которая соответствует номеру правильного отв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величено число заданий с множественным выбором до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а соответствие до 4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построение последовательности -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к заданиям 26–33 записываются в виде последовательности циф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азделы курса биолог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проверки на едином экзамене по биологии составляют знания и умения по всем разделам школьного курса биологии с 6 по 11 класс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щая биология −70%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ловек и его здоровье − 15%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тения, Животные, Бактерии, Грибы, Лишайники −15%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Изменения в содержании и структуре экзаменационной работы в 2015 г.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В части 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величить число заданий с развернутым ответом, выделив обязательно в каждом варианте линии задани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контролирующих умения работать с изображением биологических объектов, схемами, диаграммами,                                                                                    - на анализ биологической информации, нахождение ошибок и их исправлени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ет уменьшено число заданий с выбором одного верного ответа с 36 до 25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е число заданий в экзаменационной работе в связи с этим сократится с 50 до 40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Рекомендации учителям биолог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достижения положительных результатов на экзамене следует в учебном процессе обратить внимание на повторение и закрепление материала, который традиционно вызывает затруднения у выпускник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мощь учителю при подготовке учащихся к ЕГЭ окажут статьи в журнале «Биология в школе» (2009-2010. № 1, 2011-2014. № 10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тодическую помощь учителям и обучающимся при подготовке к ЕГЭ могут оказать материалы с сайта ФИПИ: www.fipi.ru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ументы, определяющие структуру и содержание КИМ ЕГЭ 2015 г. (кодификатор элементов содержания и требований к уровню подготовки выпускников, спецификация и демонстрационный вариант КИМ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крытый банк заданий ЕГЭ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бно-методические пособия под грифом ФИП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алитические отчеты о результатах экзамена, методические рекомендации и методические письма прошлых лет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592200" y="1341360"/>
            <a:ext cx="85518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прочного овладения обучающимися содержанием стандарта (базовый уровень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учащихся (имеющих оценки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«4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«5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 применению знаний в измененной ситу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вариативных зада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заданий на разрушение стереотип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различным методам решений одних и тех  же зада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прочности овладения  учебным материал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повторения (непрерывность, обобщение, системность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aramond"/>
              </a:rPr>
              <a:t>Подготовка обучающихс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нтролируемые темы разделов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вый блок «Биология как наука. Методы научного познания»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содержит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териал о достижениях биологии, методах исследования, роли ученых в позн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ружающего мира, об общих признаках биологических систем, основных уровн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ации живой природы, о роли биологических теорий, идей, гипотез 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и современной естественнонаучной картины ми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торой блок «Клетка как биологическая система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держит задания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веряющие знания о строении и функциях клетки, ее химической организации, гене 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нетическом коде, метаболизме, многообразии клеток, их делении; умения устанавли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заимосвязь строения и функций органоидов клетки; умения распознавать и сравни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етки разных организмов, процессы, протекающие в н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Третий блок «Организм как биологическая система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тролирует осво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наний о вирусах, об организменном уровне организации жизни, присущих ем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ономерностях, о вредном влиянии мутагенов, алкоголя, наркотиков, никотина 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нетический аппарат клетки, защите среды от загрязнения мутагенами, наследственны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олезнях человека, об их причинах и профилактике, о селекции организмов 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отехнологии; овладение умениями сравнивать биологические объекты, процесс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ения, применять знания биологической терминологии и символики при решении зада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генетик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четвертом блоке «Система и многообразие органического мир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веряются знания о многообразии, строении, жизнедеятельности и размноже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мов различных царств живой природы; умения сравнивать организм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арактеризовать и определять их принадлежность к определенному систематическом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сону, устанавливать причинно-следственные связи между строением и функци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ов и систем органов организмов разных царств, взаимосвязи организмов и сре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и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нтролируемые темы разделов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ятый блок «Организм человека и его здоровье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являет уровень усво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ы знаний о строении и жизнедеятельности организма человека, лежащих в осно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я гигиенических норм и правил здорового образа жизни, профилакт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авм и заболеваний; овладения умениями обосновывать взаимосвязь органов и систе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ов человека, особенности, обусловленные прямохождением и трудово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ю; делать вывод о роли нейрогуморальной регуляции процес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жизнедеятельности и об особенностях высшей нервной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шестой блок «Эволюция живой природы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ключены задания, направлен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контроль знаний о виде и его структуре, движущих силах, направлениях и результат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волюции органического мира, этапах антропогенеза, биосоциальной природе челове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мений характеризовать критерии вида, причины и этапы эволюции, объяснять осно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оморфозы в эволюции растительного и животного мира, устанавливать причи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ногообразия видов и приспособленности организмов к среде оби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едьмой блок «Экосистемы и присущие им закономерности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авляю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дания, направленные на проверку знаний об экологических закономерностях, цеп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итания, круговороте веществ в биосфере; умений устанавливать взаимо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мов, человека и окружающей среды, объяснять причины устойчивости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аморегуляции, саморазвития и смены экосистем, необходимость сохра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ногообразия видов, защиты окружающей среды как основы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осфе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Уровни, проверяемых элементов содержа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Verdana"/>
              </a:rPr>
              <a:t>На базовом уровне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ряются наиболее существенные элементы содержания  курса биологии основной и средней (полной) школы, сформированность у школьников научного мировоззрения и биологической компетентност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ладение биологической терминологией и символико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ние основных методов изучения живой природы, наиболее важных признаков биологических объектов, особенностей организма человека, гигиенических норм и правил здорового образа жизни, экологических основ охраны окружающей сред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нимание основных положений биологических теорий, законов, правил, гипотез, закономерностей, сущности биологических процессов и явлен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распознавать биологические объекты по их описанию и рисунка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ать простейшие биологические задачи, использовать биологические знания в практ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Уровни, проверяемых элементов содержа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На повышенном уровн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яется овладение учащимися более сложными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нообразными видами учебной деятельност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ние сущности биологических процессов, явлений, общебиологических закономерн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я определять, сравнивать, классифицировать, объяснять биологическ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кты и процесс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я устанавливать взаимосвязи организмов, процессов, явлений, выявля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ие и отличительные признаки, составлять схемы пищевых цепей, применять знания в измененной ситу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Уровни, проверяемых элементов содержа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Задания высокого уровня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усматривают развернутый свободный ответ и направлены на проверку сформированности умени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мостоятельно оперировать биологическими понятиями, обосновывать и объяснять биологические процессы и явления, грамотно формулировать свой отве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знания в новой ситуации, устанавливать причинно-следственные связи, анализировать, систематизировать и интегрировать знания, обобщать и формулировать вывод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ть биологические задачи, оценивать и прогнозировать биологические процессы, применять теоретические знания на практи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9:33:09Z</dcterms:created>
  <dc:creator>nemceva</dc:creator>
  <dc:description/>
  <dc:language>en-US</dc:language>
  <cp:lastModifiedBy>Татьяна Васильевна Немцева</cp:lastModifiedBy>
  <dcterms:modified xsi:type="dcterms:W3CDTF">2014-10-27T12:14:00Z</dcterms:modified>
  <cp:revision>45</cp:revision>
  <dc:subject/>
  <dc:title>Сравнительный анализ результатов ЕГЭ за 2009-2010 год</dc:title>
</cp:coreProperties>
</file>