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9726-FA4C-4C20-87FF-39B6FD632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33D4-734A-4396-9E61-FAA0FD41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88C5-8E07-4001-9B94-A7A874438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9AFB-1059-49A4-8A89-EAA0C6A4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6E1F-16A6-45D0-9184-9DE10625F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3AE2-2F1F-4DE9-94FF-4A39CBB8A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AFA-B0FB-4B0D-BFCE-2AFD1073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1CC-3F5F-4517-A6DC-39C33CF5E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63716-8824-4A97-AA5C-F09672C4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722B-32EE-41F8-BAF6-1390F1E24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5D4E-4E6B-4BC0-8F29-014F2587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2B12-8E49-462A-81AE-10BEEC17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F9821-8AF0-4B6F-A6AF-2DE6AA4B299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&#1058;&#1088;&#1077;&#1073;&#1086;&#1074;&#1072;&#1085;&#1080;&#1103;%20&#1082;%20&#1086;&#1092;&#1086;&#1088;&#1084;&#1083;&#1077;&#1085;&#1080;&#1102;%20&#1087;&#1088;&#1086;&#1077;&#1082;&#1090;&#1085;&#1099;x%20&#1088;&#1072;&#1073;&#1086;&#1090;/&#1055;&#1086;&#1083;&#1086;&#1078;&#1077;&#1085;&#1080;&#1077;%20&#1086;%20&#1055;&#1048;&#1044;.doc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&#1050;&#1083;&#1072;&#1089;&#1089;&#1080;&#1092;&#1080;&#1082;&#1072;&#1094;&#1080;&#1103;%20&#1087;&#1088;&#1086;&#1077;&#1082;&#1090;&#1086;&#1074;.doc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&#1051;&#1080;&#1089;&#1090;%20&#1087;&#1088;&#1086;&#1076;&#1074;&#1080;&#1078;&#1077;&#1085;&#1080;&#1103;.doc" TargetMode="External"/><Relationship Id="rId2" Type="http://schemas.openxmlformats.org/officeDocument/2006/relationships/hyperlink" Target="file:///&#1048;&#1085;&#1089;&#1090;&#1088;&#1091;&#1082;&#1094;&#1080;&#1103;%20&#1076;&#1083;&#1103;%20&#1091;&#1095;&#1072;&#1097;&#1080;&#1093;&#1089;&#1103;.doc" TargetMode="External"/><Relationship Id="rId3" Type="http://schemas.openxmlformats.org/officeDocument/2006/relationships/hyperlink" Target="file:///&#1055;&#1083;&#1072;&#1085;&#1080;&#1088;&#1086;&#1074;&#1072;&#1085;&#1080;&#1077;%20%20&#1055;&#1048;&#1044;%20c%20&#1059;&#1059;&#1044;_&#1088;&#1072;&#1079;&#1076;&#1072;&#1090;&#1082;&#1072;.doc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539640" y="404640"/>
            <a:ext cx="824544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r>
              <a:rPr b="0" lang="ru-RU" sz="3600" spc="-1" strike="noStrike">
                <a:solidFill>
                  <a:srgbClr val="0033cc"/>
                </a:solidFill>
                <a:latin typeface="Arial"/>
              </a:rPr>
              <a:t>Требования к результатам проектной деятельности учащихся</a:t>
            </a:r>
            <a:br>
              <a:rPr sz="44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втор: Немцева Т.В.,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преподаватель ГОАУ ЯО ИР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OurNewSchool"/>
          <p:cNvPicPr/>
          <p:nvPr/>
        </p:nvPicPr>
        <p:blipFill>
          <a:blip r:embed="rId1"/>
          <a:stretch/>
        </p:blipFill>
        <p:spPr>
          <a:xfrm>
            <a:off x="0" y="0"/>
            <a:ext cx="399564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ребования к содержанию и оформлению  и оценке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оложение о ПИ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требования к оформлению информационной проект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новные требования к оформлению исследовательской проект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терии оценки презентации информационного и исследовательского проек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ребования к оформлению списка литерату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Типы образовательных программ внеурочной деятельности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Комплексные образовательные программ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полагают последовательный переход от воспитательных результатов 1 уровня к 3-тьему в различных видах внеурочной дея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Тематические образовательные програм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аправлены на получение воспитательных результатов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определенном проблемном поле (например, программа экологического воспитания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Образовательные программы, ориентированные на достижение результатов определенного уровня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меют возрастную привязку (например, формирование социальных общественных умений по класса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Образовательные программы по конкретным видам внеурочной деятельности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например, проектная, познавательная деятельност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33cc"/>
                </a:solidFill>
                <a:latin typeface="Arial"/>
              </a:rPr>
              <a:t>Возрастные образовательные программы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образовательная программа внеурочной деятельности младших школьников, подростков, старшеклассников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Виды проект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роекты классифицируют последующим признакам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ровень творче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д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арактер контактов участников про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личественный состав исполн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зрастной состав исполнител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должительность выполн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аза выполне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нач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ипология проект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Учебные проекты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самостоятельная учебная деятельность по освоению и применению на практике новой информации в рамках одной или нескольких дисцип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33cc"/>
                </a:solidFill>
                <a:latin typeface="Arial"/>
              </a:rPr>
              <a:t>Социальные проекты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осят комплексный характер, связан с разными сферами деятельности, выходящими за рамки учебных дисципли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Общие требования к проекту и проект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704960"/>
            <a:ext cx="8435880" cy="43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основной результат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-  получение «отчужденного продукта»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структура, последовательность выполнения отдельных действий, содержание этапов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пределяются решаемой в проекте задачей, замыслом проекта, ожидаемым результатом его выполн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проблема реализации проектной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, приводящей к  достижению большинством личностных и метапредметных умений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550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cc"/>
                </a:solidFill>
                <a:latin typeface="Arial"/>
              </a:rPr>
              <a:t>Основа проектной деятельности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оектный метод (способ достижения конкретной цели через детальную разработку проблемы)),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базирующийся на самостоятельности, деятельности, результативно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3399"/>
                </a:solidFill>
                <a:latin typeface="Arial"/>
              </a:rPr>
              <a:t>Планирование проектной деятельности школьников</a:t>
            </a:r>
            <a:r>
              <a:rPr b="0" lang="en-US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бор тем проектов и их конкретизац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пределение целей и формулирование задач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иск источников информации и определение списка литературы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отка рекомендаций по выполнению проекта (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планирование этапов реализации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екта , </a:t>
            </a:r>
            <a:r>
              <a:rPr b="0" lang="ru-RU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требования к оформлени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сроки, график выполнения, консульта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Планирование метапредметных результатов проект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Arial"/>
              </a:rPr>
              <a:t>Требования к результатам  проектной деятельност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Планировать и выполнять учебный проек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уя оборудование, модели, методы и приемы, адекватные исследуемой пробл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Выбирать и использовать метод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соответствующие рассматриваемой проблем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Использовать естественно-научные методы и прием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ак наблюдение, постановка проблемы, выдвижение гипотезы, эксперимент, моделирование, теоретическое обосн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Распознавать и ставить вопросы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ответы на которые могут быть получены путем научного исследования, формулировать на основе исследования 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Ясно, логично, и точно излагать свою точку зрени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использовать языковые средства, адекватные проблем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Отличать факты о суждений, мнений, и оцен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критически относиться к суждениям, мнениям, оценк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cc"/>
                </a:solidFill>
                <a:latin typeface="Arial"/>
              </a:rPr>
              <a:t>Видеть и комментировать связь научного знания и ценностных установ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моральных суждений при получении, распространении и применении научного зн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зультаты проектно-исследовательской деятельности (ФГО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Arial"/>
              </a:rPr>
              <a:t>Выпускник науч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анировать  исследование в соответствии с поставленными задач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писывать и выявлять отличительные признаки живого, обнаруживать причинно-следственные свя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нимать решения об использовании соответствующих методов (наблюдение, эксперимент, моделирование, выдвижение гипотезы) для проведения биологических исследован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зрабатывать и защищать исследовательские  проекты, моделирующие реальные биологические процесс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ормировать коммуникативные умения, навыки сотрудничества, работу в парах ил группах с распределением ролей, разделением ответственности за конечный результа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Результаты проектно-исследовательской деятельности (ФГОС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cc"/>
                </a:solidFill>
                <a:latin typeface="Arial"/>
              </a:rPr>
              <a:t>Выпускник получит возможность научитс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мостоятельно задумывать, планировать и выполнять учебное исследование, учебный и социальный проек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 догадку, озарение , интуиц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ьзовать естественно-научные методы и приемы, как наблюдение, постановка проблемы, выдвижение гипотезы, эксперимент, моделирование, теоретическое обоснов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енаправлено и осознанно развивать свои коммуникативные способности, осваивать новые языковые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ознавать свою ответственность за достоверность полученных знаний, за качество выполненного про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2:23:48Z</dcterms:created>
  <dc:creator>Kondrashova</dc:creator>
  <dc:description/>
  <dc:language>en-US</dc:language>
  <cp:lastModifiedBy>Татьяна Васильевна Немцева</cp:lastModifiedBy>
  <dcterms:modified xsi:type="dcterms:W3CDTF">2015-04-02T12:19:06Z</dcterms:modified>
  <cp:revision>61</cp:revision>
  <dc:subject/>
  <dc:title>Слайд 1</dc:title>
</cp:coreProperties>
</file>