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BFD-DAB3-4C27-9699-83A6A4E9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B17-CFDA-4FBF-8127-C807AB25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2E9-BE15-4CED-980E-B5975FAE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B01-9DE1-4AA7-829F-A216930F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8B79-3F6A-4130-9683-6EC46BA6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CEF7-A598-4E51-9292-71C0CD24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68DB-3272-44C2-9C96-F2707A48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0347-E4A4-4C40-A081-90E53E5F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F436-F34F-40D3-8384-E47740AA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3413-5154-4FAC-A36E-F303B084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CFEC-5AB6-475F-A675-F2697CF8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9EE-4002-4C0E-AC11-8D7465DE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3D03-D91B-4E97-8DD7-F9409EFA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758C-EBA5-411E-9E30-B3090BB3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24B3-EE10-4F8B-9BB2-AD1B90B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A00B-21D4-4148-B12D-1C622BA6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B631-260F-439D-A688-F04047B1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B0B-4666-4739-BA0F-FFBC5C33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16F-EC1B-4B7D-86C4-0ADDA70A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B21-D683-441A-903F-2577B015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DA2-379D-48A5-912A-BA1DEF58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9B0-8C30-4BCD-B420-6A3304A4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3DD-49F9-4468-90B8-DC6B24E4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956-4733-4E56-A3DF-C6D49187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7252-01B2-4E30-A06D-5F50438E29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D732-8D87-4F3D-9385-B3CB5313E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рганизаций профессионального образования (ОП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http://im6-tub-ru.yandex.net/i?id=84236651-66-72&amp;n=21"/>
          <p:cNvPicPr/>
          <p:nvPr/>
        </p:nvPicPr>
        <p:blipFill>
          <a:blip r:embed="rId1"/>
          <a:stretch/>
        </p:blipFill>
        <p:spPr>
          <a:xfrm>
            <a:off x="5651640" y="1700280"/>
            <a:ext cx="2808000" cy="23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студентом, родителем, потенциальным сотрудником, работодателем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интервью президента гр. компаний Cognitive Technologies Ольги Уск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мы всегда, даже в тяжелые времена, «держали» кафедры 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Физтехе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ИСиС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ели научную работу и читали в университет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нас есть жесткая рекомендация для подразделений ― 15% штата комплектовать стажерами из числа студен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жер ― это напряжение. Но те, кто не тратит силы на стажеров, потом испытывают кадровые сложности. Лучшие кадры выращиваются у себ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9-2010-х годах по нескольким проектам скорость экономического роста сильно выросла, потребовалось много людей, поэтому мы вложились системно ― я пошла в МИСиС уже завкафедрой. Теперь освежаем кадры систематиче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 Усково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ьных систем мотивации я ни разу не видела. Все, что ты можешь сделать для своих партнеров и сотрудников, ― это минимально их трогать, дать возможность шевел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тяжелое ― когда ты можешь, а тебе не дают. Когда тебе дают, а ты не можешь, ― это тоже тяжело, но такого человека не так жалко. А когда он может, а ему не дают ― вот это пробл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в группах разработайте проекты формирования ММ сотрудников ОП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в т.ч.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ПО; 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http://im2-tub-ru.yandex.net/i?id=5018066-70-72&amp;n=21"/>
          <p:cNvPicPr/>
          <p:nvPr/>
        </p:nvPicPr>
        <p:blipFill>
          <a:blip r:embed="rId1"/>
          <a:stretch/>
        </p:blipFill>
        <p:spPr>
          <a:xfrm>
            <a:off x="34920" y="0"/>
            <a:ext cx="1944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П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профессионализации и социализации выпуск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профессиональные и социальные компетенции, позволяющие ему жить и функционировать в качестве члена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СПО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профессиональным образовательным организациям (ОП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СП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П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СПО в обязательном порядке должен быть согласован с субъектами 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79640" y="549000"/>
            <a:ext cx="6624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://im2-tub-ru.yandex.net/i?id=171394413-58-72&amp;n=21"/>
          <p:cNvPicPr/>
          <p:nvPr/>
        </p:nvPicPr>
        <p:blipFill>
          <a:blip r:embed="rId1"/>
          <a:stretch/>
        </p:blipFill>
        <p:spPr>
          <a:xfrm>
            <a:off x="155520" y="1916280"/>
            <a:ext cx="175248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П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О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(обр. услугу и выпускника) на рынок (рынок ОУ и рынок труда), вам нужно так описать его, чтобы люди, которым вы его предлагаете (абитуриенты и их родители, а также работода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/услуга потребностям вашей целевой группы (какой?)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http://im2-tub-ru.yandex.net/i?id=27149425-18-72&amp;n=21"/>
          <p:cNvPicPr/>
          <p:nvPr/>
        </p:nvPicPr>
        <p:blipFill>
          <a:blip r:embed="rId1"/>
          <a:stretch/>
        </p:blipFill>
        <p:spPr>
          <a:xfrm>
            <a:off x="0" y="28440"/>
            <a:ext cx="2627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560" y="1628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ММ, профессионализма, взаимоуважения и вовлеченнос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юбой контакт вашей организации с внешним мир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проф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ПО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щий уровень развития и уровень квалификации студентов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Кто у нас его Величество Клиен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http://im7-tub-ru.yandex.net/i?id=414655962-68-72&amp;n=21"/>
          <p:cNvPicPr/>
          <p:nvPr/>
        </p:nvPicPr>
        <p:blipFill>
          <a:blip r:embed="rId1"/>
          <a:stretch/>
        </p:blipFill>
        <p:spPr>
          <a:xfrm>
            <a:off x="155520" y="44280"/>
            <a:ext cx="14288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маст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Т, возможных и реальных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http:/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П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907920"/>
          <a:ext cx="8459640" cy="5492880"/>
        </p:xfrm>
        <a:graphic>
          <a:graphicData uri="http://schemas.openxmlformats.org/drawingml/2006/table">
            <a:tbl>
              <a:tblPr/>
              <a:tblGrid>
                <a:gridCol w="2428920"/>
                <a:gridCol w="2897280"/>
                <a:gridCol w="313344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П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О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П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П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её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й П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уникальностью местоположения, эффективным образовательным процессом, сотрудничеством с бизнес-структурами и наличием базы для полноценной практики, хорошей МТБ, обеспечивают повышенные разряды выпускников СПО и их трудоустройство, готовностью педколлектива работать со студентами с ОВЗ и п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профессиональной образовательной организации, освоить технологии работы со студента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колько менеджмент ОО осознает сильные и слабые стороны своей организации, управляет ими для повышения результативности и снижения затратности образовательного процес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, в т.ч. при  позиционировании и продвижении своей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студентов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ПОО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и абитуриенты) при выборе П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: мастеров, педагог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стойчивые, конструктивные связи с работодателями и наличие базы для практи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: лаборатории, мастерские, с наличием соответствующего обору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быта и учебы: благоустроенное общежитие, столовая, спортивный и актовый залы, укомплектованные соответствующим оборудованием, для активного проведения занятий и досуга студент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подходов, способствующих формированию профессиональных и личностных компетенций;  оптимальное сочетание общеобразовательной и профессиональной, урочной и производственной деятельности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способность коллектива к инновациям; признание в проф. сообществе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миджевые факторы, в т.ч. связанные с  информированием и продвижением (сайт, СМИ, иные ИК технологии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проектных групп…;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широкий выбор дополнительных программ профессионального образ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бное месторасполож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й ПОО могут стать или уже являются факторами успех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ФУ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ПО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для П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ПОО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ПОО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ПО и потребителя (студента/ро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обучающимся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отребности мы помогаем им удовлетворять в ОПО?  Наши возмож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ПОО: в чем мы сильны, каковы наши особенности и приоритеты, какие потребности с точки зрения клиентов мы можем удовлетворять, чем мы можем быть интересны выпускникам школ, их родителям, работодателям…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(т.е. достижимые, совпадающие с интересами потребителя и сильными сторонами ПОО, в тоже время содержащие вызов) цели организ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(миссии, видения будущего своей ПОО) и определенных целей маркетинговой стратегии начинается оперативное маркетинговое планирован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П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студентов, родителей, социальных партнеров, коллег; а также потребителей их «товара»: Вузов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ю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ПОО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ОСП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ориентационная работа с ООШ, СО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МИ, Интерне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образовательной организации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, днях трудоустройства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профессии, Новый год, Последний звонок, День рождения П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ПОО и соответствия разработанной стратегии развития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ПОО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СП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влияют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im4-tub-ru.yandex.net/i?id=1916380-08-72&amp;n=21"/>
          <p:cNvPicPr/>
          <p:nvPr/>
        </p:nvPicPr>
        <p:blipFill>
          <a:blip r:embed="rId1"/>
          <a:stretch/>
        </p:blipFill>
        <p:spPr>
          <a:xfrm>
            <a:off x="3564000" y="2637000"/>
            <a:ext cx="252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работодателей, выпускник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студентам, родителям, выпускникам, гостям П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собствен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П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прос на выпускников профессионального ОУ со стороны крупных, работодателе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ПОО, элементах имиджа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ОС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освоения профессии и социализац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ключевых профессиональных и социальных компетенций для адаптации их к производству и успешной интеграции в обще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ОС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П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34:48Z</dcterms:modified>
  <cp:revision>85</cp:revision>
  <dc:subject/>
  <dc:title>Технологии повышения привлекательности  образовательной организации</dc:title>
</cp:coreProperties>
</file>