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AF28-B365-4A36-AADE-B656DA5D7D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414D-28F8-4F53-9D98-2A7EB6E1A4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224B-2C0D-4608-BBDE-5CAEF280B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C881-7AE2-483F-BBF2-33718E40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611E-A711-48E4-8EA9-D4D47212C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3612-F9CF-450C-9F82-B0F7810C4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3124-9729-4579-BF92-A7F473F18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BF5D-E0E8-403E-BB97-8401A30C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2748-8D43-4F7C-BEA1-5A8C86B5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358F-43DD-4878-9FB7-5718BE7E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7ED5-2BFC-49EE-AF53-570DA2B1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AE92-9CD9-4EFA-B54E-BE6822E3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CDA2-8DC0-4625-8F59-BC287DF1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B6C6-1D24-42F7-B6B8-9077D716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6409-10AC-4A25-81B8-BEF3B49D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4030-1EAD-4B55-A11E-5041D118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35EC-22B0-4E5F-88D8-B62CB0F4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F99D-81DF-4908-9BF9-45E9A1780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2B25-75C4-4191-BC3C-2BE7481A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FC82-CFE9-4FB8-938C-A445B1A1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A12B-8BD4-4069-AA7D-9DF60FC3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7A39-06B7-4FD1-83F1-7AEEC2BE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1B01-04E7-4ED9-88CC-1BB81553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4D6B-1C11-45EC-9F73-B439EE46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B2D8-4268-4D08-A5A8-617D2F1B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FDF6-C9DF-4FC3-A543-8D959697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B81D-EF41-4252-908B-C69E21CEB1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5E21-E6E9-40DE-9B56-5B1C6DE809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text=&#1087;&#1086;&#1074;&#1099;&#1096;&#1077;&#1085;&#1080;&#1077;%20&#1087;&#1088;&#1080;&#1074;&#1083;&#1077;&#1082;&#1072;&#1090;&#1077;&#1083;&#1100;&#1085;&#1086;&#1089;&#1090;&#1080;%20&#1096;&#1082;&#1086;&#1083;&#1099;&amp;fp=0&amp;img_url=http%3A%2F%2Ftrud22.ru%2Ffiles%2Ffck%2FImage%2Fnews%2FVOL_8146_.jpg&amp;pos=22&amp;rpt=simage&amp;lr=16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fp=1&amp;img_url=http%3A%2F%2Fozvest.ru%2Fwp-content%2Fuploads%2F2013%2F02%2Fgagarina_4-300x200.jpg&amp;uinfo=ww-1010-wh-564-fw-785-fh-448-pd-1&amp;p=1&amp;text=&#1087;&#1086;&#1074;&#1099;&#1096;&#1077;&#1085;&#1080;&#1077;%20&#1087;&#1088;&#1080;&#1074;&#1083;&#1077;&#1082;&#1072;&#1090;&#1077;&#1083;&#1100;&#1085;&#1086;&#1089;&#1090;&#1080;%20&#1096;&#1082;&#1086;&#1083;&#1099;&amp;pos=41&amp;lr=16&amp;rpt=simag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40000" y="765000"/>
            <a:ext cx="6408720" cy="28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Основы маркетинга  и маркетинговой стратегии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77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Гайнутдинов Рашид Минасхат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доцент кафедры менеджмен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ГОАУ ЯО ИРО, к.пс. нау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http://im2-tub-ru.yandex.net/i?id=13684312-6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4224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ркетинг и повышение привлекательности 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267920"/>
            <a:ext cx="8507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окупность способов воздействия на клиента принято называть маркетинговыми коммуникациями или интегрированными маркетинговыми коммуникациями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аще всего к ним относя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кла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связи с общественностью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моушн (продвиже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н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 я думаю, что все, что воздействует на потребителя (потенциального в т.ч.) можно отнести в широком смысле слова к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C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т улыбки вахтера и гардеробщицы до запахов в туалет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жде всего вы должны научиться думать, как клиент и смотреть на свою организацию и её услуги глазами клиен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привлекательность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0920" y="1341360"/>
            <a:ext cx="7993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ность ОО привлекать расположение и позитивное внимание со стороны учредителя и потенциальных/реальных пользователей образовательных услуг (обучения, воспитания, социализации): детей, родителей, социальных партнеров, коллег; а также потребителей их «товара»: УПО, субъектов рынка труда – работода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сположение может выражаться в таких формах как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56000" y="1699920"/>
            <a:ext cx="6130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абильно позитивный имидж организаци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рост  контингент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олее высокие уровни инвестиций (внимания, финансов) со стороны учредителя, спонсоров, работодателя, родителей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оверие и готовность к сотрудничеству со стороны социальных партнеров, в т.ч. УПО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http://im2-tub-ru.yandex.net/i?id=508414093-44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421000"/>
            <a:ext cx="22986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ниматься маркетингом означает все время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03280" y="2060280"/>
            <a:ext cx="548316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умать о своем клиен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нимать своего кли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еть потребности своего кли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оянно радовать ег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http://im4-tub-ru.yandex.net/i?id=126237263-58-72&amp;n=21"/>
          <p:cNvPicPr/>
          <p:nvPr/>
        </p:nvPicPr>
        <p:blipFill>
          <a:blip r:embed="rId1"/>
          <a:stretch/>
        </p:blipFill>
        <p:spPr>
          <a:xfrm>
            <a:off x="0" y="907920"/>
            <a:ext cx="2916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иентоориентированность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вся организация «заражена» клиентоманией, то ее называют клиенто-ориентированной. Здесь буквально все рассматривают только с одной позиции — с позиции Клиент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ркетинг – это незримое присутствие Клиента буквально везде в организа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поративное маркетинговое мышление само собой не возникает, его нужно воспитывать и развив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вайте подумаем как это следует делать в ваших конкретных условиях: </a:t>
            </a: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в группах разработайте мини-проекты средств формирования ММ сотрудников ОО - 20 мину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иссия – это «визитная карточка» 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а должна быть привлекательна, понятна для всех, кто может воспользоваться образовательными услугами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ому ключевым вопросом для определения миссии является «Кому и зачем все это нужно?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оптимально сформулировать миссию своей организации, желательно найти ответы на несколько вопросов «зачем?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чем это учреждение учредителя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 на этот вопрос помогает понять ожидания учредителей и учесть их в выборе развития ОО; с одной стороны, сохранить свое лицо, с другой – быть в русле изменений, происходящих в системе образ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ая миссия ОО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условий для успешной социализации (в широком смысле слова) ребенка (человека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сс социализации представляет собой совокупность всех социальных процессов, благодаря которым индивид усваивает определенную систему норм и ценностей, осваивает необходимые компетенции, позволяющие ему жить и функционировать в качестве члена общ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кола, семья, ДОУ, УДО, УПО – все работают на решение указанной цели, но каждый из этих институтов делает это с помощью только ему присущих средст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кола – это инвариантная часть государственных институтов социализации ребенка, обеспечивающая временную и пространственную преемственность и взаимосвязь поколений и регион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Внешкольные образовательные учреждения (ДОО; ОДО; ОПО)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вариативная часть государственно-общественных институтов социализации ребенк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ни призваны создавать условия для обеспечения современного для данного общества и актуального для данной личности целостного ее развития (от раннего дошкольного, до профессиональной подготовки в зрелом возрасте); «достраивания» путем предоставления ей выбора и создания «территории успеха»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 необходимости оказывают социально-психологическую поддержку и осуществляют психолого-педагогическую коррекцию и реабилитацию ребенк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упповое обсужд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Что такое маркетинг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Зачем он нужен образовательным организациям (ОО)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Какие у ОО существуют возможности и ограничения для осуществления данной деятельност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чем это образовательное учреждение обществу (социуму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шедшие ответ на этот вопрос получают массу серьезных преимуществ. В первую очередь — точное понимание клиента, тех, на кого ориентирована их деятельность, а также определение того, что и как предлагается в ответ на его запр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чем эта организация людям, которые в ней работаю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лективный поиск ответа на этот вопрос помогает создать атмосферу сопричастности ко всему происходящему в школе, соучастия в ее делах, столь важное в наше время чувство социальной принадлежности, позволяет обнаружить то, что отличает сотрудников вашей ОО от осталь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веты на эти вопросы позволяю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ссию ОО образно представить как «флаг», который нужен для ее презентации внешнему миру (в первую очередь клиентам), и, в то же время, «знамя», под которое собираются люди, чтобы сплоченной командой воплощать в жизнь дела, которых ждет от ОО внешний мир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жно отметить, что выбор миссии ОО в обязательном порядке должен быть согласован с субъектами муниципальной/региональной  системы образования, которые выражают интересы всего населения данной территор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Попытайтесь сформулировать миссию своей организац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иссия всегда индивидуальна, уникальна, неординарна, в ней заключена основная «изюминка», образ «новизны», неповторимости коллектива, предназначение ОО в мире в целом, и в мире образования, в част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а из задач ОО – снизить «прессинг инкультурации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котором говорит А.Маслоу, приводящий к фрустрации и ограничениям естественного права ребенка на развитие в процессе социализа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Прессинг инкультурации, т.е. воспитания, дисциплины, формирования социальных навыков, подготовки к будущей взрослой жизни, осознания потребностей и желаний других людей в какой-то степени, разумеется, необходим, но процесс воспитания перестанет раздражать нас и ребенка только тогда, когда его будет окружать атмосфера приязни, любви и уважения друг к друг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ное выражение миссии центра «ЛАД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4000" y="1052640"/>
            <a:ext cx="8640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Уверенность в будущем!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дость в настоящем!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лектив стремится к тому, чтобы дети и взрослые получали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ад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т деятельности и общения с нами и друг с другом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егодн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а благодаря усвоению полезных знаний и навыков, а также иным средствам и механизмам социализации увеличивали бы шансы на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уверенн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собственном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будуще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ЛАД» это: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чность.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аптация.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Д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уг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ственное имя центра «ЛАД» указывает не только на приоритет социально-психологических отношений в коллективе сотрудников и детей, но является аббревиатурой основного предназначения данной О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ние свободного времени (радость в настоящем!) для развития личности с целью повышения ее адаптивных качеств (уверенность в будущем!) в атмосфере принятия друг друга и взаимоуважения (лада!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нешняя функция ми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воляет определить статус ОУ, его имидж, так как различные виды и варианты ОО существенно отличаются друг от друга именно по принимаемой на себя мисс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сно заявляя о своей миссии, ОУ как бы предъявляет потенциальным заказчикам, клиентам, партнерам свою визитную карточку, что очень важно для установления будущих отношений социального партнер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очетании с ясно сформулированной миссией девиз можно поместить «снаружи», чтобы дать клиентам и работодателям первоначальное представление о том, чего можно ждать от этой школ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если ясно сформулированной миссии нет, девиз вскоре может превратиться в пустую, бесполезную фраз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овы средства маркетинг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цепция 4 П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укт (особенности и конкурентные преимущества предлагаемых услуг или товар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ажная цена (затраты, которые несет общество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вижение (реклама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требители (особенности сегмент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 П (к 4 П добавляются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изводство (образовательный процесс: содержание и технология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сонал (качество и приверженность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понятия кур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ркетинг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ид человеческой деятельности, направленной на удовлетворение нужд и потребностей посредством обмена» (Ф.Котлер). Существует более 2000 определ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 предлагаем определи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ркетинг в сфере образован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взгляд н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бъек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бразовательную организацию и её персонал),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оцес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базовый бизнес процесс - образовательный) 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результа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бразовательный, включающий обученность и воспитанность ребенка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точки зрения его Потребител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Клиент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ук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аш продукт (это качество образовательных услуг и «товара») есть нечто ценное, что есть у вас и что вы можете обменять на то, что нужно вам – содержание и развитие О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бы продвинуть ваш продукт на рынок, вам нужно так описать его, чтобы люди, которым вы его предлагаете (в первую очередь ЛПР о выборе или смене ОО - родители), могли ясно понять, что Это и как Это отвечает их потребностям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ответствует ли ваш продукт потребностям вашей целевой группы по качеству и удовлетворяет ли он ее специфические потребно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на/затр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оимость произведенной услуги на 1 обучающегося (сформулируйте 2-3 показателя, вычислите их и сравните с показателями своих коллег/конкурентов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траты здоровья персонала, детей и родителей на то качество услуг («товара»), которое обеспечивается в процессе совместного «производств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и данные практически не учитываются, однако мы все понимаем, что можно одного и того же результата добиваться за счет сверхусилий персонала и напряженных отношений с родителями и детьми, а можно за счет энергии вовлеченности и сотрудничества, возникающей в условиях сильной ОК субъектного тип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виж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362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епень использования маркетинговых коммуникаций в ОО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клама:..; Интернет: сайт, соц. сети; эвент (со-бытия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:…Интернет: сайт, соц. сети; эвент (со-бытия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нформирование:…Интернет: сайт, соц. сет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нутренний маркетинг: формирование ОК субъектного типа;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требител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гментирование, знание особенностей и предпочтений потенциального и реального контингента, а также ЛПР (лица принимающего решения): родителя и реб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снове успеха - знание потребителя, его возможностей и огранич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изводство – образовательный проце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чество и соответствие поставленным целям со сторон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сударства (ФГОС), учред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дагог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ода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ест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сон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трудники должны обладать маркетинговым мышлением, быть профессионально готовыми к достижению поставленных целей, удовлетворению спроса на обеспечение качества образования (пример, стандарт учителя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инобрнауки.рф/%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0%B4%D0%BE%D0%BA%D1%83%D0%BC%D0%B5%D0%BD%D1%82%D1%8B/307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ркетинг ОО: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общее, особенное, уникальное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7200" y="907920"/>
          <a:ext cx="8229600" cy="5739120"/>
        </p:xfrm>
        <a:graphic>
          <a:graphicData uri="http://schemas.openxmlformats.org/drawingml/2006/table">
            <a:tbl>
              <a:tblPr/>
              <a:tblGrid>
                <a:gridCol w="1917720"/>
                <a:gridCol w="1361880"/>
                <a:gridCol w="2475000"/>
                <a:gridCol w="2475000"/>
              </a:tblGrid>
              <a:tr h="720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ее для 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обенное для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никальное для конкретной 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65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4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 (затра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4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65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и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4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апы маркетинговой стратег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6 шагов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работка образа организации и концепции коммуникац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внешней сред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конкурент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потребителе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собственной ситуации, позиционирование организации на рынке образовательных услу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ормулирование целей и разработка стратегии и тактики комплекса маркетинга и маркетинговых коммуникац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1. Образ ОО – его культу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ков в вашем представлении желаемый образ ОО, например, в 2015 год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гда внешнее представление о вашей организации совпадает с представлением о нем сотрудников (внешний и внутренний маркетинг), меры по формированию индивидуальности ОО, а значит, и сама деятельность учреждения будут эффективн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ффективными становятся те ОО, которым удается создать долговременные конкурентные преимущества благодаря культуре управления (они в отличие от технических ноу-хау имеют большую защищенность от повторения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г 2. Диагностическ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нализ внешней среды и его основные инструмент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ключевых вопросов: кто? что? зачем? где? чем? как? когда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WO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 -  анализ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СЕ - матрица стратегического положения и оценки действий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old.acconcept.ru/strategy/space.html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PEST-анализ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составления профиля среды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www.bibliotekar.ru/upravlenie-4/42.htm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VRIO анализ  Дж. Барни (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www.creativeconomy.ru/articles/12440/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ркетинг – это 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илософия бизнеса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одология рыночной деятельности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атегия и тактика поведения на рынке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 организации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бор инструментов повышения эффективности управления чем(кем)-либ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 маркетинг ни в коем случае не представляет собой манипулирования клиентам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ктические методы анализа реальной позиции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11280" y="1557000"/>
            <a:ext cx="807552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сс проведения стратегического анализа включает два основных этапа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O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анализ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Анализ внешней среды: возможности и угрозы внешних воздейств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 Анализ внутренней среды: сильные и слабые стороны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c4271"/>
                </a:solidFill>
                <a:latin typeface="Calibri"/>
              </a:rPr>
              <a:t>VRIO анализ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, разработанный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ж. Барни 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струмент для анализа ресурсов и  способностей, определения их ценности и эффективности исполь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Ценность (value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озволяют ли фирме ресурсы и способности использовать внешние возможности (например использование инноваций или участие в конкурсах и получение грантов) и нейтрализовать угрозы (например, угрозу резкого снижения контингента в силу потери ликвидации экономических субъектов в данном НП, или активности соседнего ОУ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дкость (rareness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сколько конкурентов обладают аналогичными ресурсами и способностями (например, природной уникальностью и местоположением; наличием редких специалистов и опытом; эффективным образовательным процессом; хорошей МТБ; готовностью педколлектива работать с детьми с ОВЗ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I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I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ида и пр.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оспроизводимость (imitability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– насколько сложно и дорого получить доступ к данным ресурсам и способностям, использовать  их в текущей образовательной деятельности (например, возможно ли быстро организовать учебный процесс на современном уровне, осуществить модернизацию учебного процесса в соответствии с требованиями ФГОС; повысить имидж образовательного учреждения; освоить педтехнологии работы с детьми с ОВЗ и др.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рганизованность (organization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 полной ли мере ОУ задействует эти ресурсы и способности для реализации своего конкурентного потенциал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блема может быть в том, что ресурсы образовательного учреждения могут быть никак не задействованы в образовательном процессе, либо не используются или неправильно используются при  позиционировании и продвижении своей организаци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3. Анализ конкурентов (бенчмаркинг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овы сильные и слабые стороны существующих и потенциальных конкурентов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какую сферу образовательной деятельности не стоит вторгаться в связи с сильными позициями там других ОО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чем «ахиллесова пята» вашего основного конкурент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жет быть вам лучше наладить сотрудничество, чем конкурировать с конкретными ОО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акторы успеха (ФУ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нутренние достижения ОО, не проявляющиеся на рынке непосредственным образом, например, владение новейшими педтехнологиями, активная методическая работа, инновационная активность коллектива, квалификация и дисциплина персонала, хорошо поставленный документооборот… - все это очень важно, но большинство родителей, да и детей могут об этом даже не догадываться, более того – им это не интересн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удить об ОО они будут по тем достоинствам, которые доходят до них непосредственно и являются для них потребительской ценность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акторы успеха могут переходить в конкурентные преимущества, а могут оставаться лишь внутренним достоянием организации, зато очень важным и необходимым для порождения конкурентных преимущест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жно даже утверждать, что любое конкурентное преимущество ОУ коренится в определенных факторах успеха организ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окус конкуренции (ФК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кус конкуренции – это приоритеты, которыми пользуются клиенты (родители прежде всего) при выборе ОУ или принятии решения о его сме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конкурентные преимущества ОО вырабатывают сами, то фокус конкуренции – это критерии, которые вырабатывает потребитель навстречу этим К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ипы ФУ и их составляющие</a:t>
            </a:r>
            <a:r>
              <a:rPr b="0" lang="ru-RU" sz="4000" spc="-1" strike="noStrike">
                <a:solidFill>
                  <a:srgbClr val="ccc1da"/>
                </a:solidFill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50920" y="1052280"/>
            <a:ext cx="8642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квалификацией и личностными особенностями педагогического персонала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технологиями: компетентность в новых проектных, исследовательских технологиях; способность к инновациям; роль экспертов в данной технологии; признание в проф. сообществе…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Наличие МТБ, обеспечивающей современные возможности освоения ФГОС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образовательным процессом:  реализация системно-деятельностного подхода при формировании УУД, метапредметных, личностных компетенций;  оптимальное сочетание урочной и внеурочной деятельности…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 информированием и продвижением (сайт, СМИ, иные ИК технологии)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компетентностью в управлении и наличие управляющих ноу-хау (например, изменение оргструктуры; формирование классов переменного состава…;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 информированием и продвижением услуг и имиджа ОО (свой сайт, СМИ, информационные листки, встречи с родителями…)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Подумайте и конкретизируйте, какие факторы вашего ДОО могут стать или уже являются факторами успеха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игрыш – выигрыш; выигрыш-потеря или потеря - потер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ркетинг – это обеспечение для ОО и потребителя (родителя/школы) ситуации «выигрыш-выигрыш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ям (и детям) нужны не образовательные услуги как таковые, а удовлетворенные потребности и решенные проблем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потребности мы помогаем им удовлетворять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проблемы помогаем решать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нкурентные преимущества (КП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те достижения ОО, факторы успеха, которые попадают в фокус конкуренции и обеспечивают конкурентные преимуществ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П (или ключевые факторы успеха) не только напрямую воспринимаются и оцениваются клиентами, но являются дифференцирующими признаками их потребительского выбо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аркетологи ещё иногда называют их «продающими моментам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ем больше у вас продающих моментов, тем лучш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138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по вертикали впишите характеристику элементов ММ ОО и б) по графам произведите оценку своих О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0" y="981000"/>
          <a:ext cx="8964720" cy="5543640"/>
        </p:xfrm>
        <a:graphic>
          <a:graphicData uri="http://schemas.openxmlformats.org/drawingml/2006/table">
            <a:tbl>
              <a:tblPr/>
              <a:tblGrid>
                <a:gridCol w="1979640"/>
                <a:gridCol w="1606680"/>
                <a:gridCol w="1792080"/>
                <a:gridCol w="1792440"/>
                <a:gridCol w="1793880"/>
              </a:tblGrid>
              <a:tr h="13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ы маркетинг-мик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никальное конкурентное преимущ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тветств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му уровню  по региону/райо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овый/допустимый  уровен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ходимо изменя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 (затра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ител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http://im1-tub-ru.yandex.net/i?id=441066139-02-72&amp;n=21"/>
          <p:cNvPicPr/>
          <p:nvPr/>
        </p:nvPicPr>
        <p:blipFill>
          <a:blip r:embed="rId1"/>
          <a:stretch/>
        </p:blipFill>
        <p:spPr>
          <a:xfrm>
            <a:off x="0" y="0"/>
            <a:ext cx="3059280" cy="31417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5627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 конкурентному преимуществ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92000" y="1700280"/>
            <a:ext cx="6994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гут относиться все перечисленные выше факторы, позволяющие успешно конкурировать на рынке и побеждать в конкурентной борьб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группах подготовьте свои суждения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в настоящий момент в фокусе конкуренции на рынке ОУ в крупных городах (НШ, СШ; УДО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что будет сдвигаться ФК в недалеком будущем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попадет в ФК в дальней перспективе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г 4. Анализ потреб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4000" y="134100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тобы добиться успеха, думай не о себе, а о другом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егментирование рынка (какая группа потенциально является нашими потребителями, каков их соц.-дем. портрет и псих. особенности, особенности их потребительского поведения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учетом данных о состоянии рынка образовательных услуг необходимо анализировать сильные и слабые стороны своего учреждения, выявлять потребности, прогнозировать тенденции, искать сильные позиции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5. Анализ собственной ситуации и определение позиции на рын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десь надо ответить на вопрос: «Что нам мешает в данный момент удовлетворить образовательные потребности наших клиентов лучше, чем конкурент?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зиционирование ОО: в чем мы сильны, каковы наши особенности и приоритеты, какие потребности с точки зрения клиентов мы можем удовлетворять, чем мы можем быть интересны родителям, детям, партерам...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десь осуществляется переход от аналитического раздела к практической разработке стратеги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ормируется ориентация на перспективные направления рынка ОУ, на основе 1-5 шаг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6. Формируется маркетинговая стратегия и тактика О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основе предыдущих шагов формулируются конкретные, мотивационные цели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основе разработанных концепций и определенных целей маркетинговой стратегии начинается оперативное маркетинговое планиров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мечаете комплекс маркетинговых мероприятий, в т.ч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C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оды продви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blic Relations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связи с общественност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кл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ытия/мероприятия  (ивент/эвен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2" descr="http://im4-tub-ru.yandex.net/i?id=194040097-71-72&amp;n=21"/>
          <p:cNvPicPr/>
          <p:nvPr/>
        </p:nvPicPr>
        <p:blipFill>
          <a:blip r:embed="rId1"/>
          <a:stretch/>
        </p:blipFill>
        <p:spPr>
          <a:xfrm>
            <a:off x="155520" y="0"/>
            <a:ext cx="14288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 (Pablic Relation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нительно к ОУ – это попытка удовлетворить интерес к нему и его услугам путем передачи имеющейся информации через различные каналы, организация общественного мнения в целях повышения репутации и привлекательности организации в глазах потребителей, работодателя, учред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разместить информацию в С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125000"/>
            <a:ext cx="8362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ществует мнение, что разместить информацию об ОО можно только за деньги. Это часто верно, но не всегд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в ОО происходят социально значимые события, интересные за пределами школы – это может вызвать интерес журналистов газет и Т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общить о событиях можно рассылая пресс-релизы в печатные, электронные и ТВ С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заглавии пресс-релиза необходимо обязательно указать: кто проводит мероприятие, для кого и с какой целью, место и сроки провед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е содержание д.б. посвящено краткому описанию структуры и содержания мероприят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написании текста нужно использовать те слова и выражения, которые не требуют от читателя знания специальных пед. зна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яду с рассылкой пресс-релизов необходимо лично приглашать журналистов (легче районных и городских, сложней региональных и федеральных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глашение представителей ТВ потребует наибольшей предварительной подготовки со стороны О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вила работы с Т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начале работы корреспондента уточните, в какой передаче и в какой рубрике будет представлен ваш материал, сколько времени в эфире займет рассказ. Важно узнать, сколько по времени и как планируют снимать сюжет, согласуйте свои предложения с планами журналис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у бригады ограниченное, поэтому смогут уделить вашей школе ограниченное время. Заранее определите ответственного, кто будет сопровождать корреспондента, комментировать происходящее и т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ажите корреспонденту и оператору наиболее яркие моменты праздника, события. ТВ это прежде всего динамичная карти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476000" y="981000"/>
            <a:ext cx="67532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работайте в группах особенности работы  ваших ОО, которые, с вашей точки зрения, важно учесть при использовании маркетингового подхода в управлен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умайте о постановочных кадр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все события можно запечатлеть в реальном времени и тем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ому вполне уместно будет попросить участников специально для ТВ спеть песню, поиграть в игру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, чтобы приезд журналистов и создание постановочного сюжета не мешали проведению меро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ли репортаж предполагает выступл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ранее подготовьте 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, чтобы текст был кратким, содержательным и понятным любому челове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ответах на вопросы интервью будьте краткими и отвечайте без длинных вводных фраз – это все равно выреж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завершение работы с корреспондент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ручите ему пресс-релиз, в котором будет описано прошедшее событие, а также имена, отчества, фамилии и должности всех, кто был активным участником репортаж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учше попросить проверить Ф.и.о., должности участников, которые корреспондент мог записать на слух с ошибками, неточностя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точните время выхода репортажа и договоритесь о возможности переписать итоговый репортаж и черновой материал для архива учреждения (его надо использовать для других мероприятий, выложить на сайт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струменты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 (Pablic Relations)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ни странно, но это также вполне привычны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ьские собран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 жителями микрорайо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тскими садами по работе с будущими первоклассник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о спонсорами, с шефами, с работодателями, депутат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08000" y="0"/>
          <a:ext cx="9036000" cy="6800760"/>
        </p:xfrm>
        <a:graphic>
          <a:graphicData uri="http://schemas.openxmlformats.org/drawingml/2006/table">
            <a:tbl>
              <a:tblPr/>
              <a:tblGrid>
                <a:gridCol w="1047600"/>
                <a:gridCol w="1141560"/>
                <a:gridCol w="1141200"/>
                <a:gridCol w="1140120"/>
                <a:gridCol w="1141200"/>
                <a:gridCol w="1141560"/>
                <a:gridCol w="1141200"/>
                <a:gridCol w="1141560"/>
              </a:tblGrid>
              <a:tr h="1618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туп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иодич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нота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требован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ие сбоев в передаче инф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тратность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 бал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чная встреч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ка объявл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мят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4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бр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63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ои С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ямая (адресная) почтовая рассыл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жегодная рассылка бывшим выпускникам красочно оформленных календарей с символикой школы, поздравительных открыток, благодарственных писем родител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ставки и семина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пространение рекламной продукции, касающейся основной деятельности ОО во время проведения и участия в конференциях, выставках и др. массовых мероприят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ентаци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ие ежегодной презентации в различных районах города, на площадках других учреждений, приурочивание проведения презентаций к большим праздникам: день района/улицы/города, День учителя, Новый год, Последний звонок, День рождения школы и т.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талоги и букл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родителей, партнеров, попечителей, спонсоров необходима правильная расстановка акцентов, но при этом не стоит забывать об учете сложившегося имиджа школы и соответствия разработанной стратегии развития О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кламные щиты и наружная рекла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 необходимого согласования (ГИБДД, администрация, собственник, отдел рекламы) можно использовать имеющийся автобус, штендеры или растяжки на территории школы, её фасаде, а также на оживленных перекрестках, пешеходных зонах в пар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собенности О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выявленные в групповой работе), которые могут влиять на маркетинговую стратегию О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лефонный маркетинг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ведение телефонного анкетирования среди родителей, попечителей, спонсоров и т.п. накануне нового учебного года или его окончани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ирменные сувениры: вручение детям, родителям, выпускникам, гостям школы ручек, календариков, поделок воспитанников и т.п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изитные карточки, методическая литература с рекламой школы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клама в школьных С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ль ого управления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формировании положительного образа ОУ может существенную роль играть его Попечительский совет, важнейшей функцией которого является лоббирование интересов О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уководители, правильно понимающие значение данного органа, активно привлекают к его работе родителей, депутатов, представителей общественных организаций, бизнесменов и т.п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этому в рамках его деятельности крайне важно проводить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-акции, привлекающие внимание, а затем, возможно, и финансы, для О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ценка эффективности маркетингов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изменения численности контингента на фоне демографических изменений района; обеспечение плана набора/конкурс на отдельные професс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изменений характеристик имиджа ОО: узнаваемости и привлекательности организации, наличия и оценки имени, «торговой марки», «бренда» О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противоречивость, конгруэнтность внутреннего и внешнего маркетинга, содержания и формы, адекватность имиджа реальност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реализации проекта, позволяющая фиксировать результаты выполненных работ, произошедшие изменения во внутренней культуре школы, элементах имиджа О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довлетворенность целевой аудитории теми формами работы, в которые они были вовлечен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удовлетворенности работой ОО со стороны: учредителя, родителей, обучающихся, персонал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ализ обратной связи в т.ч. неорганизованной (соц. сети, форумы, чаты, блоги…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чем нужна привлекательность ОО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«Там, где нет конкуренции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спится лучше, но живется хуже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 что нацелен маркетин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вести исследования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пределить целевой рынок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довлетворить потребителей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стичь конкурентного преимущест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адача маркетинга быть там, где есть аудитор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если наш сегмент все больше времени проводит в Интернете и социальных сетях, значит и думающим руководителям ОУ следует воспользоваться возможностями этих ресурсов, и одновременно понимать какие угрозы порождает это явлени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5T11:21:02Z</dcterms:created>
  <dc:creator>gainutdinova</dc:creator>
  <dc:description/>
  <dc:language>en-US</dc:language>
  <cp:lastModifiedBy>Рашид Минасхатович Гайнутдинов</cp:lastModifiedBy>
  <dcterms:modified xsi:type="dcterms:W3CDTF">2014-02-24T10:14:54Z</dcterms:modified>
  <cp:revision>61</cp:revision>
  <dc:subject/>
  <dc:title>Технологии повышения привлекательности  образовательной организации</dc:title>
</cp:coreProperties>
</file>