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BF64-4E47-489F-AE67-05A3BA4D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D734-DE4A-422A-8607-F258F311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54CF-031F-4AAC-9AFF-02725E98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F2D8-A74F-4832-AEEA-07CEE047B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1A4F-BAC9-446E-9F83-252E5CF1E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B71D-A43F-4DB3-A5C2-7065C636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3F75-1179-409E-B6E9-BCDA9749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BA33-3AAF-44F4-86CB-0A7D5908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575F-3423-47D8-8B6D-615889BB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1B05-20AB-4A4E-87D2-A67E3091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A281-662F-416D-8D7D-555ED594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FB30-BFC0-49DE-BCFB-64DE9341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166F-7C9B-49C7-8DCC-CAE0AD6F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2340-B935-4E88-92D9-DA974049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8CD2-5667-46CE-A26B-52AC7E1A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0881-E7B1-4B9E-AFF6-416866F70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79C0-C1B9-4A86-8DE7-54139C35E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47A8-FB64-4927-A0A5-0EBC953C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F95C-516C-4A49-B229-6756562D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D09D-12A4-417B-93E9-82D22FEE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6AC4-736D-4C30-BB99-AD314431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947B-3FCA-49EF-80D3-806262CC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5471-4081-4198-B9CF-1EDE2B85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ED6F-E8CF-4967-84AD-660CBA17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CB01-AE49-40F5-BEEA-22FDB6B979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0EED-CA75-45DD-B656-2A272D5770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text=&#1087;&#1086;&#1074;&#1099;&#1096;&#1077;&#1085;&#1080;&#1077;%20&#1087;&#1088;&#1080;&#1074;&#1083;&#1077;&#1082;&#1072;&#1090;&#1077;&#1083;&#1100;&#1085;&#1086;&#1089;&#1090;&#1080;%20&#1096;&#1082;&#1086;&#1083;&#1099;&amp;fp=0&amp;img_url=http%3A%2F%2Ftrud22.ru%2Ffiles%2Ffck%2FImage%2Fnews%2FVOL_8146_.jpg&amp;pos=22&amp;rpt=simage&amp;lr=16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fp=1&amp;img_url=http%3A%2F%2Fozvest.ru%2Fwp-content%2Fuploads%2F2013%2F02%2Fgagarina_4-300x200.jpg&amp;uinfo=ww-1010-wh-564-fw-785-fh-448-pd-1&amp;p=1&amp;text=&#1087;&#1086;&#1074;&#1099;&#1096;&#1077;&#1085;&#1080;&#1077;%20&#1087;&#1088;&#1080;&#1074;&#1083;&#1077;&#1082;&#1072;&#1090;&#1077;&#1083;&#1100;&#1085;&#1086;&#1089;&#1090;&#1080;%20&#1096;&#1082;&#1086;&#1083;&#1099;&amp;pos=41&amp;lr=16&amp;rpt=simag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340000" y="765000"/>
            <a:ext cx="6408720" cy="28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Основы маркетинга  и маркетинговой стратегии </a:t>
            </a:r>
            <a:r>
              <a:rPr b="0" lang="en-US" sz="4400" spc="-1" strike="noStrike">
                <a:solidFill>
                  <a:srgbClr val="000000"/>
                </a:solidFill>
                <a:latin typeface="Mistral"/>
              </a:rPr>
              <a:t>C(</a:t>
            </a: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К)ОО; Д/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77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Гайнутдинов Рашид Минасхат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доцент кафедры менеджмен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ГОАУ ЯО ИРО, к.пс. нау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http://im2-tub-ru.yandex.net/i?id=13684312-6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4224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обенности -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вязи с обострившимся вниманием к внутренней жизни в учреждениях интернатного типа, кроме формирования открытости, необходимо особое внимание уделить развитию т.н. внутреннего маркетинг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.е. если мы хотим, чтобы сотрудники были сосредоточены на индивидуализации развития и поддержке детей, необходимо проявить вниманием к потребностям и развитию сотрудни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обенности -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детей-сирот, а также детей с ОВЗ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рушается связ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: а) социумом, б) культурой как источником развития; в) родителя и ребенка, т.к. взрослый носитель культуры не знает, каким образом передать тот социальный опыт, который каждый нормально развивающийся ребенок приобретает самостоятель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обенности -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.к. С(К)ОО имеют дело с большим разнообразием ОВЗ, а Д/д чаще всего с психологически травмированными детьми, значит это требует достаточно глубокой специализации и высокой квалификации кадров, а т.к. с кадрами в РСО вообще туго, то для С(К)ОО и Д/д это сверхсложная проблема, т.к. специалисты такого профиля и уровня зачастую «штучный» товар на Р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Цель маркетинга для С(К)О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дствами маркетинг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здать условия способствующие оптимизации процесса социализации детей с ОВЗ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основе формирования необходимых базовых навыков в сфере жизнеобеспечения, самообслуживания, социализации, коммуникации и рекреации, для адаптации их к обществу и интеграции (реинтеграции) в обществ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редства маркетинга: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; продвижение; партнерство; внутренний маркетинг; персона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ние образа открытой организации, в т.ч. через элементы ГОУ, информационной открытости и активности: взаимодействие со СМИ, ведение своего сайта, использование ресурсов соц. сет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тие партнерских отношений: с учреждениями культуры; ОО всех типов: ОДО, ОПО; учреждениями спорта, досуга…; поддержка и инициирование интегративных процессов с социум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партнерстве с другими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052640"/>
            <a:ext cx="8362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условий для профессионального образования детей, нуждающихся в специальном (коррекционном) образован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ование возможностей учреждений дополнительного образования детей для оказания помощи детям с ограниченными возможностями здоровь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системы раннего выявления отклонений в развитии и ранней помощи детям с ОВЗ в рамках межведомственного партнер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держка деятельности общественных организаций, занимающихся оказанием помощи и защитой прав детей, нуждающихся в С(К)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граммы поддержки выпускников С(К) О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витие партнерства с семь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ние отношений с семьей и помощь родителям в освоении приемов и методов работы с детьми с ОВЗ, может быть, в т.ч., через поддержку муниципальных клубов, объединений родителей, имеющих детей с ОВЗ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язательное включение родителей в коррекционный процесс на основе выявления положительных сторон семьи и активизации ее реабилитационного потенци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нутренний маркетинг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витие персона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24000" y="1268280"/>
            <a:ext cx="8496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условий труда и отдыха, способствующих «ребенкоориентированности» сотрудников (внутренний маркетинг), напр. комнаты психологической разгрузки, помощь психологов по профилактике проф. выгорания, работа с супервизорами; организация региональной/муниципальной службы коучинга специалистов и руководителей С(К)О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и обучение персонала: квалификация и готовность работать с иными деть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товность включает не только соответствующий уровень квалификации, но и мотивацию и ценности работы с детьми, имеющими ОВЗ: доброта, любовь к детям, терпение и терпимость, а не только и не столько стремление работать из-за наличия надбав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основе эффективного вн. маркетинга гораздо легче выстроить внешний маркети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Целью связи с общественностью является формирование у широкой общественности позитивного имиджа организации. Работа с общественностью служит созданию доверия и понимания целей и мероприятий, реализуемых организацие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нешний маркетинг направлен на формирование привлекательного образа С(К)ОО, Д\д в глазах социума, т.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пособность С(К)ОО привлекать расположение и позитивное внимание со стороны учредителя и потенциальных/реальных пользователей образовательных услуг (обучения, воспитания, социализации): детей, родителей, социальных партнеров, коллег; а также потребителей их «товара»: ОПО, субъектов рынка труда – работодателей и потенциальных сотрудников, как привлекательный работодатель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ркетинг персон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учение рынка труда: Рабочая сила рассматривается маркетингом с двух сторон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 как товар, где главным являются потребительские свойства работников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 как покупатель, который покупает рабочее место в обмен на свой тру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дачи: формирования имиджа ОО, как работодател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формирования субъектов РТ о вакансиях: сегментирование РТ и источников информации, а также позиционирование своей организаци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пример, реклама привлекательности С(К)ОО-работодателя во время учебы/стажировки студентов СПО, ВП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упповое обсужд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Что такое маркетинг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Зачем он нужен специальным (коррекционным) образовательным организациям (СОО)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Какие у СОО существуют возможности и ограничения для осуществления данной деятельност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сположение может выражаться в таких формах как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556000" y="1699920"/>
            <a:ext cx="6130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абильно позитивный имидж организации, в т.ч. как работодателя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олее высокие уровни инвестиций (внимания, финансов) со стороны учредителя, спонсоров, работодателя, родителей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верие и готовность к сотрудничеству со стороны социальных партнеров, в т.ч. ОСПО; ОДОД; ОВПО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http://im2-tub-ru.yandex.net/i?id=508414093-44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421000"/>
            <a:ext cx="22986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ркетинг и повышение привлекательности 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67920"/>
            <a:ext cx="8507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окупность способов воздействия на клиента принято называть маркетинговыми коммуникациями или интегрированными маркетинговыми коммуникациями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аще всего к ним относя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кла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связи с общественностью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моушн (продвиже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н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 я думаю, что все, что воздействует на потребителя (потенциального в т.ч.) можно отнести в широком смысле слова к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C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т улыбки вахтера и гардеробщицы до запахов в туалет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жде всего вы должны научиться думать, как клиент и смотреть на свою организацию и её услуги глазами клиен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ниматься маркетингом означает все время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03280" y="1341000"/>
            <a:ext cx="5483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умать о своем клиен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нимать своего кли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еть потребности своего кли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оянно радовать е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Финляндии есть музей, где взрослым предлагается посмотреть на окружающий мир глазами детей: «Дети видят мир на уровне наших коленок»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http://im4-tub-ru.yandex.net/i?id=126237263-58-72&amp;n=21"/>
          <p:cNvPicPr/>
          <p:nvPr/>
        </p:nvPicPr>
        <p:blipFill>
          <a:blip r:embed="rId1"/>
          <a:stretch/>
        </p:blipFill>
        <p:spPr>
          <a:xfrm>
            <a:off x="0" y="907920"/>
            <a:ext cx="2916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иентоориентированность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вся организация «заражена» клиентоманией, то ее называют клиенто-ориентированной. Здесь буквально все рассматривают только с одной позиции — с позиции Клиент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ркетинг – это незримое присутствие Клиента буквально везде в организа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поративное маркетинговое мышление само собой не возникает, его нужно воспитывать и развив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вайте подумаем как это следует делать в ваших конкретных условиях: </a:t>
            </a: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в группах разработайте мини-проекты средств формирования ММ сотрудников Д/д, С(К)ОО - 20 мину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иссия – это «визитная карточка» О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на должна быть привлекательна, понятна для всех, кто может воспользоваться образовательными услугами организаци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иссия д.б. индивидуальна, уникальна, неординарна, в ней заключена основная «изюминка», образ «новизны», неповторимости коллектива, предназначение ОО в мире в целом, и в мире образования, в частност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этому ключевым вопросом для определения миссии является «Кому и зачем все это нужно?»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бы оптимально сформулировать миссию своей организации, желательно найти ответы на несколько вопросов «зачем?»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чем эта организация учредителя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 на этот вопрос помогает понять ожидания учредителей и учесть их в выборе развития ОО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одной стороны, сохранить свое лицо, с другой – быть в курсе изменений, происходящих в системе образ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ая миссия ОО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528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условий для успешной социализации (в широком смысле слова) ребенка (человека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сс социализации представляет собой совокупность всех социальных процессов, благодаря которым индивид усваивает определенную систему норм и ценностей, осваивает необходимые компетенции, позволяющие ему жить и быть успешным  членом общ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есто и роль ОО в социализации личност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кола, С(К)ОО, ОДО, ДОО, ОПО – все работают на решение указанной цели, но каждый из них  делает это с помощью только ему присущих средст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кола, а для детей с ОВЗ С(К)ОО – это инвариантная часть государственных институтов социализации ребенка, обеспечивающая временную и пространственную преемственность и взаимосвязь поколений и регион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Внешкольные образовательные учреждения (ДОО; ОДО; ОПО)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вариативная часть государственно-общественных институтов социализации ребен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и призваны создавать условия для обеспечения современного для данного общества и актуального для данной личности целостного ее развития (от раннего дошкольного, до профессиональной подготовки в зрелом возрасте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необходимости оказывают социально-психологическую поддержку и осуществляют психолого-педагогическую коррекцию и реабилитацию ребен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чем это образовательное учреждение обществу (социуму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шедшие ответ на этот вопрос получают массу серьезных преимуществ. В первую очередь — точное понимание Клиента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(ещё раз зададимся вопросом - кто у нас Клиент?)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х, на кого ориентирована их деятельность, а также определение того, что и как предлагается в ответ на его запр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понятия кур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052280"/>
            <a:ext cx="8435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ркетинг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ид человеческой деятельности, направленной на удовлетворение нужд и потребностей посредством обмена» (Ф.Котлер). Существует более 2000 определ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 предлагаем определи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ркетинг в сфере образован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взгляд на </a:t>
            </a:r>
            <a:r>
              <a:rPr b="0" i="1" lang="ru-RU" sz="2400" spc="-1" strike="noStrike">
                <a:solidFill>
                  <a:srgbClr val="00b050"/>
                </a:solidFill>
                <a:latin typeface="Calibri"/>
              </a:rPr>
              <a:t>объек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бразовательную организацию и её персонал), </a:t>
            </a:r>
            <a:r>
              <a:rPr b="0" i="1" lang="ru-RU" sz="2400" spc="-1" strike="noStrike">
                <a:solidFill>
                  <a:srgbClr val="00b050"/>
                </a:solidFill>
                <a:latin typeface="Calibri"/>
              </a:rPr>
              <a:t>процес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базовый бизнес-процесс - образовательный) и </a:t>
            </a:r>
            <a:r>
              <a:rPr b="0" i="1" lang="ru-RU" sz="2400" spc="-1" strike="noStrike">
                <a:solidFill>
                  <a:srgbClr val="00b050"/>
                </a:solidFill>
                <a:latin typeface="Calibri"/>
              </a:rPr>
              <a:t>результа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для С(К)ОО, Д/д в первую очередь, уровень социализации, включенности в социум ребенка (в т.ч. с ОВЗ) на основе формирования необходимых базовых навыков в сфере жизнеобеспечения, самообслуживания и коммуникации)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с точки зрения его Потребител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родителя, ребенка, учредителя, обществ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чем эта организация людям, которые в ней работают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4920" y="1267920"/>
            <a:ext cx="84978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лективный поиск ответа на этот вопрос помогает создать атмосферу сопричастности ко всему происходящему в организации, соучастия в ее делах, столь важное в наше время чувство социальной принадлежности, позволяет обнаружить то, что отличает сотрудников вашего С(К)ОУ, Д/д от осталь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Отвечая последовательно на эти Зачем? Попытайтесь сформулировать миссию своей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веты на эти вопросы позволяю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ссию ОО образно представить как «флаг», который нужен для ее презентации внешнему миру (в первую очередь клиентам), и, в то же время, «знамя», под которое собираются люди, чтобы сплоченной командой воплощать в жизнь дела, которых ждет от ОУ внешний мир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жно отметить, что выбор миссии ОО в обязательном порядке должен быть согласован с субъектами муниципальной/региональной  системы образования, которые выражают интересы всего населения данной территор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а из задач С(К)ОО – снизить «прессинг инкультурации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котором говорит А.Маслоу, приводящий к фрустрации и ограничениям естественного права ребенка на развитие в процессе социализа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Прессинг инкультурации, т.е. воспитания, дисциплины, формирования социальных навыков, подготовки к будущей взрослой жизни, осознания потребностей и желаний других людей в какой-то степени, разумеется, необходим, но процесс воспитания перестанет раздражать нас и ребенка только тогда, когда его будет окружать атмосфера приязни, любви и уважения друг к друг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 думаю, что для С(К)ОО это особенно значимая позиц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р родной для меня ОДОД – центр «ЛАД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ное выражение миссии центра «ЛАД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4000" y="907920"/>
            <a:ext cx="8640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Уверенность в будущем!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дость в настоящем!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лектив стремится к тому, чтобы дети и взрослые получали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ад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т деятельности и общения с нами и друг с другом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егодн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а благодаря усвоению полезных знаний и навыков, а также иным средствам и механизмам социализации увеличивали бы шансы на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уверенн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собственном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будуще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ЛАД» это: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чность.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аптация.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Д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уг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ственное имя центра «ЛАД» указывает не только на приоритет социально-психологических отношений в коллективе сотрудников и детей, но является аббревиатурой основного предназначения данной О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ние свободного времени (радость в настоящем!) для развития личности с целью повышения ее адаптивных качеств (уверенность в будущем!) в атмосфере принятия друг друга и взаимоуважения (лада!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нешняя функция ми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воляет определить статус ОУ, его имидж, так как различные виды и варианты ОО существенно отличаются друг от друга именно по принимаемой на себя мисс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сно заявляя о своей миссии, ОУ как бы предъявляет потенциальным заказчикам, клиентам, партнерам свою визитную карточку, что очень важно для установления будущих отношений социального партнер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асность противоречий между миссией и действительност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сочетании с ясно сформулированной миссией девиз можно поместить «снаружи», чтобы дать клиентам и работодателям первоначальное представление о том, чего можно ждать от этой школ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о если ясно сформулированной миссии нет, или внутренние процессы и отношения в организации вступают в противоречие с заявленным «знаменем», девиз вскоре может превратиться в пустую, бесполезную и даже раздражающую всех фраз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мотрим основные средства, инструменты маркетинг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т.н. маркетинг-микс)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цепция 4 П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укт (особенности и конкурентные преимущества предлагаемых услуг или товар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ажная цена (затраты, которые несет общество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вижение (реклама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требители (особенности сегмент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 П (к 4 П добавляются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изводство (образовательный процесс: содержание и технология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сонал (качество и приверженность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ук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ш продукт (это качество образовательных услуг и «товара») есть нечто ценное, что есть у вас и что вы можете обменять на то, что нужно вам – содержание и развитие О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бы продвинуть ваш продукт на рынок, вам нужно так описать его, чтобы люди, которым вы его предлагаете, могли ясно понять, что это и как это отвечает их потребностям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ответствует ли ваш продукт потребностям вашей целевой группы по качеству и удовлетворяет ли он ее специфические потреб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на/затр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оимость произведенной услуги на 1 обучающегос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траты здоровья персонала и обучающихся на то качество услуг («товара»), которое обеспечивается в процессе совместного «производст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ркетинг – это 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640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илософия дела – идти от Клиент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одология деятельности с обязательным учетом внешних услов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атегия и тактика поведения на рынке образовательных услуг на основе его изучения и знания потребностей Клиента, перспектив изменений внешних условий, своей миссии и возможностей коллектив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 организац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бор инструментов повышения эффективности управления чем(кем)-либ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виж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епень использования маркетинговых коммуникаций в О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кл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моуш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р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утренний маркети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требител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гментирование, знание особенностей и предпочтений потенциального и реального контингента, а также ЛПР (лица принимающего решения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снове успеха - знание потребителя, его возможностей и огранич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изводство – образовательный проце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чество и соответствие поставленным целям со сторон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сударства (ФГОС), учред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дагог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ода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ест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сон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трудники должны обладать маркетинговым мышлением, быть профессионально готовыми к достижению поставленных целей, удовлетворению спроса на обеспечение качества образования (пример, стандарт учителя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инобрнауки.рф/%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0%B4%D0%BE%D0%BA%D1%83%D0%BC%D0%B5%D0%BD%D1%82%D1%8B/307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ркетинг ОО: </a:t>
            </a:r>
            <a:r>
              <a:rPr b="0" lang="ru-RU" sz="3100" spc="-1" strike="noStrike">
                <a:solidFill>
                  <a:srgbClr val="0070c0"/>
                </a:solidFill>
                <a:latin typeface="Calibri"/>
              </a:rPr>
              <a:t>общее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, особенное, уникальное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907920"/>
          <a:ext cx="8291520" cy="5739120"/>
        </p:xfrm>
        <a:graphic>
          <a:graphicData uri="http://schemas.openxmlformats.org/drawingml/2006/table">
            <a:tbl>
              <a:tblPr/>
              <a:tblGrid>
                <a:gridCol w="2316240"/>
                <a:gridCol w="2987640"/>
                <a:gridCol w="2987640"/>
              </a:tblGrid>
              <a:tr h="72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обенное для С(К)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никальное для конкретной 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65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4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 (затра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4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65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и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4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5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апы маркетинговой стратегии 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6 шаго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работка образа организации и концепции коммуникац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внешней сред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конкурент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потребителе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собственной ситуации, позиционирование организации на рынке образовательных услу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ормулирование целей и разработка стратегии и тактики комплекса маркетинга и маркетинговых коммуникац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1. Образ ОО – его культу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ков в вашем представлении желаемый образ ОУ в 2015 год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гда внешнее представление о вашей организации совпадает с представлением о нем сотрудников, меры по формированию индивидуальности ОО, а значит, и сама деятельность учреждения будут эффективн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ффективными становятся те ОО, которым удается создать долговременные конкурентные преимущества благодаря культуре управления (они в отличие от технических ноу-хау имеют большую защищенность от повторения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г 2. Диагностическ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нализ внешней среды и его основные инструмент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ключевых вопросов: кто? что? зачем? где? чем? как? когда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WO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 -  анализ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СЕ - матрица стратегического положения и оценки действий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old.acconcept.ru/strategy/space.html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PEST-анализ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составления профиля среды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www.bibliotekar.ru/upravlenie-4/42.htm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VRIO анализ  Дж. Барни (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www.creativeconomy.ru/articles/12440/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ктические методы анализа реальной позиции организации 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опора на курс «Основы менеджмента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1280" y="1773000"/>
            <a:ext cx="807552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сс проведения стратегического анализа включает два основных этапа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O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анализ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Анализ внешней среды: возможности и угрозы внешних воздействий: степень их влияния и вероятность наступл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 Анализ внутренней среды: сильные и слабые стороны организации: вычленить приоритетные направления с помощью которых можно сформировать стратегию ОО на рынке О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c4271"/>
                </a:solidFill>
                <a:latin typeface="Calibri"/>
              </a:rPr>
              <a:t>VRIO анализ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, разработанный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ж. Барни 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струмент для анализа ресурсов и  способностей, определения их ценности и эффективности исполь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игрыш – выигрыш; выигрыш-потеря или потеря - потер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ркетинг – это обеспечение для С(К)ОО и потребителя (в лице родителя/учредителя) ситуации «выигрыш-выигрыш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ям (и детям) нужны не образовательные услуги как таковые, а удовлетворенные потребности и решенные проблем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Какие потребности мы помогаем им удовлетворять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Какие проблемы помогаем решать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Ценность (value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озволяют ли ОО ресурсы и способности использовать внешние возможности (например использование инноваций или участие в конкурсах и получение грантов) и нейтрализовать угрозы (например, угрозу резкого снижения контингента в силу потери ликвидации экономических субъектов в данном МР, или активности соседней ОО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дкость (rareness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сколько конкурентов обладают аналогичными ресурсами и способностями (например, природной уникальностью, эффективным образовательным процессом, хорошей МТБ, обеспечение повышенных разрядов выпускников СПО, готовностью педколлектива работать с детьми с ОВЗ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I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I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ида и пр.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оспроизводимость (imitability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– насколько сложно и дорого получить доступ к данным ресурсам и способностям, использовать  их в текущей образовательной деятельности (например, возможно ли быстро организовать учебный процесс на современном уровне, осуществить модернизацию учебного процесса в соответствии с требованиями работодателя, повысить имидж образовательного учреждения, освоить педтехнологии работы с детьми с ОВЗ и др.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рганизованность (organization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 полной ли мере ОО задействует эти ресурсы и способности для реализации своего конкурентного потенциал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блема может быть в том, что ресурсы образовательного учреждения могут быть никак не задействованы в образовательном процессе, либо не используются или неправильно используются при  позиционировании и продвижении своей организаци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3. Анализ конкурентов (бенчмаркинг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овы сильные и слабые стороны существующих и потенциальных конкурентов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какую сферу образовательной деятельности не стоит вторгаться в связи с сильными позициями там других ОО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чем «ахиллесова пята» вашего основного конкурент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жет быть вам лучше наладить сотрудничество, чем конкурировать с конкретными ОО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акторы успеха (ФУ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нутренние достижения ОО, не проявляющиеся на рынке непосредственным образом, например, владение новейшими педтехнологиями, активная методическая работа, инновационная активность коллектива, квалификация и дисциплина персонала, хорошо поставленный документооборот… - все это очень важно, но большинство родителей, да и детей могут об этом даже не догадываться, более того – им это не интересн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удить об ОО они будут по тем достоинствам, которые доходят до них непосредственно и являются для них потребительской ценность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акторы успеха могут переходить в конкурентные преимущества (КП), а могут оставаться лишь внутренним достоянием организации, зато очень важным и необходимым для порождения конкурентных преимущест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жно даже утверждать, что любое конкурентное преимущество ОУ коренится в определенных факторах успеха организ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окус конкуренции (ФК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кус конкуренции – это приоритеты, которыми пользуются клиенты (родители прежде всего) при выборе ОО или принятии решения о его сме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конкурентные преимущества ОО вырабатывают сами, то фокус конкуренции – это критерии, которые вырабатывает потребитель навстречу этим К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ипы ФУ и их составляющие</a:t>
            </a:r>
            <a:r>
              <a:rPr b="0" lang="ru-RU" sz="4000" spc="-1" strike="noStrike">
                <a:solidFill>
                  <a:srgbClr val="ccc1da"/>
                </a:solidFill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052280"/>
            <a:ext cx="8642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кторы, связанные с технологиями: компетентность в новых проектных, исследовательских технологиях; способность к инновациям; роль экспертов в данной технологии; признание в проф. сообществе…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ичие МТБ, обеспечивающей современные возможности освоения передовых технологий для рынка труд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кторы, связанные с образовательным процессом:  реализация системно-деятельностного подхода при формировании УУД, метапредметных, личностных компетенций;  оптимальное сочетание урочной и внеурочной деятельности…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кторы, связанные с  информированием и продвижением (сайт, СМИ, иные ИК технологии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кторы, связанные с квалификацией основного персонал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кторы, связанные с компетентностью в управлении и наличие управляющих ноу-хау (например, изменение оргструктуры; формирование классов переменного состава…;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рендовые и имиджевые факто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138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по вертикали впишите характеристику элементов ММ ОО и б) по графам произведите оценку своих О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981000"/>
          <a:ext cx="8964720" cy="5543640"/>
        </p:xfrm>
        <a:graphic>
          <a:graphicData uri="http://schemas.openxmlformats.org/drawingml/2006/table">
            <a:tbl>
              <a:tblPr/>
              <a:tblGrid>
                <a:gridCol w="1979640"/>
                <a:gridCol w="1606680"/>
                <a:gridCol w="1792080"/>
                <a:gridCol w="1792440"/>
                <a:gridCol w="1793880"/>
              </a:tblGrid>
              <a:tr h="13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ы маркетинг-мик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никальное конкурентное преимущ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тветств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му уровню  по региону/райо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овый/допустимый  уровен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ходимо изменя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 (затра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ител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нкурентные преимущества (КП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те достижения ОО, факторы успеха, которые попадают в фокус конкуренции и обеспечивают конкурентные преимуществ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П (или ключевые факторы успеха) не только напрямую воспринимаются и оцениваются клиентами, но являются дифференцирующими признаками их потребительского выбо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аркетологи ещё иногда называют их «продающими моментам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ем больше у вас продающих моментов, тем лучш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476000" y="981000"/>
            <a:ext cx="67532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работайте в группах особенности работы  С(К)ОО, которые, с вашей точки зрения, важно учесть при использовании маркетингового подхода в управлен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http://im1-tub-ru.yandex.net/i?id=441066139-02-72&amp;n=21"/>
          <p:cNvPicPr/>
          <p:nvPr/>
        </p:nvPicPr>
        <p:blipFill>
          <a:blip r:embed="rId1"/>
          <a:stretch/>
        </p:blipFill>
        <p:spPr>
          <a:xfrm>
            <a:off x="0" y="0"/>
            <a:ext cx="3059280" cy="31417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5627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 конкурентному преимуществ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692000" y="1700280"/>
            <a:ext cx="6994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гут относиться все перечисленные выше факторы, позволяющие успешно конкурировать на рынке и побеждать в конкурентной борьб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группах подготовьте свои суждения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в настоящий момент в фокусе конкуренции на рынке образовательных услуг в крупных городах (ДОО, СОО; С(К)ОО; ОДО; ОПО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что будет сдвигаться ФК в недалеком будущем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попадет в ФК в дальней перспективе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г 4. Анализ потреб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24000" y="134100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добиться успеха, думай не о себе, а о другом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акое сегментирование рынка и позиционирование О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учетом данных о состоянии рынка образовательных услуг необходимо анализировать сильные и слабые стороны своего учреждения, выявлять потребности, прогнозировать тенденции, искать сильные пози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5. Анализ собственной ситуации и определение позиции на рын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десь надо ответить на вопрос: «Что нам мешает в данный момент удовлетворить образовательные потребности наших клиентов лучше, чем конкурент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десь осуществляется переход от аналитического раздела к практической разработке стратег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уется ориентация на перспективные направления рынка О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6. Формируется маркетинговая стратегия и тактика О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 основе предыдущих шагов формулируются конкретные, мотивационные цели организаци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 основе разработанных концепций и определенных целей маркетинговой стратегии начинается оперативное маркетинговое планирование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мечаете комплекс маркетинговых мероприятий, в т.ч. интегрированные маркетинговые коммуникации (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C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оды продви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blic Relations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связи с общественност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кл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ытия/мероприятия  (ивент/эвен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2" descr="http://im4-tub-ru.yandex.net/i?id=194040097-71-72&amp;n=21"/>
          <p:cNvPicPr/>
          <p:nvPr/>
        </p:nvPicPr>
        <p:blipFill>
          <a:blip r:embed="rId1"/>
          <a:stretch/>
        </p:blipFill>
        <p:spPr>
          <a:xfrm>
            <a:off x="155520" y="0"/>
            <a:ext cx="14288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 (Pablic Relation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нительно к С(К)ОО – это попытка удовлетворить интерес к нему и его услугам путем передачи имеющейся информации через различные каналы, организация общественного мнения в целях формирования образа открытого, экологичного в широком смысле слова учреждения, повышения репутации и привлекательности организации в глазах родителей (опекунов), учредителя, социу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разместить информацию в С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125000"/>
            <a:ext cx="8362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ществует мнение, что разместить информацию об ОО можно только за деньги. Это часто верно, но не всегд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в ОО происходят социально значимые события, интересные за пределами школы – это может вызвать интерес журналистов газет и Т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общить о событиях можно рассылая пресс-релизы в печатные, электронные и ТВ С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заглавии пресс-релиза необходимо обязательно указать: кто проводит мероприятие, для кого и с какой целью, место и сроки провед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е содержание д.б. посвящено краткому описанию структуры и содержания мероприят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написании текста нужно использовать те слова и выражения, которые не требуют от читателя знания специальных пед. зна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яду с рассылкой пресс-релизов необходимо лично приглашать журналистов (легче районных и городских, сложней региональных и федеральных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глашение представителей ТВ потребует наибольшей предварительной подготовки со стороны О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вила работы с Т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начале работы корреспондента уточните, в какой передаче и в какой рубрике будет представлен ваш материал, сколько времени в эфире займет рассказ. Важно узнать, сколько по времени и как планируют снимать сюжет, согласуйте свои предложения с планами журналис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у бригады ограниченное, поэтому они смогут уделить вашей школе ограниченное время. Заранее определите ответственного, кто будет сопровождать корреспондента, комментировать происходящее и т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ажите корреспонденту и оператору наиболее яркие моменты праздника, событ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мните, что ТВ это прежде всего динамичная карти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умайте о постановочных кадр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все события можно запечатлеть в реальном времени и тем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ому вполне уместно будет попросить участников специально для ТВ спеть песню, поиграть в игру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, чтобы приезд журналистов и создание постановочного сюжета не мешали проведению меро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ли репортаж предполагает выступл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ранее подготовьте 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, чтобы текст был кратким, содержательным и понятным любому челове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ответах на вопросы интервью будьте краткими и отвечайте без длинных вводных фраз – это все равно выреж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обенности С(К)ОО </a:t>
            </a:r>
            <a:br>
              <a:rPr sz="4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моя точка зрения – ГР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и организации до последнего времени имели закрытый характер и ограниченный выход детей в социум, а сейчас речь идет об интеграции не только этих организаций, но и детей (включение, инклюзия), а значит стоит задача выстраивания отношений с другими («дорожная карта» партнерства и интеграции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оме того достаточно остро стоит проблема формирования «бытовой» толерантности, принятия «иных» детей и взрослых в социу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завершение работы с корреспондент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ручите ему пресс-релиз, в котором будет описано прошедшее событие, а также имена, отчества, фамилии и должности всех, кто был активным участником репортаж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учше попросить проверить Ф.и.о., должности участников, которые корреспондент мог записать на слух с ошибками, неточностя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точните время выхода репортажа и договоритесь о возможности переписать итоговый репортаж и черновой материал для архива учреждения (его надо использовать для других мероприятий, выложить на сайт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струменты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 (Pablic Relations)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ни странно, но это также вполне привычны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ьские собран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 жителями микрорайо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тскими садами по работе с будущими первоклассник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о спонсорами, с шефами, с работодателями, депутат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08000" y="0"/>
          <a:ext cx="9036000" cy="6800760"/>
        </p:xfrm>
        <a:graphic>
          <a:graphicData uri="http://schemas.openxmlformats.org/drawingml/2006/table">
            <a:tbl>
              <a:tblPr/>
              <a:tblGrid>
                <a:gridCol w="1047600"/>
                <a:gridCol w="1141560"/>
                <a:gridCol w="1141200"/>
                <a:gridCol w="1140120"/>
                <a:gridCol w="1141200"/>
                <a:gridCol w="1141560"/>
                <a:gridCol w="1141200"/>
                <a:gridCol w="1141560"/>
              </a:tblGrid>
              <a:tr h="1618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туп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иодич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нота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требован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ие сбоев в передаче инф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тратность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 бал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чная встреч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ка объявл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мят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4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бр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63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ои С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ямая (адресная) почтовая рассыл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жегодная рассылка бывшим выпускникам красочно оформленных календарей с символикой С(К)ОО, поздравительных открыток, благодарственных писем родителям, спонсорам, партнер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ставки и семина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пространение рекламной продукции, касающейся основной деятельности ОО во время проведения и участия в конференциях, выставках и др. массовых мероприят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ентаци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ие ежегодной презентации в различных районах города, на площадках других учреждений, приурочивание проведения презентаций к большим праздникам: день района/улицы/города, День учителя, Новый год, Последний звонок, День рождения С(К)ОО и т.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талоги и букл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родителей, партнеров, попечителей, спонсоров необходима правильная расстановка акцентов, но при этом не стоит забывать об учете сложившегося имиджа ОО и соответствия разработанной стратегии её развит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кламные щиты и наружная рекла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 необходимого согласования (ГИБДД, администрация, собственник, отдел рекламы) можно использовать имеющийся автобус, штендеры или растяжки на территории школы, её фасаде, а также на оживленных перекрестках, пешеходных зонах в пар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лефонный маркетинг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ведение телефонного анкетирования среди родителей, попечителей, спонсоров и т.п. накануне нового учебного года или его окончани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ирменные сувениры: вручение детям, родителям, выпускникам, гостям школы ручек, календариков, поделок воспитанников и т.п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изитные карточки, методическая литература с рекламой школы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клама в школьных С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оль органов государственно-общественного управления С(К)О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формировании положительного образа С(К)ОО может существенную роль играть его Попечительский совет, важнейшей функцией которого является лоббирование интересов ОО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уководители, правильно понимающие значение данного органа, активно привлекают к его работе родителей, депутатов, представителей общественных организаций, бизнесменов и т.п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этому в рамках его деятельности крайне важно проводить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-акции, привлекающие внимание, а затем, возможно, и финансы, для О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обенности -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силу ограниченности имеющихся ресурсов, а также отхода от патерналистской позиции со стороны государства, необходима активизация деятельности, направленной на вовлечение в процесс социализации детей с ОВЗ: меценатов, волонтеров; дополнительные усилия по «лоббированию» интересов СОО, Д\д в ОИ и ЗВ, в т.ч. законодательных изменений; поиск опоры среди работодателей, в бизнесе, системы ПО, …; расширения сфер стимулирования и реализации собственной социальной активности детей, включая детей с ОВ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ценка эффективности маркетингов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изменения численности контингента на фоне демографических изменений района; для ОПО - обеспечение плана набора/конкурс на отдельные професс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изменений характеристик имиджа ОО: узнаваемости и привлекательности организации, наличия и оценки имени, позитивное отношение к С(К)ОО и её выпускник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противоречивость, конгруэнтность внутреннего и внешнего маркетинга, содержания и формы, адекватность имиджа реальност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реализации проекта, позволяющая фиксировать результаты выполненных работ, произошедшие изменения во внутренней культуре школы, элементах имиджа О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довлетворенность целевой аудитории теми формами работы, в которые они были вовлечен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удовлетворенности работой ОО со стороны: учредителя, родителей, обучающихся, персонал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ализ обратной связи в т.ч. неорганизованной (соц. сети, форумы, чаты, блоги…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обенности -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Д/д, и С(К)ОО в настоящее время наблюдается пристальное внимание с точки зрения соблюдения общечеловеческих прав и достоинства детей, обеспечения ухода, обучения и воспитания детей-сирот, а также детей с ОВЗ - это ставит задачу формирования образа открытого, учреждения, готового к сотрудничеству и нацеленного на реализацию интересов детей с учетом их индивидуальных возможно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5T11:21:02Z</dcterms:created>
  <dc:creator>gainutdinova</dc:creator>
  <dc:description/>
  <dc:language>en-US</dc:language>
  <cp:lastModifiedBy>Рашид Минасхатович Гайнутдинов</cp:lastModifiedBy>
  <dcterms:modified xsi:type="dcterms:W3CDTF">2014-02-24T14:00:13Z</dcterms:modified>
  <cp:revision>81</cp:revision>
  <dc:subject/>
  <dc:title>Технологии повышения привлекательности  образовательной организации</dc:title>
</cp:coreProperties>
</file>