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23F0-0FE3-43A7-A76C-21E875E1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DE7E-A31F-4553-BD71-496D2F4F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C7D0-9A07-456C-887E-B009B0138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82C3-CB06-455F-98CA-39C6B11F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3A30-DAC0-42BC-9C1C-0294DBA6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1759-332E-409E-98EF-417A8240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04E1-250C-4E13-84EC-2CBFD8CA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8BF5-BBCE-4FC5-8AFD-D70B0548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67A2-EE55-4EFA-9CD4-3E5551B7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E02A-E485-4487-AD35-F469623D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76D9-333F-4B3C-8F32-854F3FD5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ED6D-7611-4B45-838E-FB469519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E96A-4DA9-4992-B171-DB167ADBF5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туационные теории лидер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айнутдинов Р.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цент КМ ГОАУ ИРО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.пс. нау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ус перечисляет приемы влияния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Увеличить личную выгоду достижения подчиненными цели данной работ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Сделать путь к этой выгоде более легким, объясняя средства ее достижения, убирая помехи и ловушки и увеличивая возможности для личной удовлетворенности на пути к выгод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 помощью следующих средств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Разъяснение того, что ожидается от подчиненного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Оказание поддержки, наставничество и устранение сковывающих помех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Направление усилий подчиненных на достижение цел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Создание у подчиненных таких потребностей, находящихся в компетенции руководителя, которые он может удовлетворить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. Удовлетворение потребностей подчиненных, когда цель достигнут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вязь с теорией Фидлер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своей концепции профессор Хаус рассматривал четыре основных стиля управления: стиль поддержки, инструментальный стиль, стиль, поощряющий участие подчиненных в принятии решений и стиль, ориентированный на достижени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иль поддержки аналогичен стилю, ориентированному на человека или на человеческие отнош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нструментальный стиль аналогичен стилю, ориентированному на работу или на задач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аус отмечает, что стили управления довольно условны и преобладание того или иного стиля должно зависеть от ситу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иль поддержки подразумевает дружелюбное отношение руководителя к подчиненным, он беспокоится об их статусе, благополучии и потребностях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струментальный стиль руководства проявляется в том, что руководитель сообщает подчиненным, что хочет от них, дает им конкретные указания, что и как нужно делать. При этом руководитель следит за исполнением трудовой дисциплины и поддерживает определенные стандарты исполнен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иль, поощряющий участие, характеризуется тем, что руководитель делится имеющейся у него информации со своими подчиненными и использует их идеи и предложения для принятия решени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иль, ориентированный на достижения подразумевает получение результатов любым путем [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одель принятия решений             Врума-Йеттон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гласно точке зрения авторов модели, имеется пять стилей руководства, которые может использовать руководитель в зависимости от того, в какой степени подчиненным разрешается участвовать в принятии решени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ти пять стилей представляют континуум, начиная с автократического стиля принятия решений (AI и АН), затем идет консультативный (CI и СИ), и, наконец, завершается полным участием (Gil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именение каждого из этих стилей зависит от характеристик ситуация или проблем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1. Вы сами решаете проблему или принимаете решение, используя имеющуюся у вас на данный момент информацию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 2. Вы получаете необходимую информацию от своих и затем сам принимает решение. Работники привлекаются только на этапе сбора информации. Выработку решения и его принятие осуществляет руководитель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1. Вы излагаете проблему индивидуально тем подчиненным, кого это касается, и выслушиваете их идеи и предложения, но не собираете их вместе в одну группу. Затем вы принимаете решение, которое отражает или не отражает влияние ваших подчиненных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2. Вы излагаете проблему группе ваших подчиненных, и весь коллектив выслушивает все идеи и предложения. Затем вы принимаете решение, которое отражает или не отражает влияние ваших подчиненных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I руководитель делится соображениями по проблеме с оценивают альтернативы и пытаются достичь консенсуса относительно решения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оль, выполняемая при этом руководителем, больше похожа на роль председателя собрания, координирующего дискуссию, концентрирующего внимание на проблеме и делающего все для того, чтобы рассматривались наиболее важные аспекты проблемы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уководитель не пытается влиять на группу с тем, чтобы она приняла его решение, и проявляет готовность принять и выполнить любое - решение, получившее поддержку всей группы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ой из отличительных особенностей модели является то, что в целом она делает больший упор на изучение ситуации, чем на изучение личности лидер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йствительно, может быть, имеет больше смысла говорить об автократической ситуации и ситуации участия, чем об автократическом лидере или участвующем лиде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туационная модель руководства Ф. Фидле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и фактора, влияющие на поведение руководител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ношения между руководителем и подчиненными (степень доверия и уважения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уктура задачи (регламентация труда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ласть руководителя (объем должностных полномочий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еория Фидлера установила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два важных факта, связанных с обеспечением эффективного руководства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уководители, ориентированные на выполнение задачи, обеспечивают более высокую производительность группы в благоприятных и неблагоприятных ситуациях. Руководители, ориентированные на отношения, обеспечивают более высокую производительность группы в промежуточных состояниях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ффективность работы руководителя зависит как от степени благоприятности ситуации, так и от стиля лидерств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шающим фактором является соответствие стиля руководства и ситуации, в которой работает коллектив. Добиться этого можно двумя способам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способить лидера к ситуации (посредством его подбора, стимулирования, обучения, переобучения, в крайнем случае — замены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менить ситуацию (путем наделения руководителя дополнительными полномочиями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пех в готовности использовать оба сти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словием оптимальности стилей управления является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риентация на решение производственных задач и на установление благоприятных взаимоотношений в коллективе.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анная теория утверждает, что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эффективный руководитель должен демонстрировать оба стиля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и применять их в зависимости от характера текущей управленческой ситуаци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аждая ситуация, в которой проявляется руководство, всегда есть сочетание действий руководителя, поведения его подчиненных, времени, места и других обстоятельств. И это сочетание чаще неблагоприятно, чем благоприятно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ория жизненного цикла Херси и Бланшарда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гласно этой теории, самые эффективные стили лидерства зависят от «зрелости» исполнителе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релость не следует определять в категории возраста. Зрелость отдельных лиц и групп подразумевает способность нести ответственность за свое поведение, желание достигнуть поставленной цели, а также образование и опыт в отношении конкретной задачи, которую необходимо выполнить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гласно Херси и Бланшарду, понятие зрелости не является постоянным качеством лица или группы, а скорее характеристикой конкретной ситуаци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ровень зрелости задает стиль лидер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ругими словами, в зависимости от выполняемой задачи, отдельные лица и группы проявляют различный уровень «зрелости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ответственно, руководитель может менять и свое поведение в зависимости от относительной зрелости лица или групп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уководитель определяет эту зрелость, оценивая стремление к достижению, способность нести ответственность за поведение, а также уровень образования и опыт прошлой работы над порученными задания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основании этой субъективной оценки руководитель и определяет сравнительную зрелость конкретного лица или групп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деляются четыре стиля лидерства, которые соответствуют конкретному уровню зрелости исполнителей: давать указания, «продавать», участвовать, делегирова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ория «путь-цель» Митчела и Хауса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11970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итуационная модель «путь - цель» Теренса Митчела и Роберта Хауса во многом схожа с моделью Фидлера. Она также указывает на необходимость применения ситуативного стиля управления в зависимости от ситуаци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д названием «путь - цель» авторы имели ввиду «усилие - производительность – результат (вознаграждение) - ощущаемая ценность вознаграждения в глазах подчиненного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тивационный смысл теор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вторы этой модели пытаются дать объяснение тому, как поведение руководителя воздействует на мотивацию, удовлетворенность и производительность труда подчиненных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сновная мысль этого подхода в том, что руководитель может побуждать подчиненных к достижению целей организации, воздействуя на пути достижения этих целей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08:44:55Z</dcterms:created>
  <dc:creator>Рашид Минасхатович Гайнутдинов</dc:creator>
  <dc:description/>
  <dc:language>en-US</dc:language>
  <cp:lastModifiedBy>Рашид Минасхатович Гайнутдинов</cp:lastModifiedBy>
  <dcterms:modified xsi:type="dcterms:W3CDTF">2014-02-19T10:48:05Z</dcterms:modified>
  <cp:revision>7</cp:revision>
  <dc:subject/>
  <dc:title>Презентация PowerPoint</dc:title>
</cp:coreProperties>
</file>