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9D47-8D1A-4611-8C68-42198557FB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F1DF-B423-4DD7-849C-AC357E67DA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E267-15EB-437D-ACC1-96E74350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7C91-1291-4002-9988-D31BDB62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E2C7-B8DD-40BD-991B-7E771A2C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89F5-B820-40A1-AF42-CC3E7063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AAA4-E119-470A-88FC-77ABEDDD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D75-9530-4A89-9263-DD8AD01B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4B3B-64D5-480C-91B1-4412BC9B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BB84-058C-4442-BC2E-33557F3B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3CA8-179B-4088-B7E7-B3F36E99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FD8F-CDEC-4625-A133-97C19CC0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C48F-6EE1-477C-940C-997FD1F1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F7D1-1766-494F-AEDA-C9F28026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D082-A16C-49FB-B3A8-8301A5B2C6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 внебюджетной деятель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йнутдинов Рашид Минасхат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цент каф. менеджмен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АУ ИРО, к.пс.н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сихологические проблемы внедрения платных услуг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жду коллегами, зачастую подругами пролегли финансовые расчеты и отнош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многих необходимость брать деньги за свою работу с реальных людей, глядя им в глаза, а не получать минимальную, но гарантированную зарплату от государства была сложной психологической проблемо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которые оказались не готовы к повышенной планке требований со стороны заказчиков, терялись, когда им предъявляли претензии или задавали вопросы по содержанию, форме, условиям занят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то-то испытывал тревогу в связи с необходимостью вступать в деловые переговоры со своими коллегами, руководителями и родителями, принимать на себя ответственность за реализацию своих же инициатив, отстаивать свои условия и требова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ктически для всех возникли проблемы освоения новых навыков, в частности проведения расчетов, ведения новой документации, а также повышенная требовательность к оформлению документации, в т.ч. финансовой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етинг – это всегда движение, причем в двухстороннем направле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197000"/>
            <a:ext cx="84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цесс стратегического управления и формирования определенной маркетинговой политики ОО - интерактивный по своей внутренней сущност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стоянное движение и обмен происходит в процессе систематического обмена информации с субъектами извне, получения внутренней и внешней обратной связи, осуществления тактических управленческих действий на их основ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о, чего мы зачастую избегаем и ограничиваем в своей традиционной работе – общение с родителями и учениками по поводу образовательного процесса и его условий - должно стать нормой взаимодействия при маркетинговом подход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х отношение, их жалобы и претензии – это средство наших корректирующих действий, основа улучшений на каждом рабочем месте и в системе управления организацией в цело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апность в организации внебюджетн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инали в центре  с организации эпизодических платных мероприятий, которыми занимались 2-3 челове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жно было на пилотных проектах учесть изменения, происходящие в коллективе, у родителей, у учредителя, выявить отношение к этой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ешняя ситуация в финансовом отношении не давала надежды на улучшение, в тоже время в коллективе стали проявляться люди, готовые к новой для себя ро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того, чтобы сформировать позитивное отношение к внебюджетной деятельности и постепенно формировать маркетинговое мышление у сотрудников ОО была разработана серия мероприят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ключение через 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л проведен ряд деловых игр, семинаров, с подключением к этой работе все новых сотрудников, поддержкой их усилий и при поощрении перспективных ид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йне важно, чтобы сотрудники поняли и приняли как собственную установку, что и в бюджетной организации,  необходимо, прежде всего, учитывать реальные запросы людей, потребности детей и их родител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овое мыш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о, чтобы  люди пришли к мысли о том, что все определяющие решения должны приниматься с позиции обеспечения общего успеха организации на рынке социальных, в первую очередь образовательных, потребностей и интересов детей и взрослых райо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 эпизода к системе платных услу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течение двух лет сформировалась большая группа работников, которые получали за работу по реализации платных услуг почти столько же, сколько по основной работ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роме того они приносили существенный доход центру, благодаря которому получали развитие наиболее перспективные направления его образовательной деятельност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/3 сотрудников учреждения было задействовано в реализации дополнительных образовательных услуг к моменту, когда я закончил свою работу в центре «Лад»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4428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платных услуг к «солидарному финансированию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этой основе было также показано родителям, что в данной организации заработанные средства идут на улучшение условий обучения, коллектив имеет квалифицированные кадры, приемлемые условия и высокую мотивацию на совместную работ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этому вполне логично было согласие родителей участвовать в схеме так называемого «солидарного финансирования» образовательной деятельности путем привлечения добровольных родительских взнос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в этом механизме расширения каналов финансирования организации участвовали уже практически все сотрудни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зволило не только поддерживать существующий уровень, но и постоянно развивать учебно-материальную базу цент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заимосвязь маркетинга и оргкульту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ме того, привлечение сотрудников к разработке и реализации новых видов деятельности стало одним из условий повышения субъектности коллектива,  направленной на формирование характеристик организационной культуры саморазвивающейся системы: активности и инновационности с принятием персональной ответственности за развитие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циологические и маркетинговые исследования среди детей, родителей, населения микрорайона служили информационной основой для контроля, анализа, планирования и коррекции деятельности всего коллекти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эти средства коллективной рефлексии позволяют сравнивать то, как выглядит учреждение в глазах потребителей, с тем как мы хотим выглядеть, и какими видим себ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жно, особенно в первые годы, сформировать позитивный образ нового образовательного цент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ыночные основы деятельности 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фера профессионального, а также дополнительного образования  рыночна по определению, т.к. это зона свободного выбора и самоопределения личности, и может существовать только тогда, когда отвечает на потребности населения и соответствует требованиям рынка труд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нятно, что в таких условиях необходимо повышать конкурентоспособность учреждения и главный здесь ресурс – это люди, коллекти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Крючок» на будущие конта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ервые 3 года коллектив работает на свой имидж, затем имидж начинает работать на коллектив, принося, образно говоря, организационно-психологические дивиденды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ормирование позитивного имиджа организации было одной из управленческих целей в первое время работы центр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 вкладывается в данное понятие, какова его роль в управлении ОО, а главное как заниматься его формированием – это тема отдельного курса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«Технологии повышения привлекательности ОО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дель конкурентоспособной 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одель конкурентоспособной организации включает в себя: конкурентоспособные результаты, на основе конкурентоспособного процесса, построенного на конкурентоспособных условиях, в конечном счете при условии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конкурентоспособного Управления.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еализованная в период моей управленческой деятельности модель образовательного учреждения ДОД показывает возможность создания и функционирования вполне конкурентоспособного учреждения, в том числе и в условиях ограничений бюджетного финансирования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вленческие факторы влияния на личность и организаци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507520" cy="4924440"/>
        </p:xfrm>
        <a:graphic>
          <a:graphicData uri="http://schemas.openxmlformats.org/drawingml/2006/table">
            <a:tbl>
              <a:tblPr/>
              <a:tblGrid>
                <a:gridCol w="1522440"/>
                <a:gridCol w="3322440"/>
                <a:gridCol w="3662640"/>
              </a:tblGrid>
              <a:tr h="1158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аракт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альные стимулы (положительные и отрицатель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ральные сти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положительные и отрицатель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ям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стимул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и прав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я и прика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ции и догов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стимул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и и н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я и прика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ции и догов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0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с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о-материальная среда; изменение структуры, функций управляемых элементов;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аркетинговая позиция руководителя; внутренний  и внешний «сервис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социально- психологического климата; обучение персонала, его оценка; культивирование норм и ценностей;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ормирование имиджа организации, реклама и «продвижение» услуг; система «внутренней и внешней» обратной 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свенные материальные фактор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аркетинговая позиция руководителя играет существенную стимулирующую роль в повышении активность других сотрудников в привлечении дополнительных средств, формировании «рыночного» мышления персонала О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ля того, чтобы эффективно реализовать свои цели, организация должна  выстроить «внутренний сервис», как основу формирования «клиентцентрированного внешнего сервиса»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обходимо стремиться добиться такого информационного и организационного положения, которое позволяет не только реализовать ОО свои задачи, но и выполняет функцию рекламно-имиджевой поддержки учрежд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свенные моральные факто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мидж и имиджеобразующая деятельность также приобретают регулятивный характер, оказывают влияние на отношения, поведение и настроения люде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ам образ ОО, который создавался усилиями самих же сотрудников, постепенно приобретает влияние самостоятельного фактора регуляции их поведения и отношения к организации и своей работ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истема «внутренней и внешней» обратной связи играет существенную роль как для эффективности индивидуальной и групповой деятельности (значимый маркетинговый элемент модели конкурентоспособной организации), так и для внутри- и межличностных чувств, состояний и отношений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основе анализа собственного опы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учитывая данные, представленные в литературе, приходим к выводу, что управление с помощью косвенных средств осуществлять сложнее (в т.ч. по временным затратам и «тонкости» инструмента), но одновременно психологически более эффектив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акое управление позволяет достигать системного синергетического эффекта, оно профессиональней и экономически выгодней, в частности в условиях ограниченности финансовых ресурс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отдельный элемент данной модели – это организация внебюджетн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рмирование такого направления как внебюджетная деятельность в рамках бюджетного образовательного учреждения, прошло в организации, которой я руководил 7 лет, несколько этапов и было, с одной стороны, инициировано мной, с другой – это был ответ на вызов ситуации (1993-2000 г.г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новные особенности ситуации тех лет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отсутствие средств даже на текущее функционирование ОО, не говоря о его развит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относительная свобода руководителя ОО при существенных законодательных «прорехах» и отсутствии «удушающего» внимания контрольно-надзорных органов и лояльности руководства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«просто» родителя и обучающегося к Клиен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на материальной заинтересованности и только с учетом реального спроса, поиск возможностей  удовлетворения реальных потребностей и работа с реальными клиентами, имиджевая и товарная реклама, продвижение своей услуги и организации в целом – все это требовало иных качеств от сотрудников и иного стиля взаимоотношений в организации как по «вертикали», так и по «горизонтали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9:09:58Z</dcterms:created>
  <dc:creator>Рашид Минасхатович Гайнутдинов</dc:creator>
  <dc:description/>
  <dc:language>en-US</dc:language>
  <cp:lastModifiedBy>gainutdinova</cp:lastModifiedBy>
  <dcterms:modified xsi:type="dcterms:W3CDTF">2014-02-11T14:27:31Z</dcterms:modified>
  <cp:revision>9</cp:revision>
  <dc:subject/>
  <dc:title>Маркетинг внебюджетной деятельности</dc:title>
</cp:coreProperties>
</file>