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582-CE69-40C7-A38B-83FA01A81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4197-0103-4FA3-963B-72C99B9B6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B4D7-DCF6-4CED-AD58-4F1E69E0C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DED4-CFFF-4877-8342-AAB239ADE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C87-5868-4118-BB4C-F3D52668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540-E2B0-4176-A471-5778B7E5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477-256F-4786-AE8F-1ABB3BCA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B08-87A9-4DBA-A586-060D34FF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710-D12F-449C-85C5-6CB0CC98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3F6E-0B27-441F-AE91-914FF345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02A-7988-49C0-AC6D-EFE04673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CE10-169E-4FCB-BE30-92294ABB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36B-6B5D-4B5C-B8A9-72F09688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31CF-51CA-4995-A4BC-DA81B45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4D89-07B6-45D9-80BA-3DEF211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798-193E-4E38-BB2A-DED56994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5EEB-908F-432F-9CA2-B36572E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B02-79ED-4012-85CA-D8C6291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734B-60FF-4E04-98B2-DB5B0A53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AA1B-CE8A-4B37-89F5-AA71A58F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D964-4D30-4B86-B38E-BDFA04EF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367-31FD-44D6-9950-54D02A0F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763-0AA8-4CA0-A727-7DF3F32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B17-0FE5-4642-AB5A-99AF372B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FD4-0503-444C-A04A-6FD4E3E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B42-56C7-4995-8CD7-6C91C9C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F94-DE0B-43AB-A490-11FD786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361-2968-4857-BD86-26D7A85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253-6B30-470E-9F48-BC7EC1972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87B1-1F50-4090-BE0A-36E64155C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ld.acconcept.ru/strategy/space.html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О, ОД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О – это вариативная часть государственных институтов социализации ребенка, обеспечивающая развитие личности, преемственность и взаимосвязь поколений и ОО, причем делает это в самой тесной связи с семь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го ОУ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ДОО в обязательном порядке должен быть согласован с субъектами муницип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дошкольным образовательным организациям (Д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Д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Д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«товара»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воспитательно-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ечно, ДОО находятся на позиции монополиста услуг в сфере ДО в большинстве районов, однако, это не должно вас успокаивать: во-первых, это не навсегда; во-вторых, есть ещё «имя», которое формирует отношение к ДОО, ценность в глазах Клиента, и, соответственно, желание или нежелание сотрудничать, помогать; испытывать благодарность и рекомендовать или 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воспитанника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родителей и дет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, а можно за счет энергии, возникающей в условиях взаимного доверия и сотрудни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КК детоцентризма, взаимоуважения, вовлеченности и сотрудничества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/кли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 чаще всего в лице родителя, его запросов,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воспитательно-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воспитателей/специалистов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в сотрудничестве с семьей, чтобы не формировались, по образному выражению А.Г.Асмолова «невротические салочки» воспитатель-р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 процесс – воспитательно-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первую очередь родителя, а также других О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Д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907920"/>
          <a:ext cx="8604360" cy="5492880"/>
        </p:xfrm>
        <a:graphic>
          <a:graphicData uri="http://schemas.openxmlformats.org/drawingml/2006/table">
            <a:tbl>
              <a:tblPr/>
              <a:tblGrid>
                <a:gridCol w="2470320"/>
                <a:gridCol w="2947680"/>
                <a:gridCol w="3186360"/>
              </a:tblGrid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ДОО, например, в 2015 году (в соответствии с миссией ОО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Д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экономических субъектов в данном населенном пункте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выгодным местоположением, эффективным воспитательно-образовательным процессом, хорошей МТБ, готовностью педколлектива работать с детьми с ОВЗ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 с учетом требований нового ФГОС, осуществить модернизацию воспитательно-образовательного процесса в соответствии с требованиями учредителя, повысить имидж образовательного учреждения, освоить 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Д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в условиях рынк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услуг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и уж тем более детей,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 Д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Д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ыми качествами воспитателей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специалистов и медиков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педагогическими технологиями: компетентность в новы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ухода и присмотра, здоровьесохранения и развития дет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личности ребенка;  оптимальное сочетание воспитательной и обучающе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Д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руководителя ДОО и наличие управляющих ноу-хау (например, изменение оргструктуры; формирование групп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среди Д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-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учредителя, 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средней школы прежде вс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Д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онополизм ДОО вредит их развитию и отвлекает внимание от качества их работы, т.к. концентрирует на дефиците мест в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СОШ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ПО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школами-партнер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Д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Д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Д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 партнер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управления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ДОО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Д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ыпускников ДОО со стороны партнеров-шко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родителем, партнером, учителем из соседней школы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483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6:25Z</dcterms:modified>
  <cp:revision>71</cp:revision>
  <dc:subject/>
  <dc:title>Технологии повышения привлекательности  образовательной организации</dc:title>
</cp:coreProperties>
</file>