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png" ContentType="image/png"/>
  <Override PartName="/ppt/media/image5.jpeg" ContentType="image/jpeg"/>
  <Override PartName="/ppt/media/image6.gif" ContentType="image/gif"/>
  <Override PartName="/ppt/media/image1.wmf" ContentType="image/x-wmf"/>
  <Override PartName="/ppt/media/image11.jpeg" ContentType="image/jpeg"/>
  <Override PartName="/ppt/media/image9.jpeg" ContentType="image/jpe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14.jpeg" ContentType="image/jpeg"/>
  <Override PartName="/ppt/media/image16.wmf" ContentType="image/x-wmf"/>
  <Override PartName="/ppt/media/image8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E2D-A416-431A-8D8D-FFA7498E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606-507C-4093-AB99-D0F019FD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EF2-43C7-4D7C-B0E4-6BB2ECA6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B33D-38D9-4154-AE12-B9A08499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21227-5581-4E44-A423-1D544AEF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9EC48-4AD6-4AE7-BD60-08688230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C2A3A-49B8-4F69-9D05-90B5E9C6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CDCF3-E61F-4ED5-B3BF-026D4972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AA5B2-15F0-47C1-9B0F-58B224E0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B9BEC-058D-4567-B0AA-D161E753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069CB-C451-471D-ABBA-0B754179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181-3F85-4F1F-8A80-69853BAE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C1A47-F60E-49E4-9997-6B316E97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6C340-3FC1-4FE5-BF6B-BB9D072D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A7887-CA48-4945-AA84-172DE053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60F9F-753B-4E95-8E00-C9229A6D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E8DD3-8863-4C60-9FED-A06B1A6F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82B27-7E18-40B5-AAF8-03E57007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19A30-1C1E-42F0-9E04-A8297E8F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5B4F2-2D43-46C6-BF93-11BB3378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7BF5D-23FC-4829-8864-8AA95211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A2CE2-972E-4A16-B965-89F57E3B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CED2-C409-4D46-AE96-08A2ED23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18341-92CE-4AB9-B425-0F1A528F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DDE252-10A4-4F50-902B-72BC245C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A5049E-B52B-41EA-8A43-BFADE4F3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7A8B52-2A9E-4F7A-AA1D-F6EA5818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71D4B-526D-48DA-96E5-376521D5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EA4DD-C6BD-4782-838E-BE13473C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09A7A5-50D5-4384-8C76-F30E90F3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FB9137-E61C-41F1-B3B6-9D35DF57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3A87FC-9102-4BF1-9900-39E86F73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7BAC1D-7CB4-4767-BD32-457F16B3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E5BE-3FB5-4985-A81C-1408DEE3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F5EA3D-0DA6-4A66-89FC-C8C6CE6C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FA540F-25E0-49BA-8F61-B25A0C0D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499A5-0175-43F6-BBED-FD77543F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5EF0EC-3F6A-4FBD-AE45-06C4E23E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95B5F5-EBAE-4191-B75D-C4BE3280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7F8D01-A5C7-4DDF-B923-6DC5B4C7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87046A-7BD6-4B32-B13C-9F92819A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37530A-844E-4030-8352-7DD4A7D8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0640D8-9E7F-40FD-A581-F8BC6D73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C35BB1-A819-433C-883C-2A86AF5C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182A-27AD-4302-BCBF-E7FB1144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79688-6388-4918-BA06-42D3F658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BEFD08-C6AC-4A25-99BC-537A27E9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94794A-DC59-409F-B2FD-44D1EC55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953D60-23A9-464B-B546-507BB33C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17D478-16AF-4D34-91CE-26E2F51A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925FF-5175-4FB8-8F50-F9841C1E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239FEC-A92F-4B9C-9319-656E079D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C9DC9C-C48D-45B9-92E9-F2046FC6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0A220A-1899-4402-B6B8-DD72368E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8C4F57-53C9-4CAC-828C-7BCC801A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7EDA-C6DE-4126-8B55-AFE52675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CD8F80-2782-470D-B3EF-AACFEAB3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A226-034D-49D9-AD53-FFCA6979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45C7-A78F-418D-9550-A0CA7216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D5C-44B1-4177-88EE-9E47CE51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5E0C-BFFD-4905-9C59-084A29F32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118D-6296-44C1-8865-B6B997CB88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8FF8-44CA-4271-AACB-CA7FB15378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34B5-6C69-4B93-968F-A54F68685E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9608-3368-492F-98D1-876E2268CD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ВЛЕНЧЕСКИЕ РЕШ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356920" y="4581000"/>
            <a:ext cx="6527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бзорная л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фимов Евгений Федо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вопросы при выборе метода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ует ли проблема комплексного реш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роблема или возмож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классифицировать пробл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реально существующая или надуманная пробл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финансовая проблема или она связана с отношениями между людь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произойдет, если не принимать никакого реш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уникальность пробл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ли последовательность решения пробл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Задачи руководителя при продумывании пробле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9528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круг лиц, способных разработать и реализовать способы ее решения и получения положительного исх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ь срок разрешения проблемн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ть и утвердить способы дейст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ть выделение требуемых средств решения проблемы (трудовых, материальных, финансовых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внутренние элементы проблемы, установить степень их влияния на решен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ования к критерию принятия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9"/>
          <p:cNvSpPr/>
          <p:nvPr/>
        </p:nvSpPr>
        <p:spPr>
          <a:xfrm>
            <a:off x="1100880" y="1007640"/>
            <a:ext cx="671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терий должен выражаться чис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терий должен принимать одно из следующих знач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243080" y="1628640"/>
            <a:ext cx="5829120" cy="2521080"/>
            <a:chOff x="1243080" y="1628640"/>
            <a:chExt cx="5829120" cy="2521080"/>
          </a:xfrm>
        </p:grpSpPr>
        <p:sp>
          <p:nvSpPr>
            <p:cNvPr id="332" name="AutoShape 38"/>
            <p:cNvSpPr/>
            <p:nvPr/>
          </p:nvSpPr>
          <p:spPr>
            <a:xfrm>
              <a:off x="1243080" y="1628640"/>
              <a:ext cx="582912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Group 35"/>
            <p:cNvGrpSpPr/>
            <p:nvPr/>
          </p:nvGrpSpPr>
          <p:grpSpPr>
            <a:xfrm>
              <a:off x="1700280" y="2035440"/>
              <a:ext cx="1142280" cy="1382400"/>
              <a:chOff x="1700280" y="2035440"/>
              <a:chExt cx="1142280" cy="1382400"/>
            </a:xfrm>
          </p:grpSpPr>
          <p:sp>
            <p:nvSpPr>
              <p:cNvPr id="334" name="Line 37"/>
              <p:cNvSpPr/>
              <p:nvPr/>
            </p:nvSpPr>
            <p:spPr>
              <a:xfrm flipV="1">
                <a:off x="1700280" y="2035440"/>
                <a:ext cx="0" cy="138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36"/>
              <p:cNvSpPr/>
              <p:nvPr/>
            </p:nvSpPr>
            <p:spPr>
              <a:xfrm>
                <a:off x="1700280" y="3417840"/>
                <a:ext cx="114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32"/>
            <p:cNvGrpSpPr/>
            <p:nvPr/>
          </p:nvGrpSpPr>
          <p:grpSpPr>
            <a:xfrm>
              <a:off x="3529440" y="2035440"/>
              <a:ext cx="1142280" cy="1382400"/>
              <a:chOff x="3529440" y="2035440"/>
              <a:chExt cx="1142280" cy="1382400"/>
            </a:xfrm>
          </p:grpSpPr>
          <p:sp>
            <p:nvSpPr>
              <p:cNvPr id="337" name="Line 34"/>
              <p:cNvSpPr/>
              <p:nvPr/>
            </p:nvSpPr>
            <p:spPr>
              <a:xfrm flipV="1">
                <a:off x="3529440" y="2035440"/>
                <a:ext cx="0" cy="138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33"/>
              <p:cNvSpPr/>
              <p:nvPr/>
            </p:nvSpPr>
            <p:spPr>
              <a:xfrm>
                <a:off x="3529440" y="3417840"/>
                <a:ext cx="114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29"/>
            <p:cNvGrpSpPr/>
            <p:nvPr/>
          </p:nvGrpSpPr>
          <p:grpSpPr>
            <a:xfrm>
              <a:off x="5472360" y="2035440"/>
              <a:ext cx="1142280" cy="1382400"/>
              <a:chOff x="5472360" y="2035440"/>
              <a:chExt cx="1142280" cy="1382400"/>
            </a:xfrm>
          </p:grpSpPr>
          <p:sp>
            <p:nvSpPr>
              <p:cNvPr id="340" name="Line 31"/>
              <p:cNvSpPr/>
              <p:nvPr/>
            </p:nvSpPr>
            <p:spPr>
              <a:xfrm flipV="1">
                <a:off x="5472360" y="2035440"/>
                <a:ext cx="0" cy="138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30"/>
              <p:cNvSpPr/>
              <p:nvPr/>
            </p:nvSpPr>
            <p:spPr>
              <a:xfrm>
                <a:off x="5472360" y="3417840"/>
                <a:ext cx="114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Freeform 28"/>
            <p:cNvSpPr/>
            <p:nvPr/>
          </p:nvSpPr>
          <p:spPr>
            <a:xfrm>
              <a:off x="1800720" y="2474280"/>
              <a:ext cx="819360" cy="795240"/>
            </a:xfrm>
            <a:custGeom>
              <a:avLst/>
              <a:gdLst>
                <a:gd name="textAreaLeft" fmla="*/ 0 w 819360"/>
                <a:gd name="textAreaRight" fmla="*/ 819720 w 81936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1290" h="1760">
                  <a:moveTo>
                    <a:pt x="0" y="1670"/>
                  </a:moveTo>
                  <a:cubicBezTo>
                    <a:pt x="133" y="1470"/>
                    <a:pt x="54" y="1622"/>
                    <a:pt x="75" y="1190"/>
                  </a:cubicBezTo>
                  <a:cubicBezTo>
                    <a:pt x="80" y="1090"/>
                    <a:pt x="60" y="980"/>
                    <a:pt x="105" y="890"/>
                  </a:cubicBezTo>
                  <a:cubicBezTo>
                    <a:pt x="141" y="818"/>
                    <a:pt x="161" y="804"/>
                    <a:pt x="210" y="755"/>
                  </a:cubicBezTo>
                  <a:cubicBezTo>
                    <a:pt x="222" y="719"/>
                    <a:pt x="246" y="687"/>
                    <a:pt x="255" y="650"/>
                  </a:cubicBezTo>
                  <a:cubicBezTo>
                    <a:pt x="265" y="611"/>
                    <a:pt x="257" y="568"/>
                    <a:pt x="270" y="530"/>
                  </a:cubicBezTo>
                  <a:cubicBezTo>
                    <a:pt x="284" y="489"/>
                    <a:pt x="326" y="463"/>
                    <a:pt x="345" y="425"/>
                  </a:cubicBezTo>
                  <a:cubicBezTo>
                    <a:pt x="357" y="401"/>
                    <a:pt x="369" y="342"/>
                    <a:pt x="375" y="320"/>
                  </a:cubicBezTo>
                  <a:cubicBezTo>
                    <a:pt x="400" y="232"/>
                    <a:pt x="376" y="318"/>
                    <a:pt x="420" y="230"/>
                  </a:cubicBezTo>
                  <a:cubicBezTo>
                    <a:pt x="443" y="183"/>
                    <a:pt x="426" y="172"/>
                    <a:pt x="465" y="125"/>
                  </a:cubicBezTo>
                  <a:cubicBezTo>
                    <a:pt x="477" y="111"/>
                    <a:pt x="495" y="105"/>
                    <a:pt x="510" y="95"/>
                  </a:cubicBezTo>
                  <a:cubicBezTo>
                    <a:pt x="553" y="30"/>
                    <a:pt x="567" y="47"/>
                    <a:pt x="630" y="5"/>
                  </a:cubicBezTo>
                  <a:cubicBezTo>
                    <a:pt x="685" y="12"/>
                    <a:pt x="751" y="0"/>
                    <a:pt x="795" y="35"/>
                  </a:cubicBezTo>
                  <a:cubicBezTo>
                    <a:pt x="827" y="61"/>
                    <a:pt x="846" y="142"/>
                    <a:pt x="855" y="170"/>
                  </a:cubicBezTo>
                  <a:cubicBezTo>
                    <a:pt x="877" y="235"/>
                    <a:pt x="892" y="293"/>
                    <a:pt x="930" y="350"/>
                  </a:cubicBezTo>
                  <a:cubicBezTo>
                    <a:pt x="947" y="468"/>
                    <a:pt x="967" y="597"/>
                    <a:pt x="1005" y="710"/>
                  </a:cubicBezTo>
                  <a:cubicBezTo>
                    <a:pt x="1015" y="740"/>
                    <a:pt x="1029" y="769"/>
                    <a:pt x="1035" y="800"/>
                  </a:cubicBezTo>
                  <a:cubicBezTo>
                    <a:pt x="1062" y="933"/>
                    <a:pt x="1067" y="1061"/>
                    <a:pt x="1110" y="1190"/>
                  </a:cubicBezTo>
                  <a:cubicBezTo>
                    <a:pt x="1116" y="1207"/>
                    <a:pt x="1132" y="1219"/>
                    <a:pt x="1140" y="1235"/>
                  </a:cubicBezTo>
                  <a:cubicBezTo>
                    <a:pt x="1174" y="1302"/>
                    <a:pt x="1194" y="1373"/>
                    <a:pt x="1215" y="1445"/>
                  </a:cubicBezTo>
                  <a:cubicBezTo>
                    <a:pt x="1224" y="1475"/>
                    <a:pt x="1235" y="1505"/>
                    <a:pt x="1245" y="1535"/>
                  </a:cubicBezTo>
                  <a:cubicBezTo>
                    <a:pt x="1250" y="1550"/>
                    <a:pt x="1260" y="1580"/>
                    <a:pt x="1260" y="1580"/>
                  </a:cubicBezTo>
                  <a:cubicBezTo>
                    <a:pt x="1240" y="1600"/>
                    <a:pt x="1206" y="1612"/>
                    <a:pt x="1200" y="1640"/>
                  </a:cubicBezTo>
                  <a:cubicBezTo>
                    <a:pt x="1197" y="1656"/>
                    <a:pt x="1236" y="1642"/>
                    <a:pt x="1245" y="1655"/>
                  </a:cubicBezTo>
                  <a:cubicBezTo>
                    <a:pt x="1263" y="1681"/>
                    <a:pt x="1265" y="1715"/>
                    <a:pt x="1275" y="1745"/>
                  </a:cubicBezTo>
                  <a:cubicBezTo>
                    <a:pt x="1277" y="1752"/>
                    <a:pt x="1285" y="1755"/>
                    <a:pt x="1290" y="17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7"/>
            <p:cNvSpPr/>
            <p:nvPr/>
          </p:nvSpPr>
          <p:spPr>
            <a:xfrm>
              <a:off x="3632040" y="2313720"/>
              <a:ext cx="1102680" cy="961200"/>
            </a:xfrm>
            <a:custGeom>
              <a:avLst/>
              <a:gdLst>
                <a:gd name="textAreaLeft" fmla="*/ 0 w 1102680"/>
                <a:gd name="textAreaRight" fmla="*/ 1103040 w 1102680"/>
                <a:gd name="textAreaTop" fmla="*/ 0 h 961200"/>
                <a:gd name="textAreaBottom" fmla="*/ 961560 h 961200"/>
              </a:gdLst>
              <a:ahLst/>
              <a:rect l="textAreaLeft" t="textAreaTop" r="textAreaRight" b="textAreaBottom"/>
              <a:pathLst>
                <a:path w="1736" h="2127">
                  <a:moveTo>
                    <a:pt x="56" y="0"/>
                  </a:moveTo>
                  <a:cubicBezTo>
                    <a:pt x="0" y="167"/>
                    <a:pt x="50" y="313"/>
                    <a:pt x="101" y="465"/>
                  </a:cubicBezTo>
                  <a:cubicBezTo>
                    <a:pt x="124" y="533"/>
                    <a:pt x="128" y="595"/>
                    <a:pt x="161" y="660"/>
                  </a:cubicBezTo>
                  <a:cubicBezTo>
                    <a:pt x="64" y="806"/>
                    <a:pt x="142" y="963"/>
                    <a:pt x="191" y="1110"/>
                  </a:cubicBezTo>
                  <a:cubicBezTo>
                    <a:pt x="151" y="1231"/>
                    <a:pt x="242" y="1348"/>
                    <a:pt x="311" y="1440"/>
                  </a:cubicBezTo>
                  <a:cubicBezTo>
                    <a:pt x="339" y="1478"/>
                    <a:pt x="357" y="1523"/>
                    <a:pt x="386" y="1560"/>
                  </a:cubicBezTo>
                  <a:cubicBezTo>
                    <a:pt x="408" y="1588"/>
                    <a:pt x="438" y="1609"/>
                    <a:pt x="461" y="1635"/>
                  </a:cubicBezTo>
                  <a:cubicBezTo>
                    <a:pt x="521" y="1703"/>
                    <a:pt x="554" y="1791"/>
                    <a:pt x="611" y="1860"/>
                  </a:cubicBezTo>
                  <a:cubicBezTo>
                    <a:pt x="643" y="1898"/>
                    <a:pt x="681" y="1930"/>
                    <a:pt x="716" y="1965"/>
                  </a:cubicBezTo>
                  <a:cubicBezTo>
                    <a:pt x="776" y="2025"/>
                    <a:pt x="811" y="2087"/>
                    <a:pt x="896" y="2115"/>
                  </a:cubicBezTo>
                  <a:cubicBezTo>
                    <a:pt x="961" y="2108"/>
                    <a:pt x="1040" y="2127"/>
                    <a:pt x="1091" y="2085"/>
                  </a:cubicBezTo>
                  <a:cubicBezTo>
                    <a:pt x="1110" y="2069"/>
                    <a:pt x="1120" y="2044"/>
                    <a:pt x="1136" y="2025"/>
                  </a:cubicBezTo>
                  <a:cubicBezTo>
                    <a:pt x="1283" y="1853"/>
                    <a:pt x="1087" y="2089"/>
                    <a:pt x="1226" y="1950"/>
                  </a:cubicBezTo>
                  <a:cubicBezTo>
                    <a:pt x="1259" y="1917"/>
                    <a:pt x="1286" y="1880"/>
                    <a:pt x="1316" y="1845"/>
                  </a:cubicBezTo>
                  <a:cubicBezTo>
                    <a:pt x="1416" y="1724"/>
                    <a:pt x="1266" y="1887"/>
                    <a:pt x="1376" y="1740"/>
                  </a:cubicBezTo>
                  <a:cubicBezTo>
                    <a:pt x="1393" y="1717"/>
                    <a:pt x="1416" y="1700"/>
                    <a:pt x="1436" y="1680"/>
                  </a:cubicBezTo>
                  <a:cubicBezTo>
                    <a:pt x="1446" y="1650"/>
                    <a:pt x="1451" y="1618"/>
                    <a:pt x="1466" y="1590"/>
                  </a:cubicBezTo>
                  <a:cubicBezTo>
                    <a:pt x="1476" y="1571"/>
                    <a:pt x="1502" y="1564"/>
                    <a:pt x="1511" y="1545"/>
                  </a:cubicBezTo>
                  <a:cubicBezTo>
                    <a:pt x="1557" y="1454"/>
                    <a:pt x="1560" y="1389"/>
                    <a:pt x="1616" y="1305"/>
                  </a:cubicBezTo>
                  <a:cubicBezTo>
                    <a:pt x="1628" y="1138"/>
                    <a:pt x="1628" y="967"/>
                    <a:pt x="1691" y="810"/>
                  </a:cubicBezTo>
                  <a:cubicBezTo>
                    <a:pt x="1705" y="680"/>
                    <a:pt x="1736" y="551"/>
                    <a:pt x="1736" y="4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6"/>
            <p:cNvSpPr/>
            <p:nvPr/>
          </p:nvSpPr>
          <p:spPr>
            <a:xfrm>
              <a:off x="5610600" y="2191680"/>
              <a:ext cx="1200600" cy="1091160"/>
            </a:xfrm>
            <a:custGeom>
              <a:avLst/>
              <a:gdLst>
                <a:gd name="textAreaLeft" fmla="*/ 0 w 1200600"/>
                <a:gd name="textAreaRight" fmla="*/ 1200960 w 1200600"/>
                <a:gd name="textAreaTop" fmla="*/ 0 h 1091160"/>
                <a:gd name="textAreaBottom" fmla="*/ 1091520 h 1091160"/>
              </a:gdLst>
              <a:ahLst/>
              <a:rect l="textAreaLeft" t="textAreaTop" r="textAreaRight" b="textAreaBottom"/>
              <a:pathLst>
                <a:path w="1890" h="2415">
                  <a:moveTo>
                    <a:pt x="0" y="0"/>
                  </a:moveTo>
                  <a:cubicBezTo>
                    <a:pt x="10" y="30"/>
                    <a:pt x="17" y="61"/>
                    <a:pt x="30" y="90"/>
                  </a:cubicBezTo>
                  <a:cubicBezTo>
                    <a:pt x="37" y="106"/>
                    <a:pt x="53" y="118"/>
                    <a:pt x="60" y="135"/>
                  </a:cubicBezTo>
                  <a:cubicBezTo>
                    <a:pt x="78" y="179"/>
                    <a:pt x="79" y="231"/>
                    <a:pt x="105" y="270"/>
                  </a:cubicBezTo>
                  <a:cubicBezTo>
                    <a:pt x="150" y="337"/>
                    <a:pt x="167" y="409"/>
                    <a:pt x="210" y="480"/>
                  </a:cubicBezTo>
                  <a:cubicBezTo>
                    <a:pt x="274" y="587"/>
                    <a:pt x="319" y="699"/>
                    <a:pt x="375" y="810"/>
                  </a:cubicBezTo>
                  <a:cubicBezTo>
                    <a:pt x="401" y="940"/>
                    <a:pt x="464" y="1061"/>
                    <a:pt x="510" y="1185"/>
                  </a:cubicBezTo>
                  <a:cubicBezTo>
                    <a:pt x="538" y="1260"/>
                    <a:pt x="537" y="1336"/>
                    <a:pt x="570" y="1410"/>
                  </a:cubicBezTo>
                  <a:cubicBezTo>
                    <a:pt x="593" y="1461"/>
                    <a:pt x="612" y="1515"/>
                    <a:pt x="645" y="1560"/>
                  </a:cubicBezTo>
                  <a:cubicBezTo>
                    <a:pt x="674" y="1600"/>
                    <a:pt x="735" y="1680"/>
                    <a:pt x="735" y="1680"/>
                  </a:cubicBezTo>
                  <a:cubicBezTo>
                    <a:pt x="730" y="1700"/>
                    <a:pt x="713" y="1720"/>
                    <a:pt x="720" y="1740"/>
                  </a:cubicBezTo>
                  <a:cubicBezTo>
                    <a:pt x="736" y="1787"/>
                    <a:pt x="780" y="1820"/>
                    <a:pt x="810" y="1860"/>
                  </a:cubicBezTo>
                  <a:cubicBezTo>
                    <a:pt x="855" y="1920"/>
                    <a:pt x="892" y="1987"/>
                    <a:pt x="945" y="2040"/>
                  </a:cubicBezTo>
                  <a:cubicBezTo>
                    <a:pt x="1085" y="2180"/>
                    <a:pt x="930" y="1985"/>
                    <a:pt x="1050" y="2145"/>
                  </a:cubicBezTo>
                  <a:cubicBezTo>
                    <a:pt x="1040" y="2160"/>
                    <a:pt x="1015" y="2173"/>
                    <a:pt x="1020" y="2190"/>
                  </a:cubicBezTo>
                  <a:cubicBezTo>
                    <a:pt x="1042" y="2266"/>
                    <a:pt x="1131" y="2257"/>
                    <a:pt x="1185" y="2265"/>
                  </a:cubicBezTo>
                  <a:cubicBezTo>
                    <a:pt x="1205" y="2275"/>
                    <a:pt x="1228" y="2281"/>
                    <a:pt x="1245" y="2295"/>
                  </a:cubicBezTo>
                  <a:cubicBezTo>
                    <a:pt x="1278" y="2322"/>
                    <a:pt x="1295" y="2372"/>
                    <a:pt x="1335" y="2385"/>
                  </a:cubicBezTo>
                  <a:cubicBezTo>
                    <a:pt x="1365" y="2395"/>
                    <a:pt x="1425" y="2415"/>
                    <a:pt x="1425" y="2415"/>
                  </a:cubicBezTo>
                  <a:cubicBezTo>
                    <a:pt x="1548" y="2394"/>
                    <a:pt x="1639" y="2334"/>
                    <a:pt x="1755" y="2295"/>
                  </a:cubicBezTo>
                  <a:cubicBezTo>
                    <a:pt x="1760" y="2280"/>
                    <a:pt x="1759" y="2261"/>
                    <a:pt x="1770" y="2250"/>
                  </a:cubicBezTo>
                  <a:cubicBezTo>
                    <a:pt x="1781" y="2239"/>
                    <a:pt x="1802" y="2244"/>
                    <a:pt x="1815" y="2235"/>
                  </a:cubicBezTo>
                  <a:cubicBezTo>
                    <a:pt x="1833" y="2223"/>
                    <a:pt x="1846" y="2206"/>
                    <a:pt x="1860" y="2190"/>
                  </a:cubicBezTo>
                  <a:cubicBezTo>
                    <a:pt x="1872" y="2176"/>
                    <a:pt x="1890" y="2145"/>
                    <a:pt x="1890" y="21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5"/>
            <p:cNvSpPr/>
            <p:nvPr/>
          </p:nvSpPr>
          <p:spPr>
            <a:xfrm flipV="1">
              <a:off x="6158160" y="2197080"/>
              <a:ext cx="0" cy="12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4"/>
            <p:cNvSpPr/>
            <p:nvPr/>
          </p:nvSpPr>
          <p:spPr>
            <a:xfrm flipH="1">
              <a:off x="6157800" y="2197440"/>
              <a:ext cx="114120" cy="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3"/>
            <p:cNvSpPr/>
            <p:nvPr/>
          </p:nvSpPr>
          <p:spPr>
            <a:xfrm flipH="1">
              <a:off x="6158160" y="2279160"/>
              <a:ext cx="1123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2"/>
            <p:cNvSpPr/>
            <p:nvPr/>
          </p:nvSpPr>
          <p:spPr>
            <a:xfrm flipH="1">
              <a:off x="6158160" y="2360520"/>
              <a:ext cx="1123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1"/>
            <p:cNvSpPr/>
            <p:nvPr/>
          </p:nvSpPr>
          <p:spPr>
            <a:xfrm flipH="1">
              <a:off x="6158160" y="2441880"/>
              <a:ext cx="11232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0"/>
            <p:cNvSpPr/>
            <p:nvPr/>
          </p:nvSpPr>
          <p:spPr>
            <a:xfrm flipH="1">
              <a:off x="6158160" y="2523240"/>
              <a:ext cx="11304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9"/>
            <p:cNvSpPr/>
            <p:nvPr/>
          </p:nvSpPr>
          <p:spPr>
            <a:xfrm flipH="1">
              <a:off x="6158160" y="2604240"/>
              <a:ext cx="11232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H="1">
              <a:off x="6158160" y="3011040"/>
              <a:ext cx="11304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7"/>
            <p:cNvSpPr/>
            <p:nvPr/>
          </p:nvSpPr>
          <p:spPr>
            <a:xfrm flipH="1">
              <a:off x="6158160" y="2930040"/>
              <a:ext cx="11304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 flipH="1">
              <a:off x="6158160" y="2848320"/>
              <a:ext cx="112320" cy="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5"/>
            <p:cNvSpPr/>
            <p:nvPr/>
          </p:nvSpPr>
          <p:spPr>
            <a:xfrm flipH="1">
              <a:off x="6158160" y="2767320"/>
              <a:ext cx="113040" cy="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4"/>
            <p:cNvSpPr/>
            <p:nvPr/>
          </p:nvSpPr>
          <p:spPr>
            <a:xfrm flipH="1">
              <a:off x="6158160" y="2685960"/>
              <a:ext cx="112320" cy="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3"/>
            <p:cNvSpPr/>
            <p:nvPr/>
          </p:nvSpPr>
          <p:spPr>
            <a:xfrm flipH="1">
              <a:off x="6158160" y="3255120"/>
              <a:ext cx="11232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2"/>
            <p:cNvSpPr/>
            <p:nvPr/>
          </p:nvSpPr>
          <p:spPr>
            <a:xfrm flipH="1">
              <a:off x="6158160" y="3255120"/>
              <a:ext cx="113040" cy="8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 flipH="1">
              <a:off x="6158160" y="3173760"/>
              <a:ext cx="112320" cy="8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0"/>
            <p:cNvSpPr/>
            <p:nvPr/>
          </p:nvSpPr>
          <p:spPr>
            <a:xfrm flipH="1">
              <a:off x="6158160" y="3092400"/>
              <a:ext cx="113040" cy="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6500520" y="2197440"/>
              <a:ext cx="343080" cy="81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гранич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8"/>
            <p:cNvSpPr/>
            <p:nvPr/>
          </p:nvSpPr>
          <p:spPr>
            <a:xfrm>
              <a:off x="5472360" y="3580920"/>
              <a:ext cx="125568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начение на ограничения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"/>
            <p:cNvSpPr/>
            <p:nvPr/>
          </p:nvSpPr>
          <p:spPr>
            <a:xfrm>
              <a:off x="1586160" y="3580920"/>
              <a:ext cx="125496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аксималь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3414240" y="3580920"/>
              <a:ext cx="1255320" cy="48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инимальное зна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44"/>
          <p:cNvSpPr/>
          <p:nvPr/>
        </p:nvSpPr>
        <p:spPr>
          <a:xfrm>
            <a:off x="1111320" y="4547880"/>
            <a:ext cx="697212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учае многокритериальной задачи необходимо частные критерии свернуть в оди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 = ∑ а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 к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      а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весовой коэффициен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-  значение частного крит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РАЗРАБОТКИ УПРАВЛЕНЧЕСКИ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5"/>
          <p:cNvGrpSpPr/>
          <p:nvPr/>
        </p:nvGrpSpPr>
        <p:grpSpPr>
          <a:xfrm>
            <a:off x="395280" y="1413000"/>
            <a:ext cx="8353440" cy="5111280"/>
            <a:chOff x="395280" y="1413000"/>
            <a:chExt cx="8353440" cy="5111280"/>
          </a:xfrm>
        </p:grpSpPr>
        <p:sp>
          <p:nvSpPr>
            <p:cNvPr id="368" name="AutoShape 6"/>
            <p:cNvSpPr/>
            <p:nvPr/>
          </p:nvSpPr>
          <p:spPr>
            <a:xfrm>
              <a:off x="395280" y="1413000"/>
              <a:ext cx="8353440" cy="51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7"/>
            <p:cNvGrpSpPr/>
            <p:nvPr/>
          </p:nvGrpSpPr>
          <p:grpSpPr>
            <a:xfrm>
              <a:off x="558360" y="1413000"/>
              <a:ext cx="8188200" cy="4544280"/>
              <a:chOff x="558360" y="1413000"/>
              <a:chExt cx="8188200" cy="4544280"/>
            </a:xfrm>
          </p:grpSpPr>
          <p:sp>
            <p:nvSpPr>
              <p:cNvPr id="370" name="Rectangle 8"/>
              <p:cNvSpPr/>
              <p:nvPr/>
            </p:nvSpPr>
            <p:spPr>
              <a:xfrm>
                <a:off x="3342960" y="1413000"/>
                <a:ext cx="2620440" cy="170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Методы разработки управленческих решен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9"/>
              <p:cNvSpPr/>
              <p:nvPr/>
            </p:nvSpPr>
            <p:spPr>
              <a:xfrm>
                <a:off x="558360" y="4253760"/>
                <a:ext cx="2620800" cy="170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Экономико-математические методы и модел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0"/>
              <p:cNvSpPr/>
              <p:nvPr/>
            </p:nvSpPr>
            <p:spPr>
              <a:xfrm>
                <a:off x="3342960" y="4253760"/>
                <a:ext cx="2620440" cy="170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600" spc="-1" strike="noStrike">
                    <a:solidFill>
                      <a:srgbClr val="000000"/>
                    </a:solidFill>
                    <a:latin typeface="Arial"/>
                  </a:rPr>
                  <a:t>Эвристические методы (методы активизации мышления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1"/>
              <p:cNvSpPr/>
              <p:nvPr/>
            </p:nvSpPr>
            <p:spPr>
              <a:xfrm>
                <a:off x="6127200" y="4253760"/>
                <a:ext cx="2619360" cy="170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Статистические метод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2"/>
              <p:cNvSpPr/>
              <p:nvPr/>
            </p:nvSpPr>
            <p:spPr>
              <a:xfrm flipH="1">
                <a:off x="1868760" y="3116520"/>
                <a:ext cx="2784600" cy="11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3"/>
              <p:cNvSpPr/>
              <p:nvPr/>
            </p:nvSpPr>
            <p:spPr>
              <a:xfrm>
                <a:off x="4653720" y="3116520"/>
                <a:ext cx="0" cy="11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4"/>
              <p:cNvSpPr/>
              <p:nvPr/>
            </p:nvSpPr>
            <p:spPr>
              <a:xfrm>
                <a:off x="4653720" y="3116520"/>
                <a:ext cx="2784240" cy="11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Экономико-математические методы и модел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50920" y="667800"/>
            <a:ext cx="8424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е методы и модели дают количественную характеристику проблемы и служат основой для принятия управленческого решения при поиске оптимального варианта. Разработка решения такими методами может быть представлена последовательностью основных этап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остановка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Определение критерия эффективности анализируемой опер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личественное изменение факторов, влияющих на исследуемую операц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остроение математической модели изучаемого объ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личественное решение модели и нахождение оптимального ре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роверка адекватности модели и найденного решения анализируемой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buClr>
                <a:srgbClr val="ff3300"/>
              </a:buClr>
              <a:buFont typeface="Arial"/>
              <a:buChar char="•"/>
              <a:tabLst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рректировка и обновление мо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28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 числу наиболее распространенных типов моделей относятся модели теории игр, модели теории очередей, модели управления запасами и модели линейного программир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вристические методы (методы активизации мышления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Object 4"/>
          <p:cNvGraphicFramePr/>
          <p:nvPr/>
        </p:nvGraphicFramePr>
        <p:xfrm>
          <a:off x="179280" y="1413000"/>
          <a:ext cx="8713800" cy="5445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"/>
          <p:cNvSpPr/>
          <p:nvPr/>
        </p:nvSpPr>
        <p:spPr>
          <a:xfrm>
            <a:off x="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7" name="Object 2"/>
          <p:cNvGraphicFramePr/>
          <p:nvPr/>
        </p:nvGraphicFramePr>
        <p:xfrm>
          <a:off x="0" y="620640"/>
          <a:ext cx="9144000" cy="6237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20640"/>
                    <a:ext cx="9144000" cy="62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6868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ные правила мозгового штурм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5" descr="ris7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мозгового шту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у последовательно решают 2 группы людей (оптимальный состав каждой 6—12 человек). Первая группа — «генераторы идей» — выдвигает различные идеи (рис. 1). В ней желательно иметь людей, склонных к абстрагированию, с бурной фантазией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дача «штурмуется» в течение 20—40 минут. Вторая группа — «эксперты» — по окончании штурма выносит суждение о ценности выдвинутых идей. В ее составе лучше работают люди с аналитическим, критическим складом ума. Условия задачи перед ее штурмом формулируются только в общих понят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7" descr="группа генераторов идей"/>
          <p:cNvPicPr/>
          <p:nvPr/>
        </p:nvPicPr>
        <p:blipFill>
          <a:blip r:embed="rId1"/>
          <a:stretch/>
        </p:blipFill>
        <p:spPr>
          <a:xfrm>
            <a:off x="457200" y="2455920"/>
            <a:ext cx="403848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ческое решение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результат анализа, прогнозирования, оптимизации, экономического обоснования и выбора альтернативы из множества вариантов достижения конкретной цели системы менедж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.А.Фатхутд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ение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выбор одного из возможных альтернативных вариантов, осуществляемых лицом, принимающим решения (ЛПР), и направленный на достижение поставленной цели. Один из основных этапов процесса управления, организационный а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Г.Литв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равленческое реш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редприятии представляет собой творческий акт субъекта управления (индивидуального или группового лица), определяющий программу деятельности коллектива по эффективному разрешению назревшей проблемы на основе знания объективных законов функционирования управляемой системы и анализа информации о ее со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С.Юка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5"/>
          <p:cNvSpPr/>
          <p:nvPr/>
        </p:nvSpPr>
        <p:spPr>
          <a:xfrm>
            <a:off x="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2"/>
          <p:cNvGraphicFramePr/>
          <p:nvPr/>
        </p:nvGraphicFramePr>
        <p:xfrm>
          <a:off x="0" y="476280"/>
          <a:ext cx="9144000" cy="6381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«Морфологического ящи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457200" y="1981080"/>
          <a:ext cx="8229600" cy="3924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групповой работ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6320" y="980640"/>
            <a:ext cx="895824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Круговой сбор идей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состоит в том, что руководитель предлагает каждому отдельно обдумать проблему, сформулировать несколько вариантов решения и всем по очереди высказывать мнения о них с фиксацией на доск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cc"/>
                </a:solidFill>
                <a:latin typeface="Arial"/>
              </a:rPr>
              <a:t>Метод </a:t>
            </a: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свободных ассоциаций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заключается в том, что руководитель пишет на бумаге слово (фразу), которое имеет отношение к данной проблеме, а каждый из участников дополняет запись своими. В результате возникает мыслительная цепочка, раскрывающая проблему с разных сторон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cc"/>
                </a:solidFill>
                <a:latin typeface="Arial"/>
              </a:rPr>
              <a:t>Метод </a:t>
            </a: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сравнительных оценок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редполагает, что участники дают характеристику в условных баллах (от 1 до 5) тому или иному параметру проблемы. Затем выводится их средняя оценка, на основе которой члены группы разбиваются на две половины (одна с оценками ниже средней, а другая ѕ выше), пытаясь доказать друг другу свою правоту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333cc"/>
                </a:solidFill>
                <a:latin typeface="Arial"/>
              </a:rPr>
              <a:t>Метод </a:t>
            </a: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расстановки элементов проблемы по значимост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состоит в том, что участники ранжируют их по важности, продолжительности работы над ними и т. п. Все предложения записываются на доске и обсуждаются в форме конференци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Метод 635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редполагает, что после постановки проблемы каждый из 6 участников получает возможность обдумать ее несколько дней. Затем, собравшись вместе, они проводят 5 раундов мозговой атаки на бумаге. Продолжительность первого 5 мин, а каждого последующего на одну минуту больше. Поскольку каждый раз на карточку необходимо записать по 3 идеи, в конечном итоге можно получить 108 предложени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3333cc"/>
                </a:solidFill>
                <a:latin typeface="Arial"/>
              </a:rPr>
              <a:t>Метод синектик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подобен мозговой атаке. Проблема рассматривается группой из 9 человек. Руководитель объясняет проблему, а участники предлагают варианты решения, которые тот анализирует, оценивает и при необходимости ставит новые задачи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Статистические мет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число этих методов входят «семь инструментов качества», среди которых при разработке решений использу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лист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ы Парет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а Исикав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кар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ь простых инструментов контроля качест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лис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ст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ат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ы расссе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Паре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чинно-следственная диаграмма (диаграмма Ишикавы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ка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ный лист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" descr="7tools-2"/>
          <p:cNvPicPr/>
          <p:nvPr/>
        </p:nvPicPr>
        <p:blipFill>
          <a:blip r:embed="rId1"/>
          <a:stretch/>
        </p:blipFill>
        <p:spPr>
          <a:xfrm>
            <a:off x="179280" y="1341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цип Парето для повышения качества государственных услуг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рамма Парето позволяет распределить усилия для разрешения возникающих проблем и установить основные факторы, с которых нужно начинать действовать с целью преодоления возникающих пробл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личают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ва вида диаграмм Паре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диаграмма Парето по результатам деятельности и диаграмма Парето по причина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льфредо Парето (1848—192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97 году итальянский экономист Вильфредо Парето (1848—1923) предложил формулу, показывающую, чт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лага распределяются неравномер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же теория была проиллюстрирована американским экономистом М. Лоренцом в 1907 г. на диаграмме. Оба ученых показали, что в большинстве случаев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ибольшая доля благ (доходов) принадлежит небольшому числу люд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7" descr="01sld4"/>
          <p:cNvPicPr/>
          <p:nvPr/>
        </p:nvPicPr>
        <p:blipFill>
          <a:blip r:embed="rId1"/>
          <a:stretch/>
        </p:blipFill>
        <p:spPr>
          <a:xfrm>
            <a:off x="1017720" y="1981080"/>
            <a:ext cx="2916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жозеф Джур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5464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жозеф Джур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одился 24 декабря 1904 г. в городе Браила, в Румынии в семье сапожника. Его семья проживала в городе Карпатия до 1912 г., а затем эмигрировала в США.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ж. Джур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женился в 1926 г. Он имеет четырех сыновей, девятерых внуков и пятерых правнуков. Дж. Джуран получил степень бакалавра электротехники в Минесотском университете и степень доктора юриспруденции в Университете Лойолы в Чикаго 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Ettor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1994)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чение своей многолетней карьеры Дж. Джуран работал инженером, руководящим работником промышленного предприятия, государственным управляющим, университетским профессором, третейским судьей в трудовых спорах, президентом корпорации и консультантом по проблемам менеджмента 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Jura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1988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7" descr="0"/>
          <p:cNvPicPr/>
          <p:nvPr/>
        </p:nvPicPr>
        <p:blipFill>
          <a:blip r:embed="rId1"/>
          <a:stretch/>
        </p:blipFill>
        <p:spPr>
          <a:xfrm>
            <a:off x="5238720" y="2143080"/>
            <a:ext cx="28576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ядок построения диаграммы Пар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начала следует реши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облемы необходимо исследовать (например, дефектные изделия, потери в деньгах, несчастные случа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данные нужно собрать и как их классифицировать (например, по видам дефектов, по месту их появления, по процессам, по станкам, по рабочим, по технологическим причинам, по оборудованию, по методам измерения и применяемым измерительным средствам; нечасто встречающиеся признаки объединяют под общим заголовком «прочие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ь метод и период сбора да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работка контрольного листка для регистрации данных с перечнем видов собираемой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аполнение листка регистрации данных и подсчет ит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работка таблицы для проверок данных с графами для итогов по каждому проверяемому признаку в отдельности, накопленной суммы числа дефектов, процентов к общему итогу и накопленных проц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сположение данных, полученных по каждому проверяемому признаку, в порядке значимости и заполнение табли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j0299125"/>
          <p:cNvPicPr/>
          <p:nvPr/>
        </p:nvPicPr>
        <p:blipFill>
          <a:blip r:embed="rId1"/>
          <a:stretch/>
        </p:blipFill>
        <p:spPr>
          <a:xfrm>
            <a:off x="6732720" y="260280"/>
            <a:ext cx="2089080" cy="1805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684360" y="620640"/>
            <a:ext cx="5759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ле́ма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др.-греч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προβλήμα) —             положение, причинность, условие, вопрос, объект, который создаёт затруднение, побуждает к действию и связан с избыточностью или недостатком чего-либо для сознания субъекта, например: процессора (движителя, калькулятора, компьютера, специалиста), знаний, ресурсов, регламента (упорядоченности, алгоритма, программы) и побуждает к действию или ограничивает его и соответственно неразрешён или нежелате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0" y="476280"/>
          <a:ext cx="9144000" cy="6396120"/>
        </p:xfrm>
        <a:graphic>
          <a:graphicData uri="http://schemas.openxmlformats.org/drawingml/2006/table">
            <a:tbl>
              <a:tblPr/>
              <a:tblGrid>
                <a:gridCol w="1452600"/>
                <a:gridCol w="965160"/>
                <a:gridCol w="2016000"/>
                <a:gridCol w="3400560"/>
                <a:gridCol w="1309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ы деф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еф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опленная сумма числа деф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числа дефектов по каждому признаку к общей сум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копленный проц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дор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орка ули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ечка крыш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усл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ве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реди в поликлинни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—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ядок построения диаграммы Паре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Нанесение горизонтальной и вертикальной ос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тикальная ось содержи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цен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горизонтальная —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тервал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оответствии с числом контролируемых призн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изонтальную ось разбивают на интервалы в соответствии с количеством контролируемых призн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тап 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троение столбиковой диа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7" descr=" Рисунок 1. Диаграмма Парето"/>
          <p:cNvPicPr/>
          <p:nvPr/>
        </p:nvPicPr>
        <p:blipFill>
          <a:blip r:embed="rId1"/>
          <a:stretch/>
        </p:blipFill>
        <p:spPr>
          <a:xfrm>
            <a:off x="4716360" y="1916280"/>
            <a:ext cx="3888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ядок построения диаграммы Паре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ап 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оведение на диаграмме кумулятивной кривой (кривой Парето) (рис.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ап 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несение на диаграмму всех обозначений и надписей, касающихся диаграммы (название, разметка числовых значений на осях, наименование контролируемого изделия, имя составителя диаграммы), и данных (период сбора информации, объект исследования и место его проведения, общее число объектов контрол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3" descr="7tools-7"/>
          <p:cNvPicPr/>
          <p:nvPr/>
        </p:nvPicPr>
        <p:blipFill>
          <a:blip r:embed="rId1"/>
          <a:stretch/>
        </p:blipFill>
        <p:spPr>
          <a:xfrm>
            <a:off x="324000" y="1989000"/>
            <a:ext cx="4392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щность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ВС-анализ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А — наиболее важные, существенные проблемы, причины, дефекты. Относительный процент группы А в общем количестве дефектов (причин) обычно составляет от 60 до 80%. Соответственно устранение причин группы Л имеет большой приоритет, а связанные с этим мероприятия — самую высокую эффектив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В — причины, которые в сумме имеют не более 20%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 С — самые многочисленные, но при этом наименее значимые причины и пробл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7" descr="Рисунок 3. АВС-анализ в рамках диаграммы Парето"/>
          <p:cNvPicPr/>
          <p:nvPr/>
        </p:nvPicPr>
        <p:blipFill>
          <a:blip r:embed="rId1"/>
          <a:stretch/>
        </p:blipFill>
        <p:spPr>
          <a:xfrm>
            <a:off x="4643280" y="1628640"/>
            <a:ext cx="4176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чинно-следственная сх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48320" y="1699920"/>
            <a:ext cx="4038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ору Исикава (1915-1990) – известный японский ученый в области управления качеством, с именем которого также связывают возрождение и развитие японской экономики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 Исикава ввел в мировую практику новый оригинальный практический метод анализа причинно-следственных связей, получивший название диаграммы Исискавы («рыбья кость Исикавы») и вошедший в состав инструментов контроля ка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il_fi" descr="Kaoru"/>
          <p:cNvPicPr/>
          <p:nvPr/>
        </p:nvPicPr>
        <p:blipFill>
          <a:blip r:embed="rId1"/>
          <a:stretch/>
        </p:blipFill>
        <p:spPr>
          <a:xfrm>
            <a:off x="826920" y="1700280"/>
            <a:ext cx="3313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но-следственная диаграмма («рыбий скеле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" descr="Гистограмма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ие правила постро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жде чем приступать к построению диаграммы, все участники должны прийти к единому мнению относительно формулировки пробл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аемая проблема записывается с правой стороны в середине чистого листа бумаги и заключается в рамку, к которой слева подходит основная горизонтальная стрелка - "хребет" (диаграмму Исикавы из-за внешнего вида часто называют "рыбьим скелетом"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носятся главные причины (причины уровня 1), влияющие на проблему, - "большие кости". Они заключаются в рамки и соединяются наклонными стрелками с "хребтом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 наносятся вторичные причины (причины уровня 2), которые влияют на главные причины ("большие кости"), а те, в свою очередь, являются следствием вторичных причин. Вторичные причины записываются и располагаются в виде "средних костей", примыкающих к "большим". Причины уровня 3, которые влияют на причины уровня 2, располагаются в виде "мелких костей", примыкающих к "средним", и т. д. (Если на диаграмме приведены не все причины, то одна стрелка оставляется пусто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анализе должны выявляться и фиксироваться все факторы, даже те, которые кажутся незначительными, так как цель схемы - отыскать наиболее правильный путь и эффективный способ решения пробл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(факторы) оцениваются и ранжируются по их значимости, выделяя особо важные, которые предположительно оказывают наибольшее влияние на показатель каче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иаграмму вносится вся необходимая информация: ее название; наименование изделия; имена участников; дата и т. 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ВОЙСТВА КАЧЕСТВЕННЫХ РЕ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179280" y="1627560"/>
            <a:ext cx="871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д качеством управленческих решен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нимается совокупность свойств, обеспечивающих их успешное выполнение и получение определенного эффекта для организации. К числу таких свойств относятся обоснованность решения, эффективность, своевременность, непротиворечивость, правомочность, полномочность, конкретность, простота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йства качественны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основан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ческого решения проявляется в необходимости учета всей совокупности факторов и условий, связанных с его разработкой. При этом важное место отводится качеству используемой информации, ее достоверности и полноте, своевременности ее посту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ффективнос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правленческого решения подчеркивает обязательность соотношения ожидаемого и достигнутого экономического и социального эффекта с затратами на его разработку и реализа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= Эффект/Затраты на разработку и реализацию 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актике деятельности предприятий находит применение показатель, косвенно характеризующий качество управленческих реш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к = ((Рв – Рн)/ Рп) х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Кк – коэффициент качества управленческих ре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в – количество выполненных управленческих ре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н – количество выполненных некачественных ре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п – общее количество принятых ре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войства качественных решений (продолжение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воевремен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оказатель, отражающий важность принятия решения в установленный срок, поскольку несвоевременно принятое решение либо теряет свою значимость, либо требует пересмотра ситуации, в которой возникла пробл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противоречив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правленческого решения выражает необходимость его предварительного согласования с ранее принятыми в данной организации, а также проверки соответствия нормативно-правовым докуме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вомо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ешения состоит в том, что оно должно приниматься на том уровне управления, который имеет на это соответствующие полномочия (законное право, основа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нкрет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правленческого решения проявляется в четком указании: кто, что и когда должен выполн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проблемы (п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В.Шевыреву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0" y="1413000"/>
            <a:ext cx="8748720" cy="5445000"/>
            <a:chOff x="0" y="1413000"/>
            <a:chExt cx="8748720" cy="5445000"/>
          </a:xfrm>
        </p:grpSpPr>
        <p:sp>
          <p:nvSpPr>
            <p:cNvPr id="213" name="AutoShape 6"/>
            <p:cNvSpPr/>
            <p:nvPr/>
          </p:nvSpPr>
          <p:spPr>
            <a:xfrm>
              <a:off x="0" y="1413000"/>
              <a:ext cx="8748720" cy="54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7"/>
            <p:cNvGrpSpPr/>
            <p:nvPr/>
          </p:nvGrpSpPr>
          <p:grpSpPr>
            <a:xfrm>
              <a:off x="393120" y="1465560"/>
              <a:ext cx="7855560" cy="5238000"/>
              <a:chOff x="393120" y="1465560"/>
              <a:chExt cx="7855560" cy="5238000"/>
            </a:xfrm>
          </p:grpSpPr>
          <p:sp>
            <p:nvSpPr>
              <p:cNvPr id="215" name="Rectangle 8"/>
              <p:cNvSpPr/>
              <p:nvPr/>
            </p:nvSpPr>
            <p:spPr>
              <a:xfrm>
                <a:off x="2836800" y="1465560"/>
                <a:ext cx="3090240" cy="166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1800" spc="-1" strike="noStrike">
                    <a:solidFill>
                      <a:srgbClr val="000000"/>
                    </a:solidFill>
                    <a:latin typeface="Arial"/>
                  </a:rPr>
                  <a:t>Внешняя сред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9"/>
              <p:cNvSpPr/>
              <p:nvPr/>
            </p:nvSpPr>
            <p:spPr>
              <a:xfrm>
                <a:off x="3146400" y="2000520"/>
                <a:ext cx="2470320" cy="102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Внутреняя структура проблемы: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Объект, субъект, цель, предмет, средства, ограничения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393120" y="3298320"/>
                <a:ext cx="2079000" cy="112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Техник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реш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1"/>
              <p:cNvSpPr/>
              <p:nvPr/>
            </p:nvSpPr>
            <p:spPr>
              <a:xfrm>
                <a:off x="6170040" y="3314520"/>
                <a:ext cx="2078640" cy="112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Психология реш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2"/>
              <p:cNvSpPr/>
              <p:nvPr/>
            </p:nvSpPr>
            <p:spPr>
              <a:xfrm>
                <a:off x="3430800" y="4766040"/>
                <a:ext cx="2078640" cy="112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Процес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мышлен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3"/>
              <p:cNvSpPr/>
              <p:nvPr/>
            </p:nvSpPr>
            <p:spPr>
              <a:xfrm>
                <a:off x="3403800" y="6111720"/>
                <a:ext cx="2213280" cy="591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Решен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 flipH="1" flipV="1">
                <a:off x="4064040" y="5901120"/>
                <a:ext cx="1404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4901400" y="5892480"/>
                <a:ext cx="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 flipV="1">
                <a:off x="5509440" y="4433040"/>
                <a:ext cx="1726560" cy="125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 flipH="1" flipV="1">
                <a:off x="1527120" y="4417200"/>
                <a:ext cx="1915920" cy="129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 flipV="1">
                <a:off x="1351800" y="2568600"/>
                <a:ext cx="1808640" cy="73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5617080" y="2576520"/>
                <a:ext cx="1632960" cy="73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ЧНОКИ И ВИДЫ НЕОПРЕДЕЛ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предел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яется как не вполне отчетливая, неточная, неясная или уклончивая информация о каком либо объекте или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ритерию определенности различают решения, принятые в услови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оятностной определенности (рис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пределенности (ненадежн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нятие решения в условиях определенности увеличивает оперативность разработки, снижает затраты на выбор целесообразного вариа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неопреде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количестве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обусловленная значительным числом объектов или элементов в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информацио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званная недостатком информации или ее неточностью по техническим, социальным или другим причин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стоимос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из-за слишком высокой или недоступной платы за определен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профессион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ледствие недостаточного профессионализма ЛП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ограничите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званная ограничениями в ситуации принятия решения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ff"/>
                </a:solidFill>
                <a:latin typeface="Arial"/>
              </a:rPr>
              <a:t>внешней сре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вязанная с ее изменением или реакцией конкурента на принятое реш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степени неопределенности информации о проблемной ситуации различ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пределеннос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сходной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и – заранее накопленной, априор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пределеннос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еративн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и – текущие сведения о состоянии объ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пределенность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убъектив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ормации – связанная с невозможностью получения объективных знаний об объек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ы экстремальных ситу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ервый клас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число возможных вариантов развития событий незначительно, есть возможность их предвидения, а следовательно, и подготовки к разрешению возникающих проблем. Эти ситуации разрешаются методами ситуационного управления, для чего разрабатываются специальные стандарты решений по выходу из экстремальных ситу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Второй клас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число возможных вариантов развития событий велико, что исключает предварительную подготовку к разрешению конкретных проблем. Для принятия решений, адекватных сложившейся ситуации, важное значение имеет специальная подготовка персонала, учитывающая временной цейтнот и психологическую перегруз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Третий клас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непрогнозируемые ситуации. Выход из таких ситуаций полностью определяется действиями ЛПР, их интуитивными решени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ятие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 риск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имается вероятность наступления событий, в результате которых возможны непредвиденные потери дохода, имущества, денежных средств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аким образом, принятие решений в условиях риска означает выбор варианта решения в условиях, когда каждое действие приводит к одному из множества возможных частных исходов, причём каждый исход имеет вычисляемую или экспертно определяемую вероятность поя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кторы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раниченная сфера государственного регулирования хозяйствен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иление роли случайных факторов при взаимодействии организации с внешней сред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ная собствен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курентная борьба товаропроизводител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оятность возникновения рисковых ситуаций на отдельных этапах жизненного цикла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лассификация ристков по источнику возникнов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24000" y="1353600"/>
            <a:ext cx="864072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риродно-естественны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риски, связанные с проявлением стихийных сил природы (землетрясение, наводнение, буря, пожар, эпидемия и т.п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Экологически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риски, связанные с загрязнением окружающей ср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олитически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риски, связанные с политической ситуацией в стране и деятельностью государства. Политические риски возникают при нарушении условий производственно- торгового процесса по причинам, непосредственно не зависящим от хозяйствующего субъ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Транспортны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риски, связанные с перевозками грузов транспортом: автомобильным, морским, речным, железнодорож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летам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Коммерческие рис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яют собой опасность потерь в процессе финансово-хозяйственной деятельности. Они могут появиться в результате снижения уровня продаж на рынке, повышения тарифов на перевозку грузов, колебания валютного кур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 коммерческих рис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9999"/>
                </a:solidFill>
                <a:latin typeface="Arial"/>
              </a:rPr>
              <a:t>Имущественные рис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риски, связанные с вероятностью потерь имущества предпринимателя по причине кражи, диверсии, халатности, перенапряжения технической и технологической систем и т.п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9999"/>
                </a:solidFill>
                <a:latin typeface="Arial"/>
              </a:rPr>
              <a:t>Проuзводственные рис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это риски, связанные с убытком от остановки производства вследствие воздействия различных факторов и, прежде всего, с гибелью или повреждением основных и оборотных фондов (оборудование, сырьё, транспорт и т.п.), а также риски, связанные с внедрением в производство новой техники и технолог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9999"/>
                </a:solidFill>
                <a:latin typeface="Arial"/>
              </a:rPr>
              <a:t>Торговые рис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едставляют собой риски, связанные с убытком по причине задержки платежей, отказа от платежа в период транспортировки товара, непоставки товара и т.п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9999"/>
                </a:solidFill>
                <a:latin typeface="Arial"/>
              </a:rPr>
              <a:t>Финансовые риск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вязаны с вероятностью потерь финансовых ресур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вни ри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устим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имеется угроза полной потери прибыли от реализации планируемого про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тиче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возможно непоступление прибыли и выручки, а также покрытие убытков за счёт средств предпринимат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тастрофическ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возможны потеря капитала, имущества и банкротство предпринима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оценки р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Arial"/>
              </a:rPr>
              <a:t>Статистический мет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оит в статистическом анализе потерь, наблюдавшихся в аналогичных   видах хозяйственной деятельности, установлении их уровней и частоты появ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Arial"/>
              </a:rPr>
              <a:t>Экспертный мет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ключается в сборе и обработке мнений опытных предпринимателей, менеджеров и специалистов, дающих свои оценки вероятности возникновения определённых уровней потерь в конкретных коммерческих операц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00cc"/>
                </a:solidFill>
                <a:latin typeface="Arial"/>
              </a:rPr>
              <a:t>Расчётно-аналитический мет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азируется на математических моделях, предлагаемых теорией вероятностей, теорией игр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5"/>
          <p:cNvGrpSpPr/>
          <p:nvPr/>
        </p:nvGrpSpPr>
        <p:grpSpPr>
          <a:xfrm>
            <a:off x="71280" y="142920"/>
            <a:ext cx="8858160" cy="6571800"/>
            <a:chOff x="71280" y="142920"/>
            <a:chExt cx="8858160" cy="6571800"/>
          </a:xfrm>
        </p:grpSpPr>
        <p:sp>
          <p:nvSpPr>
            <p:cNvPr id="228" name="Rectangle 6"/>
            <p:cNvSpPr/>
            <p:nvPr/>
          </p:nvSpPr>
          <p:spPr>
            <a:xfrm>
              <a:off x="71280" y="3037680"/>
              <a:ext cx="1283040" cy="108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иды управленческих реш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7"/>
            <p:cNvSpPr/>
            <p:nvPr/>
          </p:nvSpPr>
          <p:spPr>
            <a:xfrm>
              <a:off x="2417040" y="142920"/>
              <a:ext cx="231696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Источник возникнов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8"/>
            <p:cNvSpPr/>
            <p:nvPr/>
          </p:nvSpPr>
          <p:spPr>
            <a:xfrm>
              <a:off x="2432160" y="915480"/>
              <a:ext cx="2331720" cy="51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пособ доведения реш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9"/>
            <p:cNvSpPr/>
            <p:nvPr/>
          </p:nvSpPr>
          <p:spPr>
            <a:xfrm>
              <a:off x="2433240" y="1791720"/>
              <a:ext cx="2330640" cy="47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убъект принятия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0"/>
            <p:cNvSpPr/>
            <p:nvPr/>
          </p:nvSpPr>
          <p:spPr>
            <a:xfrm>
              <a:off x="2417040" y="2470320"/>
              <a:ext cx="2330640" cy="47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тепень новизны (уникальности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1"/>
            <p:cNvSpPr/>
            <p:nvPr/>
          </p:nvSpPr>
          <p:spPr>
            <a:xfrm>
              <a:off x="2401920" y="3211920"/>
              <a:ext cx="2330280" cy="47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Наличие информ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2"/>
            <p:cNvSpPr/>
            <p:nvPr/>
          </p:nvSpPr>
          <p:spPr>
            <a:xfrm>
              <a:off x="2433240" y="4001400"/>
              <a:ext cx="233064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Методы разработки реш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3"/>
            <p:cNvSpPr/>
            <p:nvPr/>
          </p:nvSpPr>
          <p:spPr>
            <a:xfrm>
              <a:off x="2433240" y="4719600"/>
              <a:ext cx="233064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Целевая направлен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4"/>
            <p:cNvSpPr/>
            <p:nvPr/>
          </p:nvSpPr>
          <p:spPr>
            <a:xfrm>
              <a:off x="2464920" y="5516640"/>
              <a:ext cx="2330640" cy="4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одержание реш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5"/>
            <p:cNvSpPr/>
            <p:nvPr/>
          </p:nvSpPr>
          <p:spPr>
            <a:xfrm>
              <a:off x="2449800" y="6210720"/>
              <a:ext cx="2327760" cy="47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Перио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действ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6"/>
            <p:cNvSpPr/>
            <p:nvPr/>
          </p:nvSpPr>
          <p:spPr>
            <a:xfrm>
              <a:off x="1776600" y="379080"/>
              <a:ext cx="16200" cy="606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1347480" y="3582360"/>
              <a:ext cx="4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8"/>
            <p:cNvSpPr/>
            <p:nvPr/>
          </p:nvSpPr>
          <p:spPr>
            <a:xfrm>
              <a:off x="1776600" y="387360"/>
              <a:ext cx="63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9"/>
            <p:cNvSpPr/>
            <p:nvPr/>
          </p:nvSpPr>
          <p:spPr>
            <a:xfrm>
              <a:off x="1776600" y="119196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0"/>
            <p:cNvSpPr/>
            <p:nvPr/>
          </p:nvSpPr>
          <p:spPr>
            <a:xfrm>
              <a:off x="1776600" y="203580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>
              <a:off x="1776600" y="2722680"/>
              <a:ext cx="63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2"/>
            <p:cNvSpPr/>
            <p:nvPr/>
          </p:nvSpPr>
          <p:spPr>
            <a:xfrm>
              <a:off x="1776600" y="426096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3"/>
            <p:cNvSpPr/>
            <p:nvPr/>
          </p:nvSpPr>
          <p:spPr>
            <a:xfrm>
              <a:off x="1776600" y="497124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4"/>
            <p:cNvSpPr/>
            <p:nvPr/>
          </p:nvSpPr>
          <p:spPr>
            <a:xfrm>
              <a:off x="1792800" y="5744160"/>
              <a:ext cx="66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5"/>
            <p:cNvSpPr/>
            <p:nvPr/>
          </p:nvSpPr>
          <p:spPr>
            <a:xfrm>
              <a:off x="1792800" y="6445800"/>
              <a:ext cx="64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6"/>
            <p:cNvSpPr/>
            <p:nvPr/>
          </p:nvSpPr>
          <p:spPr>
            <a:xfrm>
              <a:off x="5807160" y="158400"/>
              <a:ext cx="3030120" cy="1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Инициат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7"/>
            <p:cNvSpPr/>
            <p:nvPr/>
          </p:nvSpPr>
          <p:spPr>
            <a:xfrm>
              <a:off x="5807160" y="426240"/>
              <a:ext cx="302868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 предписан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8"/>
            <p:cNvSpPr/>
            <p:nvPr/>
          </p:nvSpPr>
          <p:spPr>
            <a:xfrm>
              <a:off x="5792040" y="907560"/>
              <a:ext cx="30276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Уст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9"/>
            <p:cNvSpPr/>
            <p:nvPr/>
          </p:nvSpPr>
          <p:spPr>
            <a:xfrm>
              <a:off x="5792040" y="1206720"/>
              <a:ext cx="3027600" cy="18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исьм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0"/>
            <p:cNvSpPr/>
            <p:nvPr/>
          </p:nvSpPr>
          <p:spPr>
            <a:xfrm>
              <a:off x="5807160" y="1791000"/>
              <a:ext cx="302868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Индивидуаль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1"/>
            <p:cNvSpPr/>
            <p:nvPr/>
          </p:nvSpPr>
          <p:spPr>
            <a:xfrm>
              <a:off x="5807160" y="2098800"/>
              <a:ext cx="302868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ллект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2"/>
            <p:cNvSpPr/>
            <p:nvPr/>
          </p:nvSpPr>
          <p:spPr>
            <a:xfrm>
              <a:off x="5823720" y="2477520"/>
              <a:ext cx="302724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радицио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3"/>
            <p:cNvSpPr/>
            <p:nvPr/>
          </p:nvSpPr>
          <p:spPr>
            <a:xfrm>
              <a:off x="5825160" y="2753280"/>
              <a:ext cx="302472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вор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4"/>
            <p:cNvSpPr/>
            <p:nvPr/>
          </p:nvSpPr>
          <p:spPr>
            <a:xfrm>
              <a:off x="5825160" y="3045240"/>
              <a:ext cx="302472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предел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5"/>
            <p:cNvSpPr/>
            <p:nvPr/>
          </p:nvSpPr>
          <p:spPr>
            <a:xfrm>
              <a:off x="5856840" y="330552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ероятност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6"/>
            <p:cNvSpPr/>
            <p:nvPr/>
          </p:nvSpPr>
          <p:spPr>
            <a:xfrm>
              <a:off x="5856840" y="355860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Неопредел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7"/>
            <p:cNvSpPr/>
            <p:nvPr/>
          </p:nvSpPr>
          <p:spPr>
            <a:xfrm>
              <a:off x="5840280" y="399996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личеств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8"/>
            <p:cNvSpPr/>
            <p:nvPr/>
          </p:nvSpPr>
          <p:spPr>
            <a:xfrm>
              <a:off x="5840280" y="4323240"/>
              <a:ext cx="3024360" cy="18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Эвристи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9"/>
            <p:cNvSpPr/>
            <p:nvPr/>
          </p:nvSpPr>
          <p:spPr>
            <a:xfrm>
              <a:off x="5856840" y="471816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дноцелев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40"/>
            <p:cNvSpPr/>
            <p:nvPr/>
          </p:nvSpPr>
          <p:spPr>
            <a:xfrm>
              <a:off x="5870520" y="4986720"/>
              <a:ext cx="302724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Многоцелев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41"/>
            <p:cNvSpPr/>
            <p:nvPr/>
          </p:nvSpPr>
          <p:spPr>
            <a:xfrm>
              <a:off x="5887080" y="5247000"/>
              <a:ext cx="30258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42"/>
            <p:cNvSpPr/>
            <p:nvPr/>
          </p:nvSpPr>
          <p:spPr>
            <a:xfrm>
              <a:off x="5887080" y="5499360"/>
              <a:ext cx="30258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ехническ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43"/>
            <p:cNvSpPr/>
            <p:nvPr/>
          </p:nvSpPr>
          <p:spPr>
            <a:xfrm>
              <a:off x="5887080" y="5744160"/>
              <a:ext cx="30258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циаль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44"/>
            <p:cNvSpPr/>
            <p:nvPr/>
          </p:nvSpPr>
          <p:spPr>
            <a:xfrm>
              <a:off x="5903640" y="5988600"/>
              <a:ext cx="302580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рганизацио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45"/>
            <p:cNvSpPr/>
            <p:nvPr/>
          </p:nvSpPr>
          <p:spPr>
            <a:xfrm>
              <a:off x="5903640" y="6249240"/>
              <a:ext cx="3024360" cy="18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олговремен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46"/>
            <p:cNvSpPr/>
            <p:nvPr/>
          </p:nvSpPr>
          <p:spPr>
            <a:xfrm>
              <a:off x="5888160" y="6532560"/>
              <a:ext cx="3023280" cy="18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перат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7"/>
            <p:cNvSpPr/>
            <p:nvPr/>
          </p:nvSpPr>
          <p:spPr>
            <a:xfrm>
              <a:off x="4775040" y="6336000"/>
              <a:ext cx="112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48"/>
            <p:cNvSpPr/>
            <p:nvPr/>
          </p:nvSpPr>
          <p:spPr>
            <a:xfrm>
              <a:off x="4791600" y="6603840"/>
              <a:ext cx="10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9"/>
            <p:cNvSpPr/>
            <p:nvPr/>
          </p:nvSpPr>
          <p:spPr>
            <a:xfrm>
              <a:off x="5347080" y="5349600"/>
              <a:ext cx="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50"/>
            <p:cNvSpPr/>
            <p:nvPr/>
          </p:nvSpPr>
          <p:spPr>
            <a:xfrm>
              <a:off x="4791600" y="5752080"/>
              <a:ext cx="55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51"/>
            <p:cNvSpPr/>
            <p:nvPr/>
          </p:nvSpPr>
          <p:spPr>
            <a:xfrm>
              <a:off x="5347080" y="5357160"/>
              <a:ext cx="5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2"/>
            <p:cNvSpPr/>
            <p:nvPr/>
          </p:nvSpPr>
          <p:spPr>
            <a:xfrm>
              <a:off x="5347080" y="5594400"/>
              <a:ext cx="5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3"/>
            <p:cNvSpPr/>
            <p:nvPr/>
          </p:nvSpPr>
          <p:spPr>
            <a:xfrm>
              <a:off x="5347080" y="5838840"/>
              <a:ext cx="5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54"/>
            <p:cNvSpPr/>
            <p:nvPr/>
          </p:nvSpPr>
          <p:spPr>
            <a:xfrm>
              <a:off x="5361840" y="6091200"/>
              <a:ext cx="54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55"/>
            <p:cNvSpPr/>
            <p:nvPr/>
          </p:nvSpPr>
          <p:spPr>
            <a:xfrm>
              <a:off x="4760280" y="4804920"/>
              <a:ext cx="10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56"/>
            <p:cNvSpPr/>
            <p:nvPr/>
          </p:nvSpPr>
          <p:spPr>
            <a:xfrm>
              <a:off x="4760280" y="5073480"/>
              <a:ext cx="11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4760280" y="4071600"/>
              <a:ext cx="10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4760280" y="4434480"/>
              <a:ext cx="10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5283720" y="3132720"/>
              <a:ext cx="0" cy="51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60"/>
            <p:cNvSpPr/>
            <p:nvPr/>
          </p:nvSpPr>
          <p:spPr>
            <a:xfrm>
              <a:off x="4727160" y="3424320"/>
              <a:ext cx="55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61"/>
            <p:cNvSpPr/>
            <p:nvPr/>
          </p:nvSpPr>
          <p:spPr>
            <a:xfrm>
              <a:off x="5298840" y="3140640"/>
              <a:ext cx="5400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62"/>
            <p:cNvSpPr/>
            <p:nvPr/>
          </p:nvSpPr>
          <p:spPr>
            <a:xfrm>
              <a:off x="5283720" y="3393000"/>
              <a:ext cx="57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3"/>
            <p:cNvSpPr/>
            <p:nvPr/>
          </p:nvSpPr>
          <p:spPr>
            <a:xfrm>
              <a:off x="5283720" y="3652560"/>
              <a:ext cx="570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4"/>
            <p:cNvSpPr/>
            <p:nvPr/>
          </p:nvSpPr>
          <p:spPr>
            <a:xfrm>
              <a:off x="4743720" y="2549160"/>
              <a:ext cx="10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65"/>
            <p:cNvSpPr/>
            <p:nvPr/>
          </p:nvSpPr>
          <p:spPr>
            <a:xfrm>
              <a:off x="4743720" y="2848320"/>
              <a:ext cx="107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6"/>
            <p:cNvSpPr/>
            <p:nvPr/>
          </p:nvSpPr>
          <p:spPr>
            <a:xfrm>
              <a:off x="4760280" y="1877760"/>
              <a:ext cx="104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7"/>
            <p:cNvSpPr/>
            <p:nvPr/>
          </p:nvSpPr>
          <p:spPr>
            <a:xfrm>
              <a:off x="4760280" y="2201760"/>
              <a:ext cx="104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68"/>
            <p:cNvSpPr/>
            <p:nvPr/>
          </p:nvSpPr>
          <p:spPr>
            <a:xfrm>
              <a:off x="4727160" y="221400"/>
              <a:ext cx="10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69"/>
            <p:cNvSpPr/>
            <p:nvPr/>
          </p:nvSpPr>
          <p:spPr>
            <a:xfrm>
              <a:off x="4727160" y="521280"/>
              <a:ext cx="10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70"/>
            <p:cNvSpPr/>
            <p:nvPr/>
          </p:nvSpPr>
          <p:spPr>
            <a:xfrm>
              <a:off x="4760280" y="101052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71"/>
            <p:cNvSpPr/>
            <p:nvPr/>
          </p:nvSpPr>
          <p:spPr>
            <a:xfrm>
              <a:off x="4760280" y="1302480"/>
              <a:ext cx="103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риск-менедж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Риск-менеджмент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 специальная форма предпринимательской деятельности, которая направлена на управление рисками в организаци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новными задачами риск-менеджмента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~ выявление и классификация основных видов рис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~ расчёт адекватной и легко интерпретируемой количественной меры рис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~ принятие решений об уменьшении или увеличении выявленных рис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~ разработка и реализация процедур контроля за рисками текущих пози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снижения р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бежание риска - уклонения от мероприятия, связанного с рис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ержание риска - оставление риска за инвестором (предполагая покрытие возможных убытков за счёт резервных средств инвестор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ача риска - передача ответственности за риск, например, страховой комп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ижение степени риска - уменьшение вероятности потерь и сокращение ожидаемого их объё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атегии снижения р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тщательная предварительная эксперти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риантов принимаемого решения и оценка соответствующих уровней ри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иверсифик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аспределение риска между несколькими объектами, видами деятельности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 эффективных систем контро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зволяющих своевременно выявлять и предотвращать возможные потер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спределение рис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полагает разделение риска между участниками про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лимит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установление предельных сумм расходов, продажи товаров в кредит, сумм вложения капитала и т.д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 на среднюю норму прибы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.к. постоянное  стремление к более высокой прибыли существенно увеличивает рис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амострах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 счёт создания натуральных и денежных резервных (страховых) фон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трах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исков в страховых организац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5148360" y="2349000"/>
            <a:ext cx="373680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WordArt 6"/>
          <p:cNvSpPr txBox="1"/>
          <p:nvPr/>
        </p:nvSpPr>
        <p:spPr>
          <a:xfrm>
            <a:off x="826920" y="765000"/>
            <a:ext cx="7201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9" name="Picture 7" descr="j0234657"/>
          <p:cNvPicPr/>
          <p:nvPr/>
        </p:nvPicPr>
        <p:blipFill>
          <a:blip r:embed="rId1"/>
          <a:stretch/>
        </p:blipFill>
        <p:spPr>
          <a:xfrm>
            <a:off x="4859280" y="2421000"/>
            <a:ext cx="38163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зненный цикл управленческого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5"/>
          <p:cNvGrpSpPr/>
          <p:nvPr/>
        </p:nvGrpSpPr>
        <p:grpSpPr>
          <a:xfrm>
            <a:off x="324000" y="720720"/>
            <a:ext cx="8496000" cy="5948280"/>
            <a:chOff x="324000" y="720720"/>
            <a:chExt cx="8496000" cy="5948280"/>
          </a:xfrm>
        </p:grpSpPr>
        <p:sp>
          <p:nvSpPr>
            <p:cNvPr id="296" name="AutoShape 6"/>
            <p:cNvSpPr/>
            <p:nvPr/>
          </p:nvSpPr>
          <p:spPr>
            <a:xfrm>
              <a:off x="324000" y="720720"/>
              <a:ext cx="8496000" cy="59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"/>
            <p:cNvSpPr/>
            <p:nvPr/>
          </p:nvSpPr>
          <p:spPr>
            <a:xfrm>
              <a:off x="6598080" y="2347560"/>
              <a:ext cx="2221560" cy="95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Анализ эффективности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(формирования банка данны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8"/>
            <p:cNvSpPr/>
            <p:nvPr/>
          </p:nvSpPr>
          <p:spPr>
            <a:xfrm>
              <a:off x="4295880" y="1259640"/>
              <a:ext cx="2507400" cy="62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еализация управленческого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9"/>
            <p:cNvSpPr/>
            <p:nvPr/>
          </p:nvSpPr>
          <p:spPr>
            <a:xfrm>
              <a:off x="2621520" y="2871000"/>
              <a:ext cx="2247480" cy="60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инятие управленческого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0"/>
            <p:cNvSpPr/>
            <p:nvPr/>
          </p:nvSpPr>
          <p:spPr>
            <a:xfrm>
              <a:off x="1544040" y="4460760"/>
              <a:ext cx="2166120" cy="63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азработка управленческого реш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1"/>
            <p:cNvSpPr/>
            <p:nvPr/>
          </p:nvSpPr>
          <p:spPr>
            <a:xfrm>
              <a:off x="373320" y="5720400"/>
              <a:ext cx="2451960" cy="67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озникновение пробле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2"/>
            <p:cNvSpPr/>
            <p:nvPr/>
          </p:nvSpPr>
          <p:spPr>
            <a:xfrm flipV="1">
              <a:off x="1666440" y="5100480"/>
              <a:ext cx="1036080" cy="64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3"/>
            <p:cNvSpPr/>
            <p:nvPr/>
          </p:nvSpPr>
          <p:spPr>
            <a:xfrm flipV="1">
              <a:off x="3165480" y="3448800"/>
              <a:ext cx="463680" cy="99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14"/>
            <p:cNvSpPr/>
            <p:nvPr/>
          </p:nvSpPr>
          <p:spPr>
            <a:xfrm flipV="1">
              <a:off x="3901680" y="1906920"/>
              <a:ext cx="1442880" cy="922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5"/>
            <p:cNvSpPr/>
            <p:nvPr/>
          </p:nvSpPr>
          <p:spPr>
            <a:xfrm>
              <a:off x="6081120" y="1893240"/>
              <a:ext cx="1715760" cy="426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6"/>
            <p:cNvSpPr/>
            <p:nvPr/>
          </p:nvSpPr>
          <p:spPr>
            <a:xfrm>
              <a:off x="1585080" y="1246320"/>
              <a:ext cx="5994360" cy="2808000"/>
            </a:xfrm>
            <a:custGeom>
              <a:avLst/>
              <a:gdLst>
                <a:gd name="textAreaLeft" fmla="*/ 0 w 5994360"/>
                <a:gd name="textAreaRight" fmla="*/ 5994720 w 5994360"/>
                <a:gd name="textAreaTop" fmla="*/ 0 h 2808000"/>
                <a:gd name="textAreaBottom" fmla="*/ 2808000 h 2808000"/>
              </a:gdLst>
              <a:ahLst/>
              <a:rect l="textAreaLeft" t="textAreaTop" r="textAreaRight" b="textAreaBottom"/>
              <a:pathLst>
                <a:path w="6600" h="6120">
                  <a:moveTo>
                    <a:pt x="0" y="6120"/>
                  </a:moveTo>
                  <a:cubicBezTo>
                    <a:pt x="450" y="6117"/>
                    <a:pt x="900" y="6115"/>
                    <a:pt x="1350" y="6030"/>
                  </a:cubicBezTo>
                  <a:cubicBezTo>
                    <a:pt x="1800" y="5945"/>
                    <a:pt x="2245" y="5830"/>
                    <a:pt x="2700" y="5610"/>
                  </a:cubicBezTo>
                  <a:cubicBezTo>
                    <a:pt x="3155" y="5390"/>
                    <a:pt x="3695" y="5120"/>
                    <a:pt x="4080" y="4710"/>
                  </a:cubicBezTo>
                  <a:cubicBezTo>
                    <a:pt x="4465" y="4300"/>
                    <a:pt x="4720" y="3675"/>
                    <a:pt x="5010" y="3150"/>
                  </a:cubicBezTo>
                  <a:cubicBezTo>
                    <a:pt x="5300" y="2625"/>
                    <a:pt x="5555" y="2085"/>
                    <a:pt x="5820" y="1560"/>
                  </a:cubicBezTo>
                  <a:cubicBezTo>
                    <a:pt x="6085" y="1035"/>
                    <a:pt x="6470" y="255"/>
                    <a:pt x="660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7"/>
            <p:cNvSpPr/>
            <p:nvPr/>
          </p:nvSpPr>
          <p:spPr>
            <a:xfrm>
              <a:off x="324000" y="3269880"/>
              <a:ext cx="1234080" cy="10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овая пробл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ХНОЛОГИЯ РАЗРАБОТКИ УПРАВЛЕНЧЕСКОГО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5"/>
          <p:cNvGrpSpPr/>
          <p:nvPr/>
        </p:nvGrpSpPr>
        <p:grpSpPr>
          <a:xfrm>
            <a:off x="755640" y="973080"/>
            <a:ext cx="7919640" cy="5624640"/>
            <a:chOff x="755640" y="973080"/>
            <a:chExt cx="7919640" cy="5624640"/>
          </a:xfrm>
        </p:grpSpPr>
        <p:sp>
          <p:nvSpPr>
            <p:cNvPr id="310" name="Rectangle 6"/>
            <p:cNvSpPr/>
            <p:nvPr/>
          </p:nvSpPr>
          <p:spPr>
            <a:xfrm>
              <a:off x="937440" y="973080"/>
              <a:ext cx="7630560" cy="50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ормулирование пробл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7"/>
            <p:cNvSpPr/>
            <p:nvPr/>
          </p:nvSpPr>
          <p:spPr>
            <a:xfrm>
              <a:off x="912600" y="1699200"/>
              <a:ext cx="7630560" cy="56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ормулирование критериев решения пробл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8"/>
            <p:cNvSpPr/>
            <p:nvPr/>
          </p:nvSpPr>
          <p:spPr>
            <a:xfrm>
              <a:off x="885240" y="2666520"/>
              <a:ext cx="7708320" cy="61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бор полной, достоверной и своевременной информ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9"/>
            <p:cNvSpPr/>
            <p:nvPr/>
          </p:nvSpPr>
          <p:spPr>
            <a:xfrm>
              <a:off x="807840" y="3624480"/>
              <a:ext cx="7760520" cy="68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точнение пробле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0"/>
            <p:cNvSpPr/>
            <p:nvPr/>
          </p:nvSpPr>
          <p:spPr>
            <a:xfrm>
              <a:off x="780120" y="4739760"/>
              <a:ext cx="7790400" cy="65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азработка альтернативных вариантов реш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1"/>
            <p:cNvSpPr/>
            <p:nvPr/>
          </p:nvSpPr>
          <p:spPr>
            <a:xfrm>
              <a:off x="755640" y="5730840"/>
              <a:ext cx="7919640" cy="8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ценка эффективности вариантов с точки зрения достижимости критериев, возможных рисков и их последствий, затраты на реализаци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2"/>
            <p:cNvSpPr/>
            <p:nvPr/>
          </p:nvSpPr>
          <p:spPr>
            <a:xfrm>
              <a:off x="4780080" y="1468800"/>
              <a:ext cx="0" cy="22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3"/>
            <p:cNvSpPr/>
            <p:nvPr/>
          </p:nvSpPr>
          <p:spPr>
            <a:xfrm>
              <a:off x="4807800" y="226152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4"/>
            <p:cNvSpPr/>
            <p:nvPr/>
          </p:nvSpPr>
          <p:spPr>
            <a:xfrm>
              <a:off x="4833000" y="3286080"/>
              <a:ext cx="0" cy="33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15"/>
            <p:cNvSpPr/>
            <p:nvPr/>
          </p:nvSpPr>
          <p:spPr>
            <a:xfrm>
              <a:off x="4833000" y="4318200"/>
              <a:ext cx="0" cy="42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6"/>
            <p:cNvSpPr/>
            <p:nvPr/>
          </p:nvSpPr>
          <p:spPr>
            <a:xfrm>
              <a:off x="4885200" y="5400360"/>
              <a:ext cx="0" cy="33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особы продумывания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ение проблемы на ча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деление основных и второстепенных характеристик пробл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тановление причинно-следственных связей по всем возможным вариантам решения пробле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гнозирование и анализ требуемых действ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а рекомендаций к действ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трольные вопросы при продумывании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 ли уменьшить объем проблемы, упростить 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апоминает ситуация (какие ассоциации вызывает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ся ли аналоги в практике хозяйство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и ли прецеденты в деятельности предприят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 ли изменение сроков, кач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можно заменить, сжать, уплотн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м состоит рис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ресурсы для решения пробл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вы возможные варианты реш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7:26:28Z</dcterms:created>
  <dc:creator>иван</dc:creator>
  <dc:description/>
  <dc:language>en-US</dc:language>
  <cp:lastModifiedBy>egor</cp:lastModifiedBy>
  <dcterms:modified xsi:type="dcterms:W3CDTF">2011-06-23T11:44:45Z</dcterms:modified>
  <cp:revision>24</cp:revision>
  <dc:subject/>
  <dc:title>УПРАВЛЕНЧЕСКИЕ РЕШЕНИЯ</dc:title>
</cp:coreProperties>
</file>