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0AA-7423-4195-A58D-CAA82371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D4E-7646-4661-B516-9500B5CD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63D-73CA-4409-B156-8E5FF718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C48-89D2-4C6C-B1C3-B585B394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D44C-F096-42A3-897B-4549C10F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E485-6412-43EA-B2EE-A8370A0E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6D21-DC49-4953-BC5F-99E9C6E4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485E-68EE-4027-838C-AC41E78D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283C-FDDB-4956-85DF-497C3C1D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0E23-D63C-489A-8410-EC639EE6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9D52-9EA3-48BC-9147-B77AB237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B4B-A1CB-4804-9F0F-62058A92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7CD3-131D-49A5-BDAE-A5F43242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2732-B51E-4608-8B9A-29EBE43A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D178-BBC5-40D4-9D8D-64558984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FBBB-F651-4CF9-8C5B-095A6B61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724C-D756-47AC-9726-2C43C063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B31F4-B2DA-4131-BBC1-DFDD2379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A52FA-FAF0-4F36-AADC-95A96ED9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3F601-33B2-4B67-87C5-1BC71DC5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8697D-A39F-4FE2-B814-835E2FFE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D8CB1-1838-47F6-BD7F-7DF8CCC1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AB7-1F38-44B5-96FA-4CB166BE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35D30-0D48-4B6D-B5B0-D8D26C29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CC313-E751-4647-9F5B-D764D4CB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48F6C-72FB-4CCF-B409-34886513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6C581-3B02-42CA-8535-1D16284C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802B1-B982-445C-8589-20F3F4AE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790C5-E0DB-4A91-8419-998D58C8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D29FD-DCE5-4C24-8826-D22CD14E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91FD1-831F-41E6-A525-08C5EF5F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32863-B2E4-479A-810F-E9E7E9BC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FCA18-90AC-45DE-82A5-DA898E93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ABD-DE91-44FE-AAA5-6E91DE6C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782F7-3B36-4052-9F6D-121F72DE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7B720-6A85-42A9-B8E7-B5A2D818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735AD-30C3-450F-8E69-E3E0D846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F856B-BAAF-45DF-A40F-84C39011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9740B-D45E-43DB-9C82-3E64743D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53F82-40A8-4A92-82ED-83ACDCA3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4B919-7447-43FF-832C-738CACC7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B1C2E-F5F3-4489-A325-6273EC13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4DFC1-5A37-412B-BFA4-DB40FE71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374F98-75A7-498A-BDD8-B35750F7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EBC-B21B-46C2-B9AC-E1A372AC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1EFF3-0A3A-4183-A5F3-BB4ADD60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0E685-DA48-40CF-80B1-CFE34045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3D2658-03E5-4F39-8E55-905D9019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93E5C-B9A1-4EB3-916A-7FA4C2DD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88A39-7DAA-4C9C-B58E-BC155658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A2ACF-BE24-43A6-96BF-1B4BD6C6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B2D2C-A190-43A6-BB3F-45E21E87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91118-724B-458E-BCD5-4141DC42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59D2FF-98B5-4D2F-BE0F-B2B6885D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C824F-AAB2-4433-BB78-FA43CDAC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907-4960-4E34-948F-2510F9F4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DA1BC-241D-4C3B-B194-7D182DAD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6BA1C-BD26-40A8-83D1-1C3AC7BE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66B05-3CC5-4E4D-A753-566CA81D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55F6B0-7052-4F59-9E67-635A0F35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1D6F8-8B7D-46AF-BBA7-A095C717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D9C93C-BFD4-400B-957D-77B8A10E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6073A-E599-4271-A154-C49A6446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ECE28C-6F2F-4588-915E-10535B9C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FFD90-AC2B-49EE-9D9B-FEAFEC01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C5E5D-617A-4600-8F76-EFF08631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B0E-AEB8-4E42-9CBA-A1F42018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F2060-7176-4E60-AFAB-46A2FC6E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B49942-CF06-4B3F-A9D7-88EB628B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E3398-A16B-4ACA-8893-0D21C71A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D05DB5-7387-4239-891B-83382ABA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695F17-8CFE-4BB4-B435-FF8D8307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147386-DB85-48EF-8E53-F5369D97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F2E6F6-4213-4F8A-91F1-D470A71A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B5296-AEBB-43FE-B4C5-7FDDD725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55FC6-1FF9-4C72-960A-D90673D9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FEE01F-E914-4901-8BB7-BD19E3B3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615-E559-4B24-BF08-E05DCD06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D19F9D-8BD1-424D-822C-29E007CC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E054B5-8BA8-4E9C-9E0C-A9383CE4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7E0DA-E658-4BB6-BDC3-B1E16E99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31C1E6-E7E1-42D8-B815-B7F98B17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FE2C4-8AD3-446C-9E6A-FFFCDE5C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213-5445-4FD4-8E0F-7E18D323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38B2-50F5-48DF-ADC5-2E61E075531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da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ed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ed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da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da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da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4083-79F6-47DA-A29D-B1421450E02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788B-87CA-44C7-B514-AFB60333F0D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da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ed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ed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da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da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da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dde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ccdde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33E7-7121-42D2-B0EA-A0A1B42CE2F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1A0F-0237-4086-9729-23A0F509347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070D-2856-43BA-B1B6-B11E49D021B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E9CB-A4D7-4306-B480-163B691D142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I:/&#1057;&#1042;/&#1060;&#1080;&#1085;&#1072;&#1085;&#1089;&#1099;%20&#1080;%20&#1082;&#1088;&#1077;&#1076;&#1080;&#1090;/&#1092;&#1080;&#1085;&#1072;&#1085;&#1089;&#1099;%20&#1080;%20&#1082;&#1088;&#1077;&#1076;&#1080;&#1090;/&#1060;&#1080;&#1085;_&#1082;&#1088;&#1077;&#1076;&#1080;&#1090;.doc" TargetMode="External"/><Relationship Id="rId2" Type="http://schemas.openxmlformats.org/officeDocument/2006/relationships/hyperlink" Target="file:///I:/&#1057;&#1042;/&#1060;&#1080;&#1085;&#1072;&#1085;&#1089;&#1099;%20&#1080;%20&#1082;&#1088;&#1077;&#1076;&#1080;&#1090;/&#1092;&#1080;&#1085;&#1072;&#1085;&#1089;&#1099;%20&#1080;%20&#1082;&#1088;&#1077;&#1076;&#1080;&#1090;/&#1060;&#1080;&#1085;_&#1082;&#1088;&#1077;&#1076;&#1080;&#1090;.doc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2276280"/>
            <a:ext cx="6172200" cy="27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83e2c"/>
                </a:solidFill>
                <a:uFillTx/>
                <a:latin typeface="Century Schoolbook"/>
                <a:hlinkClick r:id="rId1"/>
              </a:rPr>
              <a:t>2.1 СОДЕРЖАНИЕ </a:t>
            </a:r>
            <a:r>
              <a:rPr b="0" lang="ru-RU" sz="3200" spc="-1" strike="noStrike" u="sng">
                <a:solidFill>
                  <a:srgbClr val="d83e2c"/>
                </a:solidFill>
                <a:uFillTx/>
                <a:latin typeface="Century Schoolbook"/>
                <a:hlinkClick r:id="rId2"/>
              </a:rPr>
              <a:t>И ЗНАЧЕНИЕ ФИНАНСОВОГО КОНТРОЛЯ, ВИДЫ ФИНАНСОВОГО КОНТРОЛЯ, ЕГО РОЛЬ В ЭКОНОМИКЕ СТРАНЫ</a:t>
            </a:r>
            <a:endParaRPr b="0" lang="en-US" sz="32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5e9c"/>
                </a:solidFill>
                <a:latin typeface="Century Schoolbook"/>
              </a:rPr>
              <a:t>Автор: Клюев С.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5e9c"/>
                </a:solidFill>
                <a:latin typeface="Century Schoolbook"/>
              </a:rPr>
              <a:t>Ярославль 20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Прямоугольник 2"/>
          <p:cNvSpPr/>
          <p:nvPr/>
        </p:nvSpPr>
        <p:spPr>
          <a:xfrm>
            <a:off x="1884240" y="476280"/>
            <a:ext cx="61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Тема 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Финансовый контро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ФИНАНСОВЫЙ КОНТРОЛЬ</a:t>
            </a:r>
            <a:r>
              <a:rPr b="0" lang="ru-RU" sz="3000" spc="-1" strike="noStrike">
                <a:solidFill>
                  <a:srgbClr val="465e9c"/>
                </a:solidFill>
                <a:latin typeface="Century Schoolbook"/>
              </a:rPr>
              <a:t> —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ин из видов государственного контроля над образованием, распределением и использованием ресурсов всех звеньев финансовой систем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н направлен на проверку расходования государственных средств, своевременности и полноты мобилизации государственных ресурсов, законности расходов и доходов всех звеньев финансовой системы, соблюдения правил учета и отчет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5e9c"/>
                </a:solidFill>
                <a:latin typeface="Century Schoolbook"/>
              </a:rPr>
              <a:t>В ЗАВИСИМОСТИ ОТ ОРГАНОВ, ЕГО ОСУЩЕСТВЛЯЮЩИХ, ФИНАНСОВЫЙ КОНТРОЛЬ ПОДРАЗДЕЛЯЕТСЯ НА</a:t>
            </a:r>
            <a:endParaRPr b="0" lang="en-US" sz="27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сударственный, внутрихозяйственный, ауди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сударственный контроль, в свою очередь, делится на  общегосударственный и ведомственны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щегосударственный контроль осуществляют парламент, Правительство, Министерство по налогам и сборам, Федеральное казначейство, Министерство финансов РФ, Центральный Банк Росс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5e9c"/>
                </a:solidFill>
                <a:latin typeface="Century Schoolbook"/>
              </a:rPr>
              <a:t>КЛАССИФИКАЦИЯ ФИНАНСОВОГО КОНТРОЛЯ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по времени осуществления финансовых провер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предварительный (до проведения финансовых операций)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текущий (во время проведения финансовых операций)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последующий (после проведения финансовых операций)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по субъектам осуществл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государственный (общегосударственный и ведомственный)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местный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нутрихозяйственный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независимый (аудит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5e9c"/>
                </a:solidFill>
                <a:latin typeface="Century Schoolbook"/>
              </a:rPr>
              <a:t>ФИНАНСОВЫЙ КОНТРОЛЬ ПО СОДЕРЖАНИЮ ПОДРАЗДЕЛЯЕТСЯ НА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) бюджетный контроль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арламентский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четной палаты 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едерального казначейства Министерства финан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) налоговый контроль; его осуществляют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инистерство по налогам и сборам 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осударственный таможенный комитет 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) банковский контроль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Центральный Банк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) контроль над страховой деятельностью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епартамент страхового надзора Министерства финансов РФ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5) таможенный контроль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ТК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6) валютный контроль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рганы валютного контрол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5e9c"/>
                </a:solidFill>
                <a:latin typeface="Century Schoolbook"/>
              </a:rPr>
              <a:t>РОЛЬ ФИНАНСОВОГО КОНТРОЛЯ В ОХРАНЕ СОБСТВЕННОСТИ СОСТОИТ В ВЫЯВЛЕНИИ:</a:t>
            </a:r>
            <a:endParaRPr b="0" lang="en-US" sz="27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599840"/>
            <a:ext cx="7467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ояния учета, использования материальных ценностей и денежных средст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арактера финансового наруше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 и условий, способствующих финансовым нарушени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C:\Program Files (x86)\Microsoft Office\MEDIA\CAGCAT10\j0195384.wmf"/>
          <p:cNvPicPr/>
          <p:nvPr/>
        </p:nvPicPr>
        <p:blipFill>
          <a:blip r:embed="rId1"/>
          <a:stretch/>
        </p:blipFill>
        <p:spPr>
          <a:xfrm>
            <a:off x="5003640" y="3594240"/>
            <a:ext cx="2664000" cy="27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5e9c"/>
                </a:solidFill>
                <a:latin typeface="Century Schoolbook"/>
              </a:rPr>
              <a:t>МЕТОДЫ ОСУЩЕСТВЛЕНИЯ ФИНАНСОВОГО КОНТРОЛЯ:</a:t>
            </a:r>
            <a:endParaRPr b="0" lang="en-US" sz="44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0920" y="2695680"/>
            <a:ext cx="7600680" cy="24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верка финансово-отчетной документации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ревизия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анализ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2" descr="C:\Program Files (x86)\Microsoft Office\MEDIA\CAGCAT10\j0196400.wmf"/>
          <p:cNvPicPr/>
          <p:nvPr/>
        </p:nvPicPr>
        <p:blipFill>
          <a:blip r:embed="rId1"/>
          <a:stretch/>
        </p:blipFill>
        <p:spPr>
          <a:xfrm>
            <a:off x="5219640" y="3789360"/>
            <a:ext cx="24163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5e9c"/>
                </a:solidFill>
                <a:latin typeface="Century Schoolbook"/>
              </a:rPr>
              <a:t>РЕВИЗИЯ</a:t>
            </a:r>
            <a:endParaRPr b="0" lang="en-US" sz="44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визия 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новной метод осуществления финансового контрол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содержанию ревизия бывает документальной, фактической (инвентаризация, пересчет денег и валютных ценностей)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способу назначения: плановой, внепланов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визия осуществляется специально созданной комисси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3:55Z</dcterms:modified>
  <cp:revision>9</cp:revision>
  <dc:subject/>
  <dc:title>Сущность и функции финансов</dc:title>
</cp:coreProperties>
</file>