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3AA-1081-40A1-AF53-738C1CFC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796-2B46-486F-A411-B196A82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554-3971-4803-8DC1-960E0DF8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372-86A1-4BA3-B065-C2B3738A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7E61-7E45-46CB-8012-A716B360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3D8-DBAC-45C8-B38D-E1305A8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AF5-9E2B-41BF-94E9-4400DDA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CD6-FED4-4CA5-816E-A6379754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99F9-CD4F-45AD-8CE6-2C80F903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5C42-E566-49AF-92C7-DA3CB9B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5BCD-D934-4392-9D2B-2EE7EDC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91F-E3B8-48C1-A696-B5E0EA2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F09C-95BF-4537-A145-3FF6027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D1C9-2E3F-44A2-881E-98B699D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484-7EA9-4C40-86C5-69DBB19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57AD-00C6-41DB-90D2-0E268A72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95D-6244-425F-87C2-D2E6B9A4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1420-501B-4F2A-9D12-A89763CF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75F8-8B20-472B-A87E-F01E73CC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D647-F7C4-4FB6-B640-2C12CB0A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0910-175A-4A6C-86E1-1D09DC59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8559-2293-46B1-A5FA-1E8CA95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082-4033-448F-97AE-21D2B0F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6F79-8283-41A2-9A87-5C20368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EEFB-ABAF-4A81-9D36-96A9403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AEFF-9F41-4C23-B275-C91CE05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1BE5-4825-4BF3-93A9-B0DB5A1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FC5C-876D-4311-BD1D-DA1478A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5D78-31C8-46C2-B028-F451F33E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938A-AFB4-45F1-8983-674C12D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E895-672B-4BBB-B6C4-D1808A1E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F3DB-4330-482C-9EDA-F14983CE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BC62-9CC2-4C15-993D-5FF1EE6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91E-6C4E-4F72-8066-2764A080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CC1E-E1DB-480A-9A5D-BB736D19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022C-F213-45B1-9415-C9D44B2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E549F-C509-47BC-AF9B-40FCDF95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562C-34E9-40EC-9478-60C2270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7A1F-B766-4746-9E4F-BF459E4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72ED-27C0-426B-A54C-A6CAA2F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6A25-15DC-4785-9FC9-E356AAC0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5AC5-F108-4302-9D76-0397923F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630F-DF27-44C6-A442-AEE76B04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2D8-F800-42F1-A07A-B5F143C5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2DA-E56E-4834-AE0F-792CCF23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327-B5A1-4F26-8CE7-F91FB3F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7E4-0296-43B0-91A8-B3FA2FB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C3A-EBD2-4A8B-A9A6-CB410C8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F476-FEEC-47C4-86CE-EC934884B6F9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6A3C-9A8E-4A2B-B004-640157E8CF1B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6BA-AEB9-41A0-A24B-1E8462142D4A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70C-599B-497B-B975-A9881AECBE70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55440" y="19080"/>
            <a:ext cx="8991360" cy="5600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Клюев С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рославль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Финансовая деятельность любого государства —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цесс собирания, распределения (перераспределения) и использования денежных средств, обеспечивающих практическое выполнение функций государства и органов местного самоуправ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существления финансовой деятельности государство решает в данной сфере следующие 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ния фондов денежных сред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ения и использования этих сред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Методы собира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й метод — используется государством для изъятия части доходов граждан, государственных и негосударственных предприятий, организаций и учреждений в бюдже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обязательных платежей юридическими и физическими лицами в пенсионный фонд, фонды социального страхования, обязательного медицинского страхования и друг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о использует метод добровольного привлечения денежных средств в форме вкладов населения в банк, приобретения облигаций и других ценных бума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взимания сборов и пошлин, т.е. плата за оказываемые услуги (судебная, таможенная пошлина и др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страхования (формирования страховых фонд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иссия денег (дополнительный выпуск денежных средств в обращени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5b6f"/>
                </a:solidFill>
                <a:latin typeface="Calibri"/>
              </a:rPr>
              <a:t>Методы распределе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дит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лата страховых возмещ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ение расчетов между различными субъек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5b6f"/>
                </a:solidFill>
                <a:latin typeface="Calibri"/>
              </a:rPr>
              <a:t>Финансовая сист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отношений, ориентированных на объек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37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 управлении финансами</a:t>
            </a: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, как и в любой управляемой системе, выделяются объекты и субъекты управления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ектами выступают разнообразные виды финансовых отнош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бъектами —организационные структуры, осуществляющие управление. В соответствии с классификацией финансовых отношений по их сферам выделяют три группы объект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ы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енные финан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 соответствуют следующие субъекты упра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службы (отделы)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е инспе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15Z</dcterms:modified>
  <cp:revision>7</cp:revision>
  <dc:subject/>
  <dc:title>Сущность и функции финансов</dc:title>
</cp:coreProperties>
</file>