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B88-538A-4619-A359-1051ABA3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F06-6779-4DB1-96BF-A1FC58B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730-D97B-4B44-BEBD-F572CF3F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AF0-429C-43C1-A30E-BD40D2C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EC71-658A-4F94-955C-D227A87A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511-0BA3-47D3-8075-97FCB0BF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B47A-26BF-4350-8C5F-CB4A1020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052-1468-4360-BCC8-90B7987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4463-A73B-47DC-811D-BB2476FA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4626-11BC-4D3D-8A7F-22DEAEBB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3204-DD04-42B3-AADC-DCCD9AE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E6E-DF2B-47DA-BD82-970813DF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8FD8-2CB0-4522-BA18-3D6F40A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9A42-558F-4F7F-B791-146E6D7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050B-2498-40A8-915F-A7360B63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340-5A9B-4A8D-A256-E4D133F2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7952-5902-42F7-B80A-EC7FE136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2E50-CD2B-47D2-B532-7DE5042F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09B2-855A-47A0-8C29-6BA3752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3DBE-2F74-4EF8-812C-FB11B5CB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EBF9-0301-4F3E-B58F-8DF2808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2062-5670-4A8E-8996-A99BBF4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FA5-105C-497D-BC1A-FD4E354D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E8C7-C2EE-46A1-9058-2B33B85D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F3FD-F4C9-4AFE-BD55-FD19E89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22A8-748E-4DDF-BBDC-25603854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503F-B7C1-4AC8-B9F1-E87C1B5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E566-447F-4C2B-85E1-5658340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3F17-0CC0-46D6-A70F-BD262B13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A775-34CE-4699-8551-A9FA89F4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ADDF-A404-4B8E-9D62-23A68603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4019-B948-4F75-B085-74951BB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08E6-5254-4053-A8CF-9C2E7ADD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378-43A3-44AE-BE7D-666923D8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E041-D292-409C-9886-94DB257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E60C-29EF-415E-95AE-18430003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E983-8B39-4712-A642-476AD1D6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07D1-14F2-4378-86CB-0597F08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EC10-CF10-491A-944C-DD69573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8FBC-ACE9-4DB9-ADBB-C6F54BE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0C4D-A8D8-4E98-BD2D-064D1D01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308D-1274-4545-8313-A5428F63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83C4-2FF3-43EC-988A-F3C5DA6D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74F5-96EF-4033-9716-726C3E68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E25-9DFF-4B6A-938A-77977130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F5387-DBD7-48C6-BF36-BE6D158E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28A2-A607-4C7C-821D-47C2DEA7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41E8-0154-406E-ABC5-6294D4D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D110-BDC4-4E81-B823-4854903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EF26-0EE7-4637-AB15-59DF18EF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26C7-9C2B-42E5-822E-18DFA8A2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D51A-02EC-47F6-B8C5-FC770B6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FEA9-1520-40CA-BDF8-2C15DBE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0835-DEB2-46E7-92D8-4B14726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EE2C-97DA-4714-839D-EBD1B9AE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991-E37B-4EE0-8C85-53C990E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4487-384F-45DB-A5DF-68B8BE7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467-8001-44BB-8AE5-89C03F2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DA1-1ACF-489E-938B-7A1B18CE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DB9-9B7E-4C3C-A18F-CB3CF77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5602-9CDB-4D59-A9FA-3F8F7D689E8C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5F4-E6AF-498C-914E-42EB49A08D8D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4F7A-42E7-4768-8486-6FBF63D4491C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A13-A938-4468-AB02-8EC1763AE953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978-8071-44AA-AA4B-70517397EEC2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втор: Клюев С.В.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рославль 2011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324000" y="62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Тема 1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Понятие о финансах и управление им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00400" y="272520"/>
            <a:ext cx="5486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ddea"/>
                </a:solidFill>
                <a:latin typeface="Calibri"/>
              </a:rPr>
              <a:t>Понятие финансов</a:t>
            </a: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 появилось в 13-15 вв. в торговых городах Италии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Позже Ф. стали обозначать отношения между населением и государством 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В процессе первой Буржуазной революции монарх был оттаржен от казны, и возникла система управления притоком денежных средств в казну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66600" y="1768320"/>
            <a:ext cx="2494080" cy="669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Program Files (x86)\Microsoft Office\MEDIA\CAGCAT10\j0234131.wmf"/>
          <p:cNvPicPr/>
          <p:nvPr/>
        </p:nvPicPr>
        <p:blipFill>
          <a:blip r:embed="rId2"/>
          <a:stretch/>
        </p:blipFill>
        <p:spPr>
          <a:xfrm>
            <a:off x="250920" y="24922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1) Финансы существуют между двумя субъектами с разными полномочиями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2) Эти отношения – денежные (материальной основой являются деньги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3) В процессе этих отношений формируются государством денежные фонды и осуществляются расходы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4) Поступление денежных средств в казну является принудительным (Достигалось правовой деятельностью государства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5) Использование ср-в из казны осуществлялось в соответствии с интересами государства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1) денежные отношения, возникающие в процессе распределения и перераспределения стоимости общественного продукта и части национального богатства в связи с формированием денежных  доходов и накоплений у субъектов хозяйствования и государства, а также в связи с использованием их на расширенное воспроизводство, материальное стимулирование работников, социальные и другие потребности общества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2) совокупность всех денежных ср-в, используемых в гос-ве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денежный характер (натуральные отношения НЕ относятся к финансам)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ы связаны с получением доходов и накоплений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распределительный характер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В финансах всегда есть движение денежных средств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403" name="Picture 2" descr="C:\Program Files (x86)\Microsoft Office\MEDIA\CAGCAT10\j0293844.wmf"/>
          <p:cNvPicPr/>
          <p:nvPr/>
        </p:nvPicPr>
        <p:blipFill>
          <a:blip r:embed="rId2"/>
          <a:stretch/>
        </p:blipFill>
        <p:spPr>
          <a:xfrm>
            <a:off x="6948360" y="2781360"/>
            <a:ext cx="17384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1) Распределительная (распределение национального дохода)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2) контрольная — контроль за распределением ВВП по соответствующим фондам и расходованием их по целевому назначению.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3) Стимулирующая - Использование распределенного дохода либо для расширения производства, либо для накоплений и соц. потребностей. 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Рычаги: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Це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Налоги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Экспортные и импортные пошли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4) Воспроизводственн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5) Регулирующ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1:35Z</dcterms:modified>
  <cp:revision>5</cp:revision>
  <dc:subject/>
  <dc:title>Сущность и функции финансов</dc:title>
</cp:coreProperties>
</file>