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B38-5EC4-4A08-9C58-4FFCA864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199-1BE4-4A59-9B52-742C2A48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D14-76FE-4B98-B878-9641C574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C49-3CCB-4A06-BC84-BD6758EF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D1FB-10AD-4F29-9242-18E13D5E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3E17-3D89-453D-91E5-EA441CB6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1F84-F54A-4DD2-8A90-3EFF90B2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BFC7-9D0F-4869-9EE5-20C5E16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68D8-49C1-4255-BEA1-1B327FC8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F88E-28A7-4324-A490-7AEF9145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9D4F-40AB-4174-9297-1AEDDFF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0CD-600D-49B4-B1E3-5519F24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D9C1-8DC1-4A2D-A8F1-A0120D0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95F0-5748-4E79-9210-6DCA3D39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8030-B2A1-4AC3-B5DF-0591B553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81D3-FC15-4684-9E79-AD6433A1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FF54-F965-4C42-8265-BCC1E00E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3E73-2DAC-437E-BBB8-A5842FB8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948E-634E-4BF2-BE7C-DDF8066D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2C25-900B-438A-AB60-28F59EB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BCDF-D024-4620-BF86-3320591A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733D-D2B5-4146-BBB0-57A1B732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955-79DE-423B-906A-9B677F56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73988-DC70-474D-8C4B-B8986B2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2F3A-C51A-46BF-ABFE-CEB820CA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239F3-C875-4BEE-9173-DF3E04C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47C6-1C62-4500-A0FA-91FBFBD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D693-CFE2-4805-99A9-D25FCF2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26B0-AD87-4655-9DFE-53D9895F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D7F9D-0C61-4758-8366-9C9D05DF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8781-744E-4D7F-840E-D5FC2BEF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E5E77-6B88-4D99-B32F-0013784E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0D0CA-F1F8-4BEC-8AAD-45984DB5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B44-8A6D-4329-817C-0593628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34E1F-0E0C-4B3E-AF06-65AF8B19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C4BE6-9CB4-419B-8BD0-A61699D3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13F9-1332-43E8-A4B5-4687829D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6CF4-B203-4211-9AEA-2AD3461D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79A7A-E6AD-4A4F-8C7C-0DEFC19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986E-BC58-464D-830E-DD4456B6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BC2F5-2C5A-4681-BFBA-1B1E2E5F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700F-D9E8-42A7-AFAC-50BC56D2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8D7C-8EA0-4FC4-AAAE-D67EF1E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928F-3CBC-4F8A-910A-27DB0CBB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1AB-D08A-45DB-8E5D-2C33B354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6447-6AA7-481A-9B5F-F5311A1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53BF5-9F68-443F-B895-4784120C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EA3E-9359-4913-98BB-DF11DDD0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87109-CF98-43AF-B7CE-C4FBF686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81AC-98B7-421F-8BDC-E88F2B92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1941-EB31-457E-BEC0-66C4B7A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2BA1-65AF-4DD5-A2B7-12539BB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2C3B-2EA5-4AF8-A259-E56745B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D1433-7C42-44A4-B96C-2AC3F65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C9ED5-A110-4FFD-9798-B3D8898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15D-E5A7-4EE0-887A-53D0D675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7AD4-FF6A-44FE-A603-BD816F6A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5BE-3470-44CA-9C80-C6AD6DB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D37-DA8B-4640-8257-6A8F5210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D57-634E-49EE-BE5F-1E3BFB87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51CE-C20F-4588-9996-6DCC404DB282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81F-14FD-4744-B620-8F8711BA061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BCC-CE7B-493B-B14F-DDEE3CE53B4E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f2d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2d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3f2d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ED3F-A1A2-4AAE-A184-D972572F635B}" type="slidenum">
              <a:rPr b="0" lang="ru-RU" sz="1100" spc="-1" strike="noStrike">
                <a:solidFill>
                  <a:srgbClr val="f3f2d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92934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4c5a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4c5a6a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292934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34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2533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253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F5C1-7EF3-4BAC-854E-AEEC3AE624B7}" type="slidenum">
              <a:rPr b="0" lang="ru-RU" sz="1100" spc="-1" strike="noStrike">
                <a:solidFill>
                  <a:srgbClr val="d2533c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59280" y="3540240"/>
            <a:ext cx="5689440" cy="1473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rebuchet MS"/>
              </a:rPr>
              <a:t>5.1 Сущность страхования. Признаки и функции. Тарифная ставка, отрасли страхования </a:t>
            </a:r>
            <a:endParaRPr b="0" lang="en-US" sz="21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Автор: Клюев С.В.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Ярославль 2011</a:t>
            </a:r>
            <a:endParaRPr b="0" lang="en-US" sz="13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траховая тарифная ставка (Брутто-ставка)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Нетто-ставка (идет на все выплаты страховых сумм и возмещений. Для этой цели формируются страховые резервные фонды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Нагрузка (на ведение дела и формирование прибыли страховой компании)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Брутто-ставка = (Нетто – ставка) / (1- d),  где d - удельный вес нагрузки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95280" y="404280"/>
            <a:ext cx="730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ая ответственность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обязанность страховщика выплатить страховое возмещение или страховую сумму в оговариваемых случаях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ой риск -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1) вероятность нанесения ущерба от страхового случая (вычисляется математически и является основой расчета основных тарифных ставок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2) конкретный объект страхования по страховой сумме и степени вероятности ущерба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Сострахование 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разделение крупного риска на несколько страховщиков по договору с целью выравнивания страх. рисков.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Перестрахование</a:t>
            </a:r>
            <a:r>
              <a:rPr b="0" lang="ru-RU" sz="2400" spc="-1" strike="noStrike" u="sng">
                <a:solidFill>
                  <a:srgbClr val="292934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292934"/>
                </a:solidFill>
                <a:latin typeface="Trebuchet MS"/>
              </a:rPr>
              <a:t>- передача части ответственности по взятым рискам другим страховщикам (страхование самого страховщика)</a:t>
            </a: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95120" y="0"/>
            <a:ext cx="7504200" cy="150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Централизованное и децентрализован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Индивидуальное и коллектив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тельное и доброво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Разовое и накопительное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По отраслям: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1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Лич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пассажиров от несчастных случае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военнослужащих за счет ср-в Минобороны и спец. ведомст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4c5a6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работников, связанных с выполнением особо опасных работ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2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Имуществен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материальные ценности (здания, сооружения, машины, сырье, материалы, готовая продукция, урожай, животные)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Страховые случаи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ихийные бедствия, воздействия технолог. факторов, пожары, взрывы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3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Социальное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защита конституционных прав граждан в случае временной потери или утраты трудоспособност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4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Профессиональной ответственности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тветственность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обязанность лица, виновного в причинении ущерба, возместить его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ы - 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адвокаты, врачи, чья деятельность или бездеятельность может принести вред другим гражданам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27275"/>
                </a:solidFill>
                <a:latin typeface="Trebuchet MS"/>
              </a:rPr>
              <a:t>5) </a:t>
            </a:r>
            <a:r>
              <a:rPr b="0" lang="ru-RU" sz="1600" spc="-1" strike="noStrike" u="sng">
                <a:solidFill>
                  <a:srgbClr val="727275"/>
                </a:solidFill>
                <a:uFillTx/>
                <a:latin typeface="Trebuchet MS"/>
              </a:rPr>
              <a:t>Рисков</a:t>
            </a:r>
            <a:endParaRPr b="0" lang="en-US" sz="1600" spc="-1" strike="noStrike">
              <a:solidFill>
                <a:srgbClr val="727275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292934"/>
                </a:solidFill>
                <a:uFillTx/>
                <a:latin typeface="Trebuchet MS"/>
              </a:rPr>
              <a:t>Объект</a:t>
            </a: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 - риск недополучения прибыли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недополучения прибыли в рез-те нарушения технических процесс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морское страхование грузов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анковских кредитов от рисков неплатежа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34"/>
                </a:solidFill>
                <a:latin typeface="Trebuchet MS"/>
              </a:rPr>
              <a:t>- страхование биржевых операций</a:t>
            </a: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151600" y="1023840"/>
            <a:ext cx="3895560" cy="2511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"/>
          <p:cNvPicPr/>
          <p:nvPr/>
        </p:nvPicPr>
        <p:blipFill>
          <a:blip r:embed="rId2"/>
          <a:stretch/>
        </p:blipFill>
        <p:spPr>
          <a:xfrm>
            <a:off x="549360" y="933480"/>
            <a:ext cx="44370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совокупность особых перераспределительных отношений между его участниками в связи с формирование целевого страхового фонда за счет денежных взносов участников и в связи с использованием его для возмещения ущерба субъектам хозяйствования или физического лица при происшедшем событии, который является страховым случаем.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1. Перераспределение стоимости общественного продукта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2. Перераспределительные отношения, обусловленные вероятностью наступления страхового случая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3. Предусматривается распределение ущерба во времени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292934"/>
                </a:solidFill>
                <a:latin typeface="Trebuchet MS"/>
              </a:rPr>
              <a:t>4. Замкнутость раскладки ущерба (покрытие ущерба на одной территории) </a:t>
            </a: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292934"/>
              </a:solidFill>
              <a:latin typeface="Trebuchet MS"/>
            </a:endParaRPr>
          </a:p>
        </p:txBody>
      </p:sp>
      <p:sp>
        <p:nvSpPr>
          <p:cNvPr id="226" name="Штриховая стрелка вправо 3">
            <a:hlinkClick r:id="" action="ppaction://hlinkshowjump?jump=nextslide"/>
          </p:cNvPr>
          <p:cNvSpPr/>
          <p:nvPr/>
        </p:nvSpPr>
        <p:spPr>
          <a:xfrm>
            <a:off x="4427640" y="3500280"/>
            <a:ext cx="2952720" cy="720720"/>
          </a:xfrm>
          <a:prstGeom prst="pie">
            <a:avLst/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примеры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7" name="Стрелка вправо 5">
            <a:hlinkClick r:id="rId2" action="ppaction://hlinksldjump"/>
          </p:cNvPr>
          <p:cNvSpPr/>
          <p:nvPr/>
        </p:nvSpPr>
        <p:spPr>
          <a:xfrm>
            <a:off x="4211640" y="5602320"/>
            <a:ext cx="2592360" cy="836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далее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82520" y="365040"/>
            <a:ext cx="7450200" cy="1944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7286760" cy="302436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3"/>
          <p:cNvSpPr/>
          <p:nvPr/>
        </p:nvSpPr>
        <p:spPr>
          <a:xfrm>
            <a:off x="1056960" y="573264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Calibri"/>
              </a:rPr>
              <a:t>m - частота наступле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1" name="Стрелка влево 4">
            <a:hlinkClick r:id="" action="ppaction://hlinkshowjump?jump=previousslide"/>
          </p:cNvPr>
          <p:cNvSpPr/>
          <p:nvPr/>
        </p:nvSpPr>
        <p:spPr>
          <a:xfrm>
            <a:off x="4427640" y="5516640"/>
            <a:ext cx="3168720" cy="122544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93a299"/>
          </a:solidFill>
          <a:ln w="3996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Вернуться к признакам страхования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1. Распредели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рисков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сберегательная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- предупредительная (связана с использованием части средств страхового фонда на уменьшение степени последствий или на исключение страхового риск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2. Контрольная (выражается в строго целевом формировании и использовании средств страхового фонда)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34"/>
                </a:solidFill>
                <a:latin typeface="Trebuchet MS"/>
              </a:rPr>
              <a:t>Предупредительные мероприятия:</a:t>
            </a:r>
            <a:endParaRPr b="0" lang="en-US" sz="2000" spc="-1" strike="noStrike">
              <a:solidFill>
                <a:srgbClr val="292934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жарные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о борьбе с болезнями животных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филактика простудных заболеваний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ДТП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4c5a6a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  </a:t>
            </a:r>
            <a:r>
              <a:rPr b="0" lang="ru-RU" sz="1800" spc="-1" strike="noStrike">
                <a:solidFill>
                  <a:srgbClr val="727275"/>
                </a:solidFill>
                <a:latin typeface="Trebuchet MS"/>
              </a:rPr>
              <a:t>противоселевые и противопаводковые мероприятия</a:t>
            </a:r>
            <a:endParaRPr b="0" lang="en-US" sz="1800" spc="-1" strike="noStrike">
              <a:solidFill>
                <a:srgbClr val="727275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Участники: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1) Страховщики - юридические лица любой организационно-правовой формы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92934"/>
                </a:solidFill>
                <a:latin typeface="Trebuchet MS"/>
              </a:rPr>
              <a:t>2) Страхователи – юридические и физические лица, имеющие страховой интерес и вступающие в страховые отношения либо в силу закона, либо добровольно</a:t>
            </a: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1) экономическая потребность в страховани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2934"/>
                </a:solidFill>
                <a:latin typeface="Trebuchet MS"/>
              </a:rPr>
              <a:t>2) величина страховой суммы, в которую оценивается ущерб в связи с возможными потерями</a:t>
            </a: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размер денежных средств, на которые фактически застраховано имущество, жизнь, здоровье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имущественному страхованию страховая сумма не может превышать реальной стоимости имущества. 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Trebuchet MS"/>
              </a:rPr>
              <a:t>По личному страхованию - зависит от материальных возможностей страхователя и наличия желания страховаться на ту или иную сумму.</a:t>
            </a: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360"/>
            <a:ext cx="737208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е возмещение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ричитающаяся к выплате страх. сумма страхователю (max возмещение ≤ Σ страхования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ой взнос (платеж, премия)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плата в рублях с совокупной страховой суммы (может быть разовой и периодической)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d2533c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Trebuchet MS"/>
              </a:rPr>
              <a:t>Страховая тарифная ставка </a:t>
            </a:r>
            <a:r>
              <a:rPr b="0" lang="ru-RU" sz="3200" spc="-1" strike="noStrike">
                <a:solidFill>
                  <a:srgbClr val="292934"/>
                </a:solidFill>
                <a:latin typeface="Trebuchet MS"/>
              </a:rPr>
              <a:t>- цена страхового риска или плата с единицы страховой суммы</a:t>
            </a:r>
            <a:endParaRPr b="0" lang="en-US" sz="3200" spc="-1" strike="noStrike">
              <a:solidFill>
                <a:srgbClr val="29293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1:51:08Z</dcterms:modified>
  <cp:revision>22</cp:revision>
  <dc:subject/>
  <dc:title>Бюджетная система Российской Федерации </dc:title>
</cp:coreProperties>
</file>