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4D798-E681-466D-8AAD-F0DE326C4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F6C21-99C1-46E2-9545-8599FF384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653274-CF1E-41E4-AB51-C72C6FE8A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71CE70-25DA-41D1-AAF1-E254AEC0C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EB7020-B0CF-4D3E-97EF-33611B815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00B645-3F99-4B5C-BB84-E019D9F33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F48B42-129F-4CA2-BC31-9651BC54B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A33EE8-EFB8-4F85-92B1-9255E0611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AAC414-2C4E-4288-8DEF-215A82063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0B2C42-4E67-4F1F-B0D9-E1A52B81F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CF9BA2-BA6C-43A0-86BB-17787D4BB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376DA-8BA3-49AE-8F4B-FCDCEEE51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703A4-AAD2-40ED-AF21-24973868E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A76F2-F389-4802-B663-10364F28B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3ADF4-239B-46B0-9561-324AC1B21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969E1-EAE9-4B87-A13D-F3EC39B16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385CF-0401-4868-B4E4-79FD10F21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6FDE7-E7A8-4DFB-A708-F45AE613F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FD134-4536-481D-A98D-7C0AD7740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87076-BDA9-4E4A-9A9F-02354677F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FB179-63B7-42C0-99D6-CC8347761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F3829-AC8A-452D-AAB6-DDB28AFCA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CFC46-D1B5-4F65-A9F5-B51FBE739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0A0F2-F5D4-40A6-84FF-4E04C7961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1D884-9597-400C-AE46-300A20083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97F1F-916C-4279-965B-EF999913E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BA1444-6449-4D80-A451-B39C8C5AF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694BD5-A740-4FAE-8429-9581E2CBB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92E27B-335C-4B24-94AB-E5CF9FC4C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0CAEA5-D903-4A40-A0BF-2A5F4A8A8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09C04A-E167-4289-9C40-FBBB3C39E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A3BB9-4BB5-4B32-AFDD-71DF0CAE9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548B6E-3A8A-4085-B820-8293F9C38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FA060C-81D8-45EF-9B57-FA8075615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C94034-B60C-40C9-A024-5AD5C947C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4ED325-7F36-4CDD-9497-C039DE671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FD87B2-DE19-4926-81F9-895775CA1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36DE4F-8CF3-4FB2-AC70-AFDDE4843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C5236B-B32C-4844-8E8C-B386E3124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0C8313-E80F-41FF-A116-2EFB05597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263BD0-2F68-47D0-B72A-6E63D8D89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6807BC-1C3A-4DB8-B998-44DEF038D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3F920-31D6-4D1C-AA69-4EF919507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799899-0277-4186-BFC6-F60BAC1C9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F9E46B-E9F7-49C4-93C8-258D3A5ED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47F0C2-F2C9-4F1F-B892-E3D6968D8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AD9DC9-E793-4DA6-AFDD-B6CD2E6AC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4CEA24-00D9-4C0B-9B1F-7FF9ACCCD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EF347E-8FAE-4C2B-B065-993BC9D3B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21F0DC-63EC-47A4-A1E5-403F6E905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587641-3C75-403A-AE6D-49CCE8F21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462412-7F09-446A-9AA3-AEB63D7A9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E34742-B42E-4435-9AA1-B70902A3F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E735A-4BD2-4A48-BB1E-49733598E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E87747-1F78-45E8-9485-4980F8992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DA50E0-2129-43B1-86AE-A4461F5A9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8F692B-B11D-44D6-A0C6-F9764849C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A9DD9E-B4F6-4DE7-A223-97E5F85EF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011E5C-6169-4014-A4C9-43AFF73DB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509C25-C1DF-429B-9BA7-7CF9D8249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2A488E-448F-4DE0-86EC-7CCBECBB9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216ECA-BDBB-4CAC-B579-BF3DF1941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C36E49-2163-4E66-96EA-D37B3F962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B18FEB-EDDC-424C-A81A-65D1D0C41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079C8-7BD7-4A41-8607-698907BFE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589AC9-ACB4-428C-924F-F4023EF50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8E7855-B33C-4A2A-BE67-11F31D7F3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569E72-1CF1-40DC-84BC-DC11F3E31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E00C52-1561-4BAF-88AE-5D908E4F4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2C51B1-318C-4049-80ED-30368C8AA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F1D0F2-2A94-4FBB-8BBF-E3F36ACA2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C6BD36-E70E-4B0C-8EB2-D1E409DA4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C064D8-D7C1-470C-A1DE-CD4532A02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BFB0C6-CE59-4E95-8E2F-A16C32771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AEFEE3-7078-4401-B9F1-6B756DCB1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3F801-729D-43DC-BFEA-B032CAB7B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D5A261-6892-490B-8F7F-B370046BB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998DC2-335E-4FDD-9521-1CBB40B36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C52225-AD11-4C97-BC90-0E36D2B5B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F0D84D-9388-4D15-93B3-77B5C174E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C3BE62-DB48-45AA-937A-048350359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1219A9-F75B-4C16-8FC4-C8DBFC60D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4A8DC1-D3A9-4B88-8E86-B581C4604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19DCAF-5CBF-4152-930A-BBB24D076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EDEFB9-35CB-4F2B-AFF5-F887E1E55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6B92B3-9091-4DE6-BA0E-8702EA24E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46ED3-0369-4C88-8B0F-3084AAD8F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D61487-F8BF-4C86-8ECE-B492B41A5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70A4D4-DFEE-4FC3-8FC2-BF8614A5D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B79DAD-4137-46CB-8A1D-1C7FB1721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A56FBB-7A79-4DA6-AAB0-A90B56CE0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857F6D-1945-49F0-BBC7-EBAFAF771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096658-E7DB-4CFF-963B-5554B7342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116B1F-8D26-4ECC-B402-3653F2E6F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88BDC0-7622-41BC-8DC4-BFCA096BD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CEDB05-CEEF-43AD-9A8B-5D7EFB3F7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E7A327-8B6F-4607-8220-08184DFB0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AD5BA-25A1-4999-8BE6-622CBF851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5A4E80-CE19-48B7-BD84-F8AB5855A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21938A-EC03-49B5-996F-8E71E43B0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955B62-3401-46AF-9846-373CF05AA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B6503C-83FB-4B43-8BB0-73F3D125A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EFAB2B-1E5C-4201-845C-F9266DCC5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56926A-DEDA-4F6B-81E8-1CBB1E3B4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7F2010-D807-4543-B66E-78CC9DF43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2185CB-86F9-4261-B804-ED97B33A0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8C99D9-2CB2-47C7-B7AA-5D553A5A4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77F9B3-FFC0-447E-9CA0-861A49884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629F1-00A7-4128-B549-2467965FDE87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12640" y="5346720"/>
            <a:ext cx="8631360" cy="11160"/>
            <a:chOff x="512640" y="5346720"/>
            <a:chExt cx="8631360" cy="111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34672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08CE6-12FF-4C41-AC22-34D870DD9558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2E0F3-9197-4C85-8EBF-BEA3AC72E79B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12640" y="3438360"/>
            <a:ext cx="8631360" cy="11160"/>
            <a:chOff x="512640" y="3438360"/>
            <a:chExt cx="8631360" cy="111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34383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8B1E6-B62B-4D45-B286-8E3886703AB7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12640" y="6016680"/>
            <a:ext cx="8631360" cy="12600"/>
            <a:chOff x="512640" y="6016680"/>
            <a:chExt cx="8631360" cy="1260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60166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90C56-C9E4-4D36-9452-87B02C28063C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8FA2D-FBE9-4EB5-A0A9-0EF79CA76A9B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12640" y="5846760"/>
            <a:ext cx="8631360" cy="11160"/>
            <a:chOff x="512640" y="5846760"/>
            <a:chExt cx="8631360" cy="1116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8467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67946-726C-42E9-B348-4A7AA9E3C69F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BDE72-8EDE-4CB3-A98D-B914326DB38D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7E068-703C-44E0-8156-C6FF9564D4F2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Заголовок 1" descr=""/>
          <p:cNvPicPr/>
          <p:nvPr/>
        </p:nvPicPr>
        <p:blipFill>
          <a:blip r:embed="rId1"/>
          <a:stretch/>
        </p:blipFill>
        <p:spPr>
          <a:xfrm>
            <a:off x="384120" y="450720"/>
            <a:ext cx="8435880" cy="232884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324000" y="2276640"/>
            <a:ext cx="858672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443329"/>
                </a:solidFill>
                <a:latin typeface="Franklin Gothic Book"/>
              </a:rPr>
              <a:t>6.1 Сущность, функции и особенности кредита. Виды кредитов. Денежно-кредитная политика государства </a:t>
            </a:r>
            <a:endParaRPr b="0" lang="en-US" sz="3300" spc="-1" strike="noStrike">
              <a:solidFill>
                <a:srgbClr val="4e3b30"/>
              </a:solidFill>
              <a:latin typeface="Franklin Gothic Book"/>
            </a:endParaRPr>
          </a:p>
          <a:p>
            <a:pPr algn="ctr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e3b30"/>
              </a:solidFill>
              <a:latin typeface="Franklin Gothic Book"/>
            </a:endParaRPr>
          </a:p>
          <a:p>
            <a:pPr algn="ctr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443329"/>
                </a:solidFill>
                <a:latin typeface="Franklin Gothic Book"/>
              </a:rPr>
              <a:t>Автор: Клюев С.В.</a:t>
            </a:r>
            <a:endParaRPr b="0" lang="en-US" sz="3300" spc="-1" strike="noStrike">
              <a:solidFill>
                <a:srgbClr val="4e3b30"/>
              </a:solidFill>
              <a:latin typeface="Franklin Gothic Book"/>
            </a:endParaRPr>
          </a:p>
          <a:p>
            <a:pPr algn="ctr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443329"/>
                </a:solidFill>
                <a:latin typeface="Franklin Gothic Book"/>
              </a:rPr>
              <a:t>Ярославль 2011</a:t>
            </a:r>
            <a:endParaRPr b="0" lang="en-US" sz="33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Заголовок 1" descr=""/>
          <p:cNvPicPr/>
          <p:nvPr/>
        </p:nvPicPr>
        <p:blipFill>
          <a:blip r:embed="rId1"/>
          <a:stretch/>
        </p:blipFill>
        <p:spPr>
          <a:xfrm>
            <a:off x="146160" y="23760"/>
            <a:ext cx="8845560" cy="136044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Проводится ЦБ РФ от лица государства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Денежно-кредитная политика - 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совокупность мер эконом. регулирования, денежного обращения и кредита путем воздействия на инвестиционную активность, на уровень и динамику инфляции и другие процессы макроэкономики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Заголовок 1" descr=""/>
          <p:cNvPicPr/>
          <p:nvPr/>
        </p:nvPicPr>
        <p:blipFill>
          <a:blip r:embed="rId1"/>
          <a:stretch/>
        </p:blipFill>
        <p:spPr>
          <a:xfrm>
            <a:off x="146160" y="268200"/>
            <a:ext cx="8845560" cy="103032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 txBox="1"/>
          <p:nvPr/>
        </p:nvSpPr>
        <p:spPr>
          <a:xfrm>
            <a:off x="304920" y="1196640"/>
            <a:ext cx="86868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e3b30"/>
                </a:solidFill>
                <a:latin typeface="Franklin Gothic Book"/>
              </a:rPr>
              <a:t>1. </a:t>
            </a: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процентные ставки по операциям ЦБ (Банк России может устанавливать одну или несколько ставок по операциям, может проводить политику без фиксации ставок)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e3b30"/>
                </a:solidFill>
                <a:latin typeface="Franklin Gothic Book"/>
              </a:rPr>
              <a:t>2. </a:t>
            </a: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Нормативы обязательных резервов, депонируемых в Банке России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(размер обязательных резервов устанавливается советом директоров. Нормативы  ≤ 20% и не могут быть одновременно изменены более, чем на 5 пунктов)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e3b30"/>
                </a:solidFill>
                <a:latin typeface="Franklin Gothic Book"/>
              </a:rPr>
              <a:t>3. </a:t>
            </a: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Операции на открытом рынке (купля-продажа Банком России за свой счет ц/б у КБ следовательно увеличение или уменьшение свободных денежных средств у КБ. Лимит операций утверждается советом директоров)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e3b30"/>
                </a:solidFill>
                <a:latin typeface="Franklin Gothic Book"/>
              </a:rPr>
              <a:t>4. </a:t>
            </a: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Рефинансирование банков (кредитование ЦБ коммерческих банков, в том числе учет/переучет векселей. Нижняя граница кредитов -12%)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e3b30"/>
                </a:solidFill>
                <a:latin typeface="Franklin Gothic Book"/>
              </a:rPr>
              <a:t>5. </a:t>
            </a: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Валютное регулирование (валютное регулирование - купля-продажа Банком России иностранной валюты с целью воздействия на курс рубля, т.е. валютной интервенцией)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e3b30"/>
                </a:solidFill>
                <a:latin typeface="Franklin Gothic Book"/>
              </a:rPr>
              <a:t>6. </a:t>
            </a: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Установление ориентиров роста Д. массы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e3b30"/>
                </a:solidFill>
                <a:latin typeface="Franklin Gothic Book"/>
              </a:rPr>
              <a:t>7. </a:t>
            </a: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Прямые количественные ограничения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(ограничение объемов предоставляемых кредитов и т.д.)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e3b30"/>
                </a:solidFill>
                <a:latin typeface="Franklin Gothic Book"/>
              </a:rPr>
              <a:t>8. </a:t>
            </a: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Выпуск облигаций от своего имени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Заголовок 2" descr=""/>
          <p:cNvPicPr/>
          <p:nvPr/>
        </p:nvPicPr>
        <p:blipFill>
          <a:blip r:embed="rId1"/>
          <a:stretch/>
        </p:blipFill>
        <p:spPr>
          <a:xfrm>
            <a:off x="182520" y="2852640"/>
            <a:ext cx="8875800" cy="12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Заголовок 1" descr=""/>
          <p:cNvPicPr/>
          <p:nvPr/>
        </p:nvPicPr>
        <p:blipFill>
          <a:blip r:embed="rId1"/>
          <a:stretch/>
        </p:blipFill>
        <p:spPr>
          <a:xfrm>
            <a:off x="109440" y="457200"/>
            <a:ext cx="8882280" cy="1000080"/>
          </a:xfrm>
          <a:prstGeom prst="rect">
            <a:avLst/>
          </a:prstGeom>
          <a:ln w="0">
            <a:noFill/>
          </a:ln>
        </p:spPr>
      </p:pic>
      <p:sp>
        <p:nvSpPr>
          <p:cNvPr id="402" name="Прямоугольник 2"/>
          <p:cNvSpPr/>
          <p:nvPr/>
        </p:nvSpPr>
        <p:spPr>
          <a:xfrm>
            <a:off x="539640" y="1628640"/>
            <a:ext cx="8136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эконом. отношения между кредиторами и заемщиками, которые заключаются в передаче ссуженной стоимости для использования на условиях возвратности, срочности, платности и в интересах общественных потребностей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Кредит возникает из-за несоответствия потребностей в деньгах и их наличии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Заголовок 1" descr=""/>
          <p:cNvPicPr/>
          <p:nvPr/>
        </p:nvPicPr>
        <p:blipFill>
          <a:blip r:embed="rId1"/>
          <a:stretch/>
        </p:blipFill>
        <p:spPr>
          <a:xfrm>
            <a:off x="92160" y="457200"/>
            <a:ext cx="8899560" cy="117000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01680" indent="-301680">
              <a:spcBef>
                <a:spcPts val="10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e3b30"/>
                </a:solidFill>
                <a:latin typeface="Franklin Gothic Book"/>
              </a:rPr>
              <a:t>1. Кредиторы и заемщики должны быть самостоятельными субъектами, которые гарантируют выполнение обязательств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  <a:p>
            <a:pPr marL="301680" indent="-301680">
              <a:spcBef>
                <a:spcPts val="10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e3b30"/>
                </a:solidFill>
                <a:latin typeface="Franklin Gothic Book"/>
              </a:rPr>
              <a:t>2. Интересы кредиторов и заемщиков должны удовлетворяться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  <a:p>
            <a:pPr marL="301680" indent="-301680">
              <a:spcBef>
                <a:spcPts val="10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Заголовок 1" descr=""/>
          <p:cNvPicPr/>
          <p:nvPr/>
        </p:nvPicPr>
        <p:blipFill>
          <a:blip r:embed="rId1"/>
          <a:stretch/>
        </p:blipFill>
        <p:spPr>
          <a:xfrm>
            <a:off x="109440" y="457200"/>
            <a:ext cx="8882280" cy="100008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1. 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Перераспределительная (перераспределяется стоимость общественного продукта. Перераспределение временное, и оно охватывает только временно свободные денежные средства)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2. 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Замена действительных денег кредитными деньгами (в оборот входит ссуженная стоимость и выполняет работу, свойственную обычным деньгам)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Заголовок 1" descr=""/>
          <p:cNvPicPr/>
          <p:nvPr/>
        </p:nvPicPr>
        <p:blipFill>
          <a:blip r:embed="rId1"/>
          <a:stretch/>
        </p:blipFill>
        <p:spPr>
          <a:xfrm>
            <a:off x="109440" y="457200"/>
            <a:ext cx="8882280" cy="100008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 txBox="1"/>
          <p:nvPr/>
        </p:nvSpPr>
        <p:spPr>
          <a:xfrm>
            <a:off x="304920" y="1197000"/>
            <a:ext cx="86868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e3b30"/>
                </a:solidFill>
                <a:latin typeface="Franklin Gothic Book"/>
              </a:rPr>
              <a:t>1. </a:t>
            </a: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В зависимости от формы ссуженной ст-ти: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- товарная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- денежная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- смешанная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e3b30"/>
                </a:solidFill>
                <a:latin typeface="Franklin Gothic Book"/>
              </a:rPr>
              <a:t>2. </a:t>
            </a: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В зависимости от того, кто участник: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- банковский кредит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- коммерческий (Предприятие №1 → Предприятие №2)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- государственный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- международный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- гражданский (частный)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e3b30"/>
                </a:solidFill>
                <a:latin typeface="Franklin Gothic Book"/>
              </a:rPr>
              <a:t>3. </a:t>
            </a: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В зависимости от цели кредитования: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- производственная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- потребительская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e3b30"/>
                </a:solidFill>
                <a:latin typeface="Franklin Gothic Book"/>
              </a:rPr>
              <a:t>4. </a:t>
            </a: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Другие: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- прямая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- косвенная (с промежуточными звеньями)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- явная/скрытая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- новая/старая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- развитая/неразвитая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Заголовок 1" descr=""/>
          <p:cNvPicPr/>
          <p:nvPr/>
        </p:nvPicPr>
        <p:blipFill>
          <a:blip r:embed="rId1"/>
          <a:stretch/>
        </p:blipFill>
        <p:spPr>
          <a:xfrm>
            <a:off x="109440" y="457200"/>
            <a:ext cx="8882280" cy="10000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1. 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По отрасли: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- торговый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- промышленный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- с/х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2. 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По срочности: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- краткосрочный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- среднесрочный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- долгосрочный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Заголовок 1" descr=""/>
          <p:cNvPicPr/>
          <p:nvPr/>
        </p:nvPicPr>
        <p:blipFill>
          <a:blip r:embed="rId1"/>
          <a:stretch/>
        </p:blipFill>
        <p:spPr>
          <a:xfrm>
            <a:off x="109440" y="457200"/>
            <a:ext cx="8882280" cy="1000080"/>
          </a:xfrm>
          <a:prstGeom prst="rect">
            <a:avLst/>
          </a:prstGeom>
          <a:ln w="0">
            <a:noFill/>
          </a:ln>
        </p:spPr>
      </p:pic>
      <p:sp>
        <p:nvSpPr>
          <p:cNvPr id="412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1) возвратность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2) срочность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3) платность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4) обеспеченность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5) целевой характер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Заголовок 1" descr=""/>
          <p:cNvPicPr/>
          <p:nvPr/>
        </p:nvPicPr>
        <p:blipFill>
          <a:blip r:embed="rId1"/>
          <a:stretch/>
        </p:blipFill>
        <p:spPr>
          <a:xfrm>
            <a:off x="146160" y="23760"/>
            <a:ext cx="8845560" cy="1360440"/>
          </a:xfrm>
          <a:prstGeom prst="rect">
            <a:avLst/>
          </a:prstGeom>
          <a:ln w="0">
            <a:noFill/>
          </a:ln>
        </p:spPr>
      </p:pic>
      <p:sp>
        <p:nvSpPr>
          <p:cNvPr id="414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ставка рефинансирования ЦБ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средняя ставка по межбанковским кредитам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спрос на кредит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степень риска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уровень инфляции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срок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другие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Заголовок 1" descr=""/>
          <p:cNvPicPr/>
          <p:nvPr/>
        </p:nvPicPr>
        <p:blipFill>
          <a:blip r:embed="rId1"/>
          <a:stretch/>
        </p:blipFill>
        <p:spPr>
          <a:xfrm>
            <a:off x="146160" y="-219240"/>
            <a:ext cx="8845560" cy="184644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1. 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Обеспеченная непрерывность производства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2. 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Использование на расширение производства (Необоснованные кредиты - негативное влияние)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Влияние кредита на денежную сферу: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поступление и изъятие денег - через банки на кредитной основе (денежная масса увеличивается или уменьшается)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2T17:57:21Z</dcterms:created>
  <dc:creator>Александр</dc:creator>
  <dc:description/>
  <dc:language>en-US</dc:language>
  <cp:lastModifiedBy>Александр</cp:lastModifiedBy>
  <dcterms:modified xsi:type="dcterms:W3CDTF">2011-03-24T12:07:17Z</dcterms:modified>
  <cp:revision>24</cp:revision>
  <dc:subject/>
  <dc:title>Бюджетная система Российской Федерации </dc:title>
</cp:coreProperties>
</file>