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66E6-8A5E-44E1-B16D-43C77711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EB89-9972-47AE-BE42-389E0D1A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FCF9C-B1BF-4431-925D-D52E0098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AFE4C-EA2C-4705-BA35-5F37DE53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B288-53EE-4DB1-B1A8-5B39098C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F34F-9418-4E8D-B57F-7EA83755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73DA-15AD-4EFB-9A74-555E1B5F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4A6B-5222-4E52-8708-36A57C83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D2CA-8FEF-45AD-AFEB-7D73155B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0AD2-3E62-43CE-88EB-EFB3C3D1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5B67-94D6-480D-8548-114234F0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C3B35-BC86-4BCC-B324-543A8B65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6F70-B760-472F-A1F9-1EFFE489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F5B0-F738-42CA-B138-0D4D5551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F84E-D5A5-49AF-8F72-B1570F24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7379-63A9-45BA-A28A-DA12F26C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EACE-5D00-46E1-9B70-26FBE08C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A0E7-943B-4DE2-ADF4-752B87F0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94A40-0691-4981-BA05-DAD31942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3FAF8-53BE-4F95-B782-9972E1A1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D6E7-2501-43DD-ACAE-C3BFDC82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9FAE-BAC6-414B-BF15-6DF2EAFA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05644-80D1-4E66-911C-5CA127BD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9D5FA-9CC6-41A2-8948-9F5703D1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D0E4-C441-4169-A1D3-B7AB2CDB65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63A3-690C-4A0A-8A6F-5226540407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ФУНКЦИИ УПРАВЛЕНИЯ И ИХ ВЗАИМОСВЯЗЬ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866920" y="4266720"/>
            <a:ext cx="3124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енко Е.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урс «Основы менеджмент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гнозиров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это взгляд в будущее, оценка возможных путей развития, последствий тех или иных решений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ланиров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же - это разработка последовательности действий, позволяющей достигнуть желаемого. В работе менеджера они тесно связ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чему прогнозировать слож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огда прогноз основан на хорошо изученных закономерностях и осуществляется наверня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ако встающие перед менеджером проблемы прогнозирования обычно не позволяют дать однозначный обоснованный прогноз. Почему же остается неопределен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неопредел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ределенности, связанные с недостаточными знаниями о природе (например, нам неизвестен точный объем полезных ископаемых в конкретном месторождении, а потому мы не можем точно предсказать развитие добывающей промышленности и объем налоговых поступлений от ее предприяти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ределенности природных явлений, таких, как погода, влияющая на урожайность, на затраты на отопление, на туризм, на загрузку транспортных путей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ределенности, связанные с осуществлением действующих (неожиданные аварии) и проектируемых (возможные ошибки разработчиков или физическая невозможность осуществления процесса, которую заранее не удалось предсказать) технологических проц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неопредел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возможные неопределенности связаны с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ближайшим окружением фир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менеджер которой занимается прогнозирова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связанные с деятельностью участников экономической жизни (прежде всего партнеров и конкурентов нашей фирмы), в частности, с их деловой активностью, финансовым положением, соблюдением обязатель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связанные с социальными и административными факторами в конкретных регионах, в которых наша фирма имеет деловые интере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ое значение имеют и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еопределенности на уровне стра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в час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ь будущей рыночной ситуации в стране, в том числе отсутствие достоверной информации о будущих действиях поставщиков в связи с меняющимися предпочтениями потребител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связанные с колебаниями цен (динамикой инфляции), нормы процента, валютных курсов и других макроэкономических показател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порожденные нестабильностью законодательства и текущей экономической политики (т.е. с деятельностью руководства страны, министерств и ведомств), связанные с политической ситуацией, действиями партий, профсоюзов, экологических и других организаций в масштабе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 сценари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рименении метода сценариев необходимо осуществить два этапа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строение исчерпывающего, но обозримого набора сценари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огнозирование в рамках каждого конкретного сценария с целью получения ответов на интересующие менеджера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 сценарного под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, просыпаясь утром, ленивый и недобросовестный менеджер может рассмотреть несколько сценариев своего поведения (шутка !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йти на раб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статься дома без всяких объяс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статься дома, сославшись на болезн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звонить вышестоящему менеджеру и сообщить о том, что надо отправляться на переговоры, а самому остаться дома,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рогнозировать развитие событий в каждом из этих сценариев предоставляем 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Ю.Ор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хнология планирования хорошо разработана и постоянно используется. Исходя из миссии и основных принципов фирмы, отвечающих на вопрос "Зачем?", формулируютс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ратегические це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казывающие, что делать в целом. Затем они конкретизируются д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а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а те - д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нкретных зада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Далее подсчитываются необходимы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сур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материальные, финансовые, кадровые, временные - и при необходимости пересматриваются задания, задачи и цели. В результате получают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ально осуществимый пл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Очень важно, что необходимы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зерв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лучай непредвиденных обстоятель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емь этапов в процессе планирова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1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еполагани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формулировка целей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го именно вы (или ваша фирма) хотите достичь? Это - самый трудный этап. Его нельзя формализовать. Личность менеджера проявляется именно в том, какие цели он став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2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бор, анализ и оценка способов достижения поставленных целей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можно действовать разными способами. Какой из них представляется наилучшим? Какие можно сразу отбросить как нецелесообразн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3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перечня необходимых действ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конкретно нужно сделать, чтобы осуществить выбранный на предыдущем этапе вариант достижения поставленных цел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4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программы работ (плана мероприятий)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ом порядке лучше всего выполнять намеченные на предыдущем этапе действия, учитывая, что многие из них связаны между собо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емь этапов в процессе планирова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5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нализ ресурсо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материальные, финансовые, информационные, кадровые ресурсы понадобятся для реализации плана? Сколько времени уйдет на его выполнени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6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нализ разработанного варианта пла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ает ли разработанный план поставленные на этапе 1 задачи? Являются ли затраты ресурсов приемлемыми? Есть ли соображения по улучшению плана, возникшие в ходе его разработки при движении от этапа 2 к этапу 5? Возможно, целесообразно вернуться к этапу 2 или 3, или даже к этапу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7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готовка детального плана действ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еобходимо детализировать разработанный на предыдущих этапах план, выбрать согласованные между собой сроки выполнения отдельных работ, рассчитать необходимые ресурсы. Кто будет отвечать за отдельные участки рабо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8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троль за выполнением плана, внесение необходимых изменений в случае необходимост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оль как функцию менеджмента обсудим в одном из дальнейших разделов настоящей гла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здание организационных структур как функция менедж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у функцию менеджмента превосходно выразил великий полководец А.В.Суворов: "Каждый солдат должен знать свой маневр". Не надо удивляться, что мы цитируем генерала. Эффективность управления в армии выявляется самым жестким образом - в борьбе с врагом. Если офицер не сумел организовать своих подчиненных в согласованно действующую боевую единицу - он погибает вместе со своей командой. Для обычного менеджера ситуация лучше - в крайнем случае разорится его фир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им образом, каждый сотрудник фирмы должен знать, что ему надо делать в той или иной ситуации. Лишь в очень маленьких организациях менеджер может сам рассказать каждому об его обязанност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Основные функции управ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Управлять - значи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зировать и планировать, организовывать, руководить командой, координировать и контролировать"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ри Фай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Виды оргструк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Жест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о-штаб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о-функцион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визион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ап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но-цел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л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т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сорсинг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язующи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 коммуник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процесс обмена информацией между двумя и более людьми. Благодаря коммуникациям руководители (аппарат управления) получает информацию, необходимую для принятия решений, и доводит принятые решения до работников предприятия. Если коммуникации на предприятии налажены плохо, решения могут быть ошибоч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 принятия реш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выбор альтерна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выполнения функций управления менеджерам приходится принимать большое количество реш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ланировании: постановка целей, определение необходимых ресурсов, выбор способов достижения целей и задач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существлении функции организовывания: структура производства, структура управления, организация производственного процесса, вспомогательных служб и обслуживающего производства, организация труда рабочих и специалис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с мотивации включает установление и оценку неудовлетворенных потребностей, формирование целей удовлетворения потребностей, определение стимулирующих воздействий (ме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я контроля связана с принятием решений о том, что, когда и как контролировать, какие виды и формы контроля использовать, как анализировать полученную информацию, а также решения по осуществлению корректирующи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намизм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намизм функций выражается в необходимости их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дстройки на все возрастающие изменения во внешней сред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этого требуется освоение существующих методов и способов выполнения функций, использование нестандартных решений, творческого подхода к решению пробл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гласно кибернетическому принципу Эшби, который гласит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только разнообразие может уничтожить разнообраз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ожно утверждать, что только применение разнообразных методов функционирования системы может сделать ее поведение предсказуемым, т. е. можно утверждать, что для поддержания интереса, чувства удовлетворенности сотрудников процессом и результатом труда, которые являются основой мотивации, при применении методов воздействия на поведение сотрудников необходимы новизна (для того, на кого направлено воздействие) с элементами приятной неожиданности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Чем большим диапазоном инструментов управления владеет менеджер, чем выше его понимание среды, тем эффективность функционирования предприятия выш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ункциональная структура менеджмен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4360" y="2309760"/>
          <a:ext cx="748800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09760"/>
                    <a:ext cx="748800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функции у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981080"/>
            <a:ext cx="56880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функция менеджмента предполагает решение о том, какие должны быть ЦЕЛИ организации и ЧТО должны делать члены организации для достижения этих целей. По сути, это ответы на следующие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мы находимся в настоящее врем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уководители должны трезво оценивать сильные  и слабые стороны организации в таких областях как финансы, маркетинг, производство, научные исследования и разработки, трудовые 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да мы хотим двигать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уководители при выборе направлений развития организации должны оценивать возможности и угрозы в окружающей среде (конкуренция, клиенты, законодательство, политика, экономика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мы собираемся это сдела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уководители должны решить как в целом, так и в частностях, что делать для достижения поставленных ц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труктуризация внутренних элементов организации с целью выполнения планов и достижения целей.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          Создание структуры управления организацией (подбор исполнителей, делегирование заданий, наделение их полномочиями в использовании ресурс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          Организация совместного выполнения установленных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оздание в среде исполнителей внутренних побуждений к действиям, направленным на эффективное достижение целей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тро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процесс обеспечения того, что организация действительно достигает своих целей. Существуют три аспекта управленческого контроля. Первое – это установление стандартов – точное определение целей, которые должны быть достигнуты в установленный отрезок времени. Второе – это измерение того, что было действительно достигнуто в установленном отрезке времени и сравнение с ожидаемыми результатами. Третье – это принятие решений для корректировки свои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язующи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ятие реш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мун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2879640" cy="266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2664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11:09:59Z</dcterms:created>
  <dc:creator>Елена</dc:creator>
  <dc:description/>
  <dc:language>en-US</dc:language>
  <cp:lastModifiedBy>Елена</cp:lastModifiedBy>
  <dcterms:modified xsi:type="dcterms:W3CDTF">2008-06-30T12:24:11Z</dcterms:modified>
  <cp:revision>3</cp:revision>
  <dc:subject/>
  <dc:title>ФУНКЦИИ УПРАВЛЕНИЯ И ИХ ВЗАИМОСВЯЗЬ</dc:title>
</cp:coreProperties>
</file>